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D9E-F282-4094-B317-14B5FEDC6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92A-3723-4758-838C-3478E6DB74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09A-2553-4541-98FC-EFFF705EE9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437-5DAD-4825-95B0-6265B2F4B9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798B-022D-41BA-A9C9-4CDF587F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229A-57F6-4D57-949C-F81559F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F13E-1CF0-4AAE-B8C6-A32FDC84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3C81-8881-4266-B3D0-5EBEADAF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7B2-FAA6-4344-B068-0863645A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C92-DD4E-4F4B-87AB-74B5F764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F892-FBD9-4672-AA99-D9AC49C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E581-233E-4759-BD50-78837DF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E578-1018-400B-BCE5-B2002AD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F6A9-A8C4-4BCC-9EDD-BE7FC486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6E0F-1179-452D-B310-2B9FF88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9FC0-7E2B-4F17-AF43-9989AF5F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44BE-7FA2-4D69-BC5A-F0392F05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DBD8-777D-497E-9BEA-6F8F88B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636C-1B91-42C4-8BE8-31BAA646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FDB2-F4AC-4C91-A861-249C8CFD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EB33-37FF-402D-B7A4-3D116C73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1347-AF18-4259-8339-1EAB5D2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7AD0-80C4-4F43-97AD-0011C86A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10DE-78D7-47DA-A8B8-CDAF950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44E6-AB0F-45DE-94D8-FE32EDF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007E-5E1E-42D8-8293-FF9E6F5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5AE6-F1AA-4D25-A97C-7770B1C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8B1A-F85F-45BE-8772-2638029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BDF-C07C-45BE-8A7A-C6DF94DF26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6629-F6E3-46FF-BE34-C4A5D31924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7413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AIFMD – Level II Measur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oporučení ESMA a návrh Evropské komise ohledně depozitář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Bratislava, 26. dubna 2012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Depozitáře (článek 21 AIFMD)</a:t>
            </a: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ymezení finančních nástrojů, které by měly být v opatrování (custody) a úschově (safe-keeping) podle AIFMD a podle návrhu ESMA a EK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hybí vymezení „financial instrument accounts“ (vlastnické účty vedené pro AIF podle AIFMD, nikoliv podle ESMA); co je vlastně „custody“ a „sub-custody“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Nejasný právní režim kolaterálů, zejména z hlediska odpovědnosti za ztrátu, možné změny charakteru aktiv (cenné papíry-kolaterál-konverze závazků-závěrečné vyrovnání v peněžních prostředcích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udou depozitáře fungovat jako „garanční fond“ při centrálním clearingu kvůli excesivní odpovědnosti? (otázka právního režimu margins –plná segregace versus omnibus účty a sdílení ztráty „pro rata“ mezi klienty, právo CCP nakládat s kolaterálem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vidla úschovy „safe-keeping“ pro derivátové kontrakty – nereflektují nařízení EMIR (např. proč duplicita činnosti trade repositories?)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8:14Z</dcterms:modified>
  <cp:revision>20</cp:revision>
  <dc:subject/>
  <dc:title>Snímek 1</dc:title>
</cp:coreProperties>
</file>