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A8592121-926E-4FB4-9B29-FFD0D1D49B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9E98134D-5152-4F86-92DD-4624EC338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9F40299C-89C8-455A-970F-724EE82CB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E24BF74A-7E88-463E-A49D-13375DED3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774659BF-E87A-4C15-A604-EB952844B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61F1C63D-28FD-4DFB-B6C7-7321B4903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6E2A5B1C-43ED-4DAB-A481-4BB4428FF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9F2-DBB1-4163-8E4E-72927032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2A7-9806-4669-A14B-910A95B9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2BE-F596-4975-AF7F-9E2A83B5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C7D-0E49-485F-B679-0ED87604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D48-7CF0-4948-B867-C8D02774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810-3530-4FC9-A285-0CEF48BF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3B5-4E08-4891-A416-F890ED52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DDC-CEB3-474A-8328-F54C5192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652-A9EC-4382-9CC7-353C54BD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F3E-2B94-4542-BE04-2C4D25EA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8B1-14A2-41B7-891D-2DC1FDE1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37E-1175-4B1F-9B04-8B14BDA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DA8D-BF62-4E42-BE8D-12A14166D2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AKAT_česky_pozadí-losos"/>
          <p:cNvPicPr/>
          <p:nvPr/>
        </p:nvPicPr>
        <p:blipFill>
          <a:blip r:embed="rId2"/>
          <a:stretch/>
        </p:blipFill>
        <p:spPr>
          <a:xfrm>
            <a:off x="7451640" y="6093000"/>
            <a:ext cx="1548000" cy="60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katcr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4"/>
          <p:cNvSpPr/>
          <p:nvPr/>
        </p:nvSpPr>
        <p:spPr>
          <a:xfrm>
            <a:off x="755640" y="371628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49373"/>
                </a:solidFill>
                <a:latin typeface="Arial"/>
              </a:rPr>
              <a:t>Konference Next Steps in Asse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49373"/>
                </a:solidFill>
                <a:latin typeface="Arial"/>
              </a:rPr>
              <a:t>26. dubna 2012, Bratisl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949373"/>
                </a:solidFill>
                <a:latin typeface="Arial"/>
              </a:rPr>
              <a:t>Nové produktové možnosti –budoucnost Č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49373"/>
                </a:solidFill>
                <a:latin typeface="Arial"/>
              </a:rPr>
              <a:t>Josef Beneš, Předseda AKAT Č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6" descr="AKAT_česky_pozadí-losos"/>
          <p:cNvPicPr/>
          <p:nvPr/>
        </p:nvPicPr>
        <p:blipFill>
          <a:blip r:embed="rId1"/>
          <a:stretch/>
        </p:blipFill>
        <p:spPr>
          <a:xfrm>
            <a:off x="2484360" y="2060640"/>
            <a:ext cx="46418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Kdo bude těžit z AIFM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Lucembur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Ir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Švýcar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Snaha soustředit se na služby s vyšší přidanou hodnotou jako </a:t>
            </a:r>
            <a:r>
              <a:rPr b="0" lang="en-GB" sz="2200" spc="-1" strike="noStrike">
                <a:solidFill>
                  <a:srgbClr val="990033"/>
                </a:solidFill>
                <a:latin typeface="Arial"/>
              </a:rPr>
              <a:t>risk management a</a:t>
            </a: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990033"/>
                </a:solidFill>
                <a:latin typeface="Arial"/>
              </a:rPr>
              <a:t>corporate governance</a:t>
            </a: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Ma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Člen eurozó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Co očekávají manažeři alternativní fondů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Značné zkušenosti a expertízu v administrování různých typů fondů – mezinárodně uznávaná jurisdi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Široký výběr mezi administ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Rozsáhlá mezinárodní distribuce fon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Vhodný daňový režim (fondy i administrátoř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Vstřícný regulátor a stabilní legislati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Efektivní listování investičních fondů na bur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Vhodná poloha, angličtina a jednotná mě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Náklady AIF (Hedge fondů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Obhospodařovatelský poplatek – kolem 200b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le HedgeFundsReview poplatek za správu závisí na fondu – typ, velikost, strategie: </a:t>
            </a:r>
            <a:r>
              <a:rPr b="0" lang="en-GB" sz="2600" spc="-1" strike="noStrike">
                <a:solidFill>
                  <a:srgbClr val="990033"/>
                </a:solidFill>
                <a:latin typeface="Arial"/>
              </a:rPr>
              <a:t>8bp </a:t>
            </a: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990033"/>
                </a:solidFill>
                <a:latin typeface="Arial"/>
              </a:rPr>
              <a:t> 20bp</a:t>
            </a: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ojde ke zvýšení těchto nákladů v důsledku AIFMD – regulatorní náklady,  větší nutnost automatizace, případně na vytvoření paralelní struktury v EU, nebo klonu, nebo feed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U hedge fondů: soustředění na kvalitu poskytovaných služ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Děkuji za pozornost</a:t>
            </a: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Asociace pro kapitálový trh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Štěpánská 16/6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110 00 Prah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Tel.: +420 224 919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Fax: +420 224 919 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www.akatcr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cc"/>
                </a:solidFill>
                <a:latin typeface="Arial"/>
              </a:rPr>
              <a:t>Nové produktové možnost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Trh v ČR po přijetí nového zákona upravujícího kolektivní invest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Trh v EU a očekávaný vývoj po implementaci AIF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cc"/>
                </a:solidFill>
                <a:latin typeface="Arial"/>
              </a:rPr>
              <a:t>Historický vývoj </a:t>
            </a: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aktiv ve správě</a:t>
            </a:r>
            <a:r>
              <a:rPr b="0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cc"/>
                </a:solidFill>
                <a:latin typeface="Arial"/>
              </a:rPr>
              <a:t>(v ml</a:t>
            </a: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sz="2400" spc="-1" strike="noStrike">
                <a:solidFill>
                  <a:srgbClr val="ffffcc"/>
                </a:solidFill>
                <a:latin typeface="Arial"/>
              </a:rPr>
              <a:t>. CZK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" name="Chart 1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Historický vývoj majetku v podílových fondech v Č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Fondy kvalifikovaných investorů - vývoj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682560" y="1974960"/>
            <a:ext cx="77788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Trendy roku 2011 v oblasti investová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Rostoucí zájem o individuální správu aktiv (fondy kvalifikovaných investorů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Vytváření fondových struktur pro menší počet invest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Zájem investorů podílet se na řízení fond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Konsolidace odvětv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Transformace těchto principů do nového zá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Příprava nového Záko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Implementace směrnice AIFM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Nové produktové možnosti v právní úpravě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Investiční fond jako varianta akciové společnosti, která obdobně jako podílový fond průběžně vydává a </a:t>
            </a:r>
            <a:r>
              <a:rPr b="0" lang="pl-PL" sz="2200" spc="-1" strike="noStrike">
                <a:solidFill>
                  <a:srgbClr val="990033"/>
                </a:solidFill>
                <a:latin typeface="Arial"/>
              </a:rPr>
              <a:t>odkupuje akcie, které odkupem zanikají </a:t>
            </a: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včetně možnosti podfondů (SICA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Oddělení funkce obhospodařování a administrace fon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Probíhající diskuze nad nastavením nového zá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Historický vývoj majetku ve fondech členů EFAM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5" name="Zástupný symbol pro obsah 3" descr=""/>
          <p:cNvPicPr/>
          <p:nvPr/>
        </p:nvPicPr>
        <p:blipFill>
          <a:blip r:embed="rId1"/>
          <a:stretch/>
        </p:blipFill>
        <p:spPr>
          <a:xfrm>
            <a:off x="1203480" y="1981080"/>
            <a:ext cx="673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Dopady AIFMD na off-shore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opad na správc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Dle AIFMD všichni správci AIFs (non-UCITS), kteří chtějí tyto fondy v EU nabízet nebo spravovat, musejí být registrováni v EU a splňovat pravidla AIF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opady na off-shore fond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Ztratí některé z výhody off-shore destinací (levnější compli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Nejsou jasná pravidla pro referenční stát, nastane regulatorní arbitráž, případně klonování fon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07:46:14Z</dcterms:created>
  <dc:creator>pzaplet</dc:creator>
  <dc:description/>
  <dc:language>en-US</dc:language>
  <cp:lastModifiedBy>Jana Michalíková - AKAT</cp:lastModifiedBy>
  <cp:lastPrinted>2012-03-06T14:15:32Z</cp:lastPrinted>
  <dcterms:modified xsi:type="dcterms:W3CDTF">2012-04-25T06:40:23Z</dcterms:modified>
  <cp:revision>189</cp:revision>
  <dc:subject/>
  <dc:title>Prezentace aplikace PowerPoint</dc:title>
</cp:coreProperties>
</file>