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C4B-2A01-4969-B50E-4807C7E3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A0A-D4FD-437B-A233-625387CB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BB0-1604-48B6-9B65-4256E9CC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889-ED34-4026-BA68-F6CCAB36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4110-C331-44FA-92C1-04C30B01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B9BF-E221-4B1F-B637-646FDCB0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8014-F512-4B8E-81B8-5CE87027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7AFA-1BE5-426F-AF52-AA2D57B3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9B5E-9617-4558-B9D7-C295B371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560F-C41F-4408-9497-A243B40F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048A-7588-45D1-B9A2-2FB9F6B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A7A-D20C-4880-9824-078EEB2F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77D4-C400-4049-942E-6B8560E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DA5-0AF3-4E96-A6AF-CE1D20C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7237-FD5F-42DD-9484-D540F048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97D-F15B-4460-BAD7-B33D93C8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A63F-B5AC-45BE-B9E4-BAA117AC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A74-74DC-4528-989C-D21DD65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2BF-542A-4989-AA5D-32E525F9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0D7-7ACC-420E-81AE-C401619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F8E-DAA2-48A2-86BB-029CBF02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4E8-30E7-4216-A4FB-CEBBF1A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B95-7E27-42F8-979B-EAC3558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14E-D1BD-4F84-BFF8-F6949CC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D453-6106-4AB8-973D-52312EE92764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AA9-3CA6-483C-87BC-0FE593391FE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Nové produktové možnosti ve světle návrhu nové zákonné úprav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n Šovar, MF 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xt Steps in Asset Management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atislava, 26.4.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hrada prezent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sah zobrazený v této prezentaci, jakož i ústní projev ji doprovázejí, odráží individuální názory, hodnocení a přístup přednášejícího, jež se nemusí shodovat se stávajícími či potenciálními názory, hodnoceními nebo přístupem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Osno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kodifikace soukromého prá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řejnost vs. neveřejnost investičních fondů (kritérium shromažďování, přípustní investoř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ní formy neveřejných investič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dávání akcií a podílových listů se zvláštními právy a vznik různých druhů podíl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místění sídla a změna právního statu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alší otáz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ijetí podílových listů a akcií vydávaných investičními fondy na tr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činky samosprávnosti investičního fon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apital ca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Děkuji za poz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55:35Z</dcterms:created>
  <dc:creator>12885</dc:creator>
  <dc:description/>
  <dc:language>en-US</dc:language>
  <cp:lastModifiedBy>Jana Michalíková - AKAT</cp:lastModifiedBy>
  <dcterms:modified xsi:type="dcterms:W3CDTF">2012-04-24T12:57:04Z</dcterms:modified>
  <cp:revision>6</cp:revision>
  <dc:subject/>
  <dc:title>AIMFD – implementace v České republice</dc:title>
</cp:coreProperties>
</file>