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BF62-0CC9-4048-BBE5-C44D58883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979B-0A44-4D69-B6B0-871D64C03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4FCA-B79C-4797-A70B-886B38BC2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8B01-39C0-4EBB-8DC5-3203CAA74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F9F53-3CF4-426E-AE8D-2DDF4A83C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DA180-C82E-4EC6-8C3D-E6B8B297F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87BFC-F466-407D-A908-DC7C6CCB7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21BC3-6EE2-4B03-972E-B67E6B5BF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FA2B4-26ED-4693-B19B-48427BCD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587FF-3384-44E0-9142-0C4B96343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35B91-41D2-4021-856A-CCF1BA7A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6B55-C581-4EE4-A4EE-3A27308CF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936E3-1BC4-49A3-B0D9-7AA9F0F7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2CE2B-E7C4-4A75-A47C-500784AF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72AD2-ABC6-415A-BC00-DA1F3D24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9ECE0-9DE1-4697-9C1A-550B88D82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B6FD1-A10C-43F3-A591-81991ED19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26EF-86AA-4CCE-A906-BA2AB90FA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A275-5690-4FAB-BC02-57C8BF692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8D48-A719-4206-A1B1-336CCA3E8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0BE6-17EC-41C3-A142-97735FA55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6525-55A8-4A87-9860-5D181459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F252-E70B-43B5-BCCC-6AC9EEF1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2CB3-7ABC-4766-AEF9-379C8ED3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97471-14A6-4554-ABF1-8D5394660D1A}" type="slidenum">
              <a:rPr b="0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2B43-68AB-470D-B22E-2DE592489E4A}" type="slidenum">
              <a:rPr b="0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aeaea"/>
                </a:solidFill>
                <a:latin typeface="Tahoma"/>
              </a:rPr>
              <a:t>AIMFD – implementace v České republi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789000"/>
            <a:ext cx="6400800" cy="184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Jan Šovar, MF Č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ext Steps in Asset Management“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Bratislava, 26.4.201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aeaea"/>
                </a:solidFill>
                <a:latin typeface="Tahoma"/>
              </a:rPr>
              <a:t>Výhrada prezenta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Obsah zobrazený v této prezentaci, jakož i ústní projev ji doprovázejí, odráží individuální názory, hodnocení a přístup přednášejícího, jež se nemusí shodovat se stávajícími či potenciálními názory, hodnoceními nebo přístupem Ministerstva financí ani nepředstavují jeho oficiální pozic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aeaea"/>
                </a:solidFill>
                <a:latin typeface="Tahoma"/>
              </a:rPr>
              <a:t>Osnov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Časový harmonogr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AIFMD a související předpisy EU (prováděcí nařízení, EuVeCaF, EuSEF, UCITS V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jetí transpozice v Č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latforma nového záko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ůsobnost: AIFM a AI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ozitivní a negativní rozsah dohled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76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aeaea"/>
                </a:solidFill>
                <a:latin typeface="Tahoma"/>
              </a:rPr>
              <a:t>Děkuji za pozornos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3T12:55:35Z</dcterms:created>
  <dc:creator>12885</dc:creator>
  <dc:description/>
  <dc:language>en-US</dc:language>
  <cp:lastModifiedBy>Jana Michalíková - AKAT</cp:lastModifiedBy>
  <dcterms:modified xsi:type="dcterms:W3CDTF">2012-04-24T12:55:50Z</dcterms:modified>
  <cp:revision>5</cp:revision>
  <dc:subject/>
  <dc:title>AIMFD – implementace v České republice</dc:title>
</cp:coreProperties>
</file>