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18C-59F1-4918-AC02-BF05868D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8BB-5979-4FED-B974-395726D32B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prečo prichádza rekodifikácia, rekodifikačný proces, pripomienkovanie cez asociáciu, vyjednávanie s N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A697-6103-4A61-A7BA-A50190CA43B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E18-3FCB-4118-A49C-6BD60FE9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9B9-D5F6-408A-A5EE-CC2BFDC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639-4ED4-4586-8A09-82A08806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67D-559E-4B22-8851-3577D84A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C3F-561B-452F-85D2-2790C0CF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679-A2E3-4B2B-8334-ACBC027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F26-B1A2-4C3D-89AB-F12EC367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6C2-B044-42A5-A63A-2B0BBE9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529-0017-4F9C-9395-E249CE6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18E-82AB-4D96-A17F-F415CA0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11A-2D43-40A5-93E3-384A13D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DE5-B595-483C-B341-67EB5E6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770-814E-4D15-B220-3EBF328A05F9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Nové produktové možnosti – 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účasný stav v SR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eter Žilin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26.04.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na trh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64C-0C1B-48B5-9D07-60E27DA3ECD9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219320" y="220968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Zmeny medzi peňažnými fonda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štruktú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4267080"/>
          <a:ext cx="6781680" cy="1782720"/>
        </p:xfrm>
        <a:graphic>
          <a:graphicData uri="http://schemas.openxmlformats.org/drawingml/2006/table">
            <a:tbl>
              <a:tblPr/>
              <a:tblGrid>
                <a:gridCol w="2979720"/>
                <a:gridCol w="3801960"/>
              </a:tblGrid>
              <a:tr h="769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 správcovi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vých non-UCITS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alternatívnych investíci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ŠPF profesionálnych investo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66"/>
          <p:cNvSpPr/>
          <p:nvPr/>
        </p:nvSpPr>
        <p:spPr>
          <a:xfrm>
            <a:off x="1219320" y="1752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Renesancia non UCITS fondov na Slovens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licencie len pre non 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užitie nových pravidiel a povolených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K 31.3.2012 – 346 mil. eur, 9% podiel na tr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y medzi likviditnými fondami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3962520"/>
          <a:ext cx="5562360" cy="2149200"/>
        </p:xfrm>
        <a:graphic>
          <a:graphicData uri="http://schemas.openxmlformats.org/drawingml/2006/table">
            <a:tbl>
              <a:tblPr/>
              <a:tblGrid>
                <a:gridCol w="1960560"/>
                <a:gridCol w="3601800"/>
              </a:tblGrid>
              <a:tr h="75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 krátkodobého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ov krátkodobých investícií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1219320" y="17524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Upratanie v kategóriách peňaž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á kategóra fondov krátkodobých investíci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iacero kategórií likvidit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štruktú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3048120"/>
          <a:ext cx="6096240" cy="3151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zavret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Emisie podielových list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Master/Feeder štruktú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Strešn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1219320" y="17524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ispôsobenie sa UCITS4 stále prebie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ermín na prispôsobenie 30.6.20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podľa UCITS4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Nové produkty pre slovenský trh - Non UCITS legislatív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Fondy peňažného trhu a krátkodobého peňažného tr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trešné fondy/pod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/zberné fondy (Master-feeder štruktúry)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hrnutie a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09480" y="1676520"/>
            <a:ext cx="807732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oteraz najviac využívané produktové novinky sú 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enciál využitia do budúcna aj p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misie podielových list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aster/feeder štruktú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zavret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rebné legislatívne úpravy pri strešných fondo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Peter Žilin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peter_zilin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Peter Žilinek</dc:creator>
  <dc:description/>
  <dc:language>en-US</dc:language>
  <cp:lastModifiedBy>Jana Michalíková - AKAT</cp:lastModifiedBy>
  <dcterms:modified xsi:type="dcterms:W3CDTF">2012-04-24T13:29:26Z</dcterms:modified>
  <cp:revision>93</cp:revision>
  <dc:subject/>
  <dc:title>Slide 1</dc:title>
</cp:coreProperties>
</file>