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FBF-FF7E-4FB3-A4E3-FE30743F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50D-2BE1-46BE-8931-0571DC01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0FA-79E9-4BCE-8B01-8066473A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C94-9529-4422-A88A-B899689A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3380-8D52-4061-85B6-EC5AD73B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3AAF-9141-4C65-9D41-3F50B584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CC10-A8BA-44FA-BFBC-8C58176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9B1E-43A3-4673-8DF1-5BAD46FB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7FB3-C9B7-4CAA-893B-AC16AC55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9900-5425-47A5-9581-99471374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B6E8-93D8-4253-8884-267D5DA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C18-8D91-4D09-80DE-5BFE028B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344C-1348-45E4-95F3-5FF7F386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8FDE-D8DB-49B0-B88B-964996B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91F3-0350-4EAA-9492-2652DD71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BE9-FB44-4908-A0FB-368B66DA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FE80-A7F4-4995-BECF-080A00E2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467-B514-4BAA-B193-582F0CA2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6FC-3C09-449E-841A-0F50484E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758-5ADB-41DB-8B70-F98B4D79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CB2-0161-4771-9FA1-400F39F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133-9785-48EE-B7C5-9972DA3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F68-D347-4FC1-AD61-A1FCC63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55C-E636-45D1-BB76-0758F7B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C50-D88B-485A-A774-C7831D41D2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A492-2E5A-4C96-BDFA-552686D2A25D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ddddd"/>
                </a:solidFill>
                <a:latin typeface="Tahoma"/>
              </a:rPr>
              <a:t>AIFMD</a:t>
            </a:r>
            <a:br>
              <a:rPr sz="48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LOVENSKÝ POHĽAD NA NOVÚ SMERNICU EÚ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Next Steps In Asset Management, 26. apríl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 a finančných analý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UCITS vs.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484280"/>
          <a:ext cx="8229600" cy="5018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ITS 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F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álové požiadav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vlastné zdroje a dodatočné k rozsahu celkových A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Dodatočné vlastné zdroje na krytie rizík vyplývajúcich z profesionálnej zodpoved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čné podmienky a pravidlá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kmer zhodn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eňova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zodpovednosti správcu / externého oceňovateľ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legovanie (outsourc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princí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aceré dodatočné podmie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meňovanie (remu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* očakáva sa doplnenie v UCITS 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ulácia odmeňovania ekvivalentná bankám a o.c.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pozitá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tandardná úp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* očakáva sa rozšírenie a zosúladenie v UCITS 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zšírenie o objektívnu zodpovednosť a detailnejšia právna úp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arentnos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KIID, prospektu a ročných a polročných správ – zameranie na ret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ročnej správy a informácií investorom pred investovaním a v prípade akejkoľvek významnej zme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n lim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výpočtu, zverejňovania a možnosti regulátorov obmedzovať le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dobúdanie kontrolných podielov v iných spoločnostia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medzenia a povinností správc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kazníct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princí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ailná úprava vrátane vzoru výkaz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III. Ďalšie subjekt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erejné ponuky majetkových hodnô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dôsledku AIFMD dôjde k zániku tohto inštitút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vate equity a venture capital fon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efungujú cez verejnú ponuku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v súčasnosti sú neregul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 budú kvalifikované ako AIF, spadajú pod predmet úpravy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obe kategórie pla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závislosti od veľkosti spravovaného majetku prispôsobenie sa plnému režimu alebo „light“ režimu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Úplná nepripravenosť a predpokladané značné náklady na prispôsob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tenciálne riziká pre slovenský finančný trh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úmerná regulá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ávcovské spoločnosti sú už dnes značne regul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 jednoduché business modely v private equity a venture capital je režim AIFMD príliš komplexný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One-size-fits-all“ prís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edostatok proporcionality smernice vo vzťahu k malým správcom a k správe fondov, ktoré sú produktovo regulované na národnej úrovn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úmerná záťaž na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ložitosť a rozsah legislatívy (napr. 99 rôznych splnomocňovacích ustanovení pre EK a ESM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tenciálne výhody pre slovenský finančný trh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evel playing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národnej úrovni - jednotné podmienky pre súčasné podielové fondy a im konkurenčné produkty (nelicencované hedge fondy a private equity fondy, ktoré sa na Slovensku ponúkajú a verejné ponuky majetkových hodnô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úrovni EÚ – jednotný prístup na trh EÚ a dočasné zvýhodnenie EÚ správcov AI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stup prijímania a súčasný stav legislatívneho procesu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250920" y="3860640"/>
            <a:ext cx="8424720" cy="635400"/>
            <a:chOff x="250920" y="3860640"/>
            <a:chExt cx="8424720" cy="635400"/>
          </a:xfrm>
        </p:grpSpPr>
        <p:sp>
          <p:nvSpPr>
            <p:cNvPr id="123" name="Line 5"/>
            <p:cNvSpPr/>
            <p:nvPr/>
          </p:nvSpPr>
          <p:spPr>
            <a:xfrm>
              <a:off x="468360" y="400356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468360" y="393192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53964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183528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327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471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615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759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25092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154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298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442764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586728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730872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8"/>
          <p:cNvGrpSpPr/>
          <p:nvPr/>
        </p:nvGrpSpPr>
        <p:grpSpPr>
          <a:xfrm>
            <a:off x="755640" y="2133720"/>
            <a:ext cx="1152000" cy="746280"/>
            <a:chOff x="755640" y="2133720"/>
            <a:chExt cx="1152000" cy="746280"/>
          </a:xfrm>
        </p:grpSpPr>
        <p:sp>
          <p:nvSpPr>
            <p:cNvPr id="138" name="Text Box 26"/>
            <p:cNvSpPr/>
            <p:nvPr/>
          </p:nvSpPr>
          <p:spPr>
            <a:xfrm>
              <a:off x="755640" y="2421000"/>
              <a:ext cx="1152000" cy="459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predloženie návrhu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27"/>
            <p:cNvSpPr/>
            <p:nvPr/>
          </p:nvSpPr>
          <p:spPr>
            <a:xfrm>
              <a:off x="755640" y="2133720"/>
              <a:ext cx="115200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30.4.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Line 30"/>
          <p:cNvSpPr/>
          <p:nvPr/>
        </p:nvSpPr>
        <p:spPr>
          <a:xfrm>
            <a:off x="971640" y="2924280"/>
            <a:ext cx="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" name="Group 31"/>
          <p:cNvGrpSpPr/>
          <p:nvPr/>
        </p:nvGrpSpPr>
        <p:grpSpPr>
          <a:xfrm>
            <a:off x="1332000" y="5013360"/>
            <a:ext cx="1150560" cy="928800"/>
            <a:chOff x="1332000" y="5013360"/>
            <a:chExt cx="1150560" cy="928800"/>
          </a:xfrm>
        </p:grpSpPr>
        <p:sp>
          <p:nvSpPr>
            <p:cNvPr id="142" name="Text Box 32"/>
            <p:cNvSpPr/>
            <p:nvPr/>
          </p:nvSpPr>
          <p:spPr>
            <a:xfrm>
              <a:off x="1332000" y="5300640"/>
              <a:ext cx="1150560" cy="64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Rokovania na pôde Rady a E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1332000" y="5013360"/>
              <a:ext cx="115056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 - 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971640" y="4005360"/>
            <a:ext cx="2016000" cy="863280"/>
            <a:chOff x="971640" y="4005360"/>
            <a:chExt cx="2016000" cy="863280"/>
          </a:xfrm>
        </p:grpSpPr>
        <p:sp>
          <p:nvSpPr>
            <p:cNvPr id="145" name="Line 35"/>
            <p:cNvSpPr/>
            <p:nvPr/>
          </p:nvSpPr>
          <p:spPr>
            <a:xfrm flipV="1">
              <a:off x="971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>
              <a:off x="971640" y="4868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 flipV="1">
              <a:off x="2987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2916360" y="5013360"/>
            <a:ext cx="1150560" cy="746280"/>
            <a:chOff x="2916360" y="5013360"/>
            <a:chExt cx="1150560" cy="746280"/>
          </a:xfrm>
        </p:grpSpPr>
        <p:sp>
          <p:nvSpPr>
            <p:cNvPr id="149" name="Text Box 42"/>
            <p:cNvSpPr/>
            <p:nvPr/>
          </p:nvSpPr>
          <p:spPr>
            <a:xfrm>
              <a:off x="2916360" y="5300640"/>
              <a:ext cx="1150560" cy="459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Legislatívne úprav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43"/>
            <p:cNvSpPr/>
            <p:nvPr/>
          </p:nvSpPr>
          <p:spPr>
            <a:xfrm>
              <a:off x="2916360" y="5013360"/>
              <a:ext cx="115056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Q 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" name="Group 45"/>
          <p:cNvGrpSpPr/>
          <p:nvPr/>
        </p:nvGrpSpPr>
        <p:grpSpPr>
          <a:xfrm>
            <a:off x="2987640" y="4005360"/>
            <a:ext cx="936720" cy="863280"/>
            <a:chOff x="2987640" y="4005360"/>
            <a:chExt cx="936720" cy="863280"/>
          </a:xfrm>
        </p:grpSpPr>
        <p:sp>
          <p:nvSpPr>
            <p:cNvPr id="152" name="Line 46"/>
            <p:cNvSpPr/>
            <p:nvPr/>
          </p:nvSpPr>
          <p:spPr>
            <a:xfrm flipV="1">
              <a:off x="2987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7"/>
            <p:cNvSpPr/>
            <p:nvPr/>
          </p:nvSpPr>
          <p:spPr>
            <a:xfrm>
              <a:off x="2987640" y="4868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48"/>
            <p:cNvSpPr/>
            <p:nvPr/>
          </p:nvSpPr>
          <p:spPr>
            <a:xfrm flipV="1">
              <a:off x="392436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" name="Line 49"/>
          <p:cNvSpPr/>
          <p:nvPr/>
        </p:nvSpPr>
        <p:spPr>
          <a:xfrm>
            <a:off x="1908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0"/>
          <p:cNvSpPr/>
          <p:nvPr/>
        </p:nvSpPr>
        <p:spPr>
          <a:xfrm>
            <a:off x="3492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3708360" y="2133720"/>
            <a:ext cx="1150560" cy="1111320"/>
            <a:chOff x="3708360" y="2133720"/>
            <a:chExt cx="1150560" cy="1111320"/>
          </a:xfrm>
        </p:grpSpPr>
        <p:sp>
          <p:nvSpPr>
            <p:cNvPr id="158" name="Text Box 52"/>
            <p:cNvSpPr/>
            <p:nvPr/>
          </p:nvSpPr>
          <p:spPr>
            <a:xfrm>
              <a:off x="3708360" y="242100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zverejnenie smernice AIFMD v Ú.v. EÚ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Text Box 53"/>
            <p:cNvSpPr/>
            <p:nvPr/>
          </p:nvSpPr>
          <p:spPr>
            <a:xfrm>
              <a:off x="3708360" y="213372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7.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Line 54"/>
          <p:cNvSpPr/>
          <p:nvPr/>
        </p:nvSpPr>
        <p:spPr>
          <a:xfrm>
            <a:off x="392436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Group 55"/>
          <p:cNvGrpSpPr/>
          <p:nvPr/>
        </p:nvGrpSpPr>
        <p:grpSpPr>
          <a:xfrm>
            <a:off x="4427640" y="5013360"/>
            <a:ext cx="1152000" cy="1658880"/>
            <a:chOff x="4427640" y="5013360"/>
            <a:chExt cx="1152000" cy="1658880"/>
          </a:xfrm>
        </p:grpSpPr>
        <p:sp>
          <p:nvSpPr>
            <p:cNvPr id="162" name="Text Box 56"/>
            <p:cNvSpPr/>
            <p:nvPr/>
          </p:nvSpPr>
          <p:spPr>
            <a:xfrm>
              <a:off x="4427640" y="5300640"/>
              <a:ext cx="115200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zverejnenie technickej pomoci ESMA k budúcim delegovaným aktom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57"/>
            <p:cNvSpPr/>
            <p:nvPr/>
          </p:nvSpPr>
          <p:spPr>
            <a:xfrm>
              <a:off x="4427640" y="5013360"/>
              <a:ext cx="115200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6.11.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Line 58"/>
          <p:cNvSpPr/>
          <p:nvPr/>
        </p:nvSpPr>
        <p:spPr>
          <a:xfrm flipV="1">
            <a:off x="4500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59"/>
          <p:cNvGrpSpPr/>
          <p:nvPr/>
        </p:nvGrpSpPr>
        <p:grpSpPr>
          <a:xfrm>
            <a:off x="5076720" y="2133720"/>
            <a:ext cx="1223640" cy="1293840"/>
            <a:chOff x="5076720" y="2133720"/>
            <a:chExt cx="1223640" cy="1293840"/>
          </a:xfrm>
        </p:grpSpPr>
        <p:sp>
          <p:nvSpPr>
            <p:cNvPr id="166" name="Text Box 60"/>
            <p:cNvSpPr/>
            <p:nvPr/>
          </p:nvSpPr>
          <p:spPr>
            <a:xfrm>
              <a:off x="5076720" y="2421000"/>
              <a:ext cx="1223640" cy="1006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predpokladané zverejnenie návrhu delegovaných aktov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61"/>
            <p:cNvSpPr/>
            <p:nvPr/>
          </p:nvSpPr>
          <p:spPr>
            <a:xfrm>
              <a:off x="5076720" y="2133720"/>
              <a:ext cx="122364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 Q 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Line 62"/>
          <p:cNvSpPr/>
          <p:nvPr/>
        </p:nvSpPr>
        <p:spPr>
          <a:xfrm>
            <a:off x="514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6156360" y="5013360"/>
            <a:ext cx="1150560" cy="1111320"/>
            <a:chOff x="6156360" y="5013360"/>
            <a:chExt cx="1150560" cy="1111320"/>
          </a:xfrm>
        </p:grpSpPr>
        <p:sp>
          <p:nvSpPr>
            <p:cNvPr id="170" name="Text Box 64"/>
            <p:cNvSpPr/>
            <p:nvPr/>
          </p:nvSpPr>
          <p:spPr>
            <a:xfrm>
              <a:off x="6156360" y="530064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Deadline na transpozíciu  smernice AIFM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65"/>
            <p:cNvSpPr/>
            <p:nvPr/>
          </p:nvSpPr>
          <p:spPr>
            <a:xfrm>
              <a:off x="6156360" y="501336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2.7.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" name="Line 67"/>
          <p:cNvSpPr/>
          <p:nvPr/>
        </p:nvSpPr>
        <p:spPr>
          <a:xfrm flipV="1">
            <a:off x="694836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68"/>
          <p:cNvGrpSpPr/>
          <p:nvPr/>
        </p:nvGrpSpPr>
        <p:grpSpPr>
          <a:xfrm>
            <a:off x="7308720" y="2133720"/>
            <a:ext cx="1150560" cy="1111320"/>
            <a:chOff x="7308720" y="2133720"/>
            <a:chExt cx="1150560" cy="1111320"/>
          </a:xfrm>
        </p:grpSpPr>
        <p:sp>
          <p:nvSpPr>
            <p:cNvPr id="174" name="Text Box 69"/>
            <p:cNvSpPr/>
            <p:nvPr/>
          </p:nvSpPr>
          <p:spPr>
            <a:xfrm>
              <a:off x="7308720" y="242100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Deadline na žiadosť o povolenie podľa AIFM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70"/>
            <p:cNvSpPr/>
            <p:nvPr/>
          </p:nvSpPr>
          <p:spPr>
            <a:xfrm>
              <a:off x="7308720" y="213372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Leto 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Line 71"/>
          <p:cNvSpPr/>
          <p:nvPr/>
        </p:nvSpPr>
        <p:spPr>
          <a:xfrm>
            <a:off x="831708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72"/>
          <p:cNvGrpSpPr/>
          <p:nvPr/>
        </p:nvGrpSpPr>
        <p:grpSpPr>
          <a:xfrm>
            <a:off x="7596360" y="4797360"/>
            <a:ext cx="1223280" cy="838080"/>
            <a:chOff x="7596360" y="4797360"/>
            <a:chExt cx="1223280" cy="838080"/>
          </a:xfrm>
        </p:grpSpPr>
        <p:sp>
          <p:nvSpPr>
            <p:cNvPr id="178" name="Text Box 73"/>
            <p:cNvSpPr/>
            <p:nvPr/>
          </p:nvSpPr>
          <p:spPr>
            <a:xfrm>
              <a:off x="7596360" y="5084640"/>
              <a:ext cx="1223280" cy="550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000" spc="-1" strike="noStrike">
                  <a:solidFill>
                    <a:srgbClr val="000000"/>
                  </a:solidFill>
                  <a:latin typeface="Tahoma"/>
                </a:rPr>
                <a:t>duálny režim pre správcov z tretích krají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Text Box 74"/>
            <p:cNvSpPr/>
            <p:nvPr/>
          </p:nvSpPr>
          <p:spPr>
            <a:xfrm>
              <a:off x="7596360" y="4797360"/>
              <a:ext cx="122328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" name="Group 75"/>
          <p:cNvGrpSpPr/>
          <p:nvPr/>
        </p:nvGrpSpPr>
        <p:grpSpPr>
          <a:xfrm>
            <a:off x="7596360" y="5661000"/>
            <a:ext cx="1223280" cy="838080"/>
            <a:chOff x="7596360" y="5661000"/>
            <a:chExt cx="1223280" cy="838080"/>
          </a:xfrm>
        </p:grpSpPr>
        <p:sp>
          <p:nvSpPr>
            <p:cNvPr id="181" name="Text Box 76"/>
            <p:cNvSpPr/>
            <p:nvPr/>
          </p:nvSpPr>
          <p:spPr>
            <a:xfrm>
              <a:off x="7596360" y="5948280"/>
              <a:ext cx="1223280" cy="550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000" spc="-1" strike="noStrike">
                  <a:solidFill>
                    <a:srgbClr val="000000"/>
                  </a:solidFill>
                  <a:latin typeface="Tahoma"/>
                </a:rPr>
                <a:t>režim passportu pre správcov z tretích krají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77"/>
            <p:cNvSpPr/>
            <p:nvPr/>
          </p:nvSpPr>
          <p:spPr>
            <a:xfrm>
              <a:off x="7596360" y="5661000"/>
              <a:ext cx="122328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Line 78"/>
          <p:cNvSpPr/>
          <p:nvPr/>
        </p:nvSpPr>
        <p:spPr>
          <a:xfrm flipV="1">
            <a:off x="8893080" y="40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9"/>
          <p:cNvSpPr/>
          <p:nvPr/>
        </p:nvSpPr>
        <p:spPr>
          <a:xfrm flipV="1">
            <a:off x="9036000" y="4076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80"/>
          <p:cNvSpPr/>
          <p:nvPr/>
        </p:nvSpPr>
        <p:spPr>
          <a:xfrm>
            <a:off x="8820000" y="5084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81"/>
          <p:cNvSpPr/>
          <p:nvPr/>
        </p:nvSpPr>
        <p:spPr>
          <a:xfrm flipH="1">
            <a:off x="8820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" name="Group 82"/>
          <p:cNvGrpSpPr/>
          <p:nvPr/>
        </p:nvGrpSpPr>
        <p:grpSpPr>
          <a:xfrm>
            <a:off x="250920" y="3860640"/>
            <a:ext cx="8424720" cy="635400"/>
            <a:chOff x="250920" y="3860640"/>
            <a:chExt cx="8424720" cy="635400"/>
          </a:xfrm>
        </p:grpSpPr>
        <p:sp>
          <p:nvSpPr>
            <p:cNvPr id="188" name="Line 83"/>
            <p:cNvSpPr/>
            <p:nvPr/>
          </p:nvSpPr>
          <p:spPr>
            <a:xfrm>
              <a:off x="468360" y="400356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84"/>
            <p:cNvSpPr/>
            <p:nvPr/>
          </p:nvSpPr>
          <p:spPr>
            <a:xfrm>
              <a:off x="468360" y="393192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85"/>
            <p:cNvSpPr/>
            <p:nvPr/>
          </p:nvSpPr>
          <p:spPr>
            <a:xfrm>
              <a:off x="53964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86"/>
            <p:cNvSpPr/>
            <p:nvPr/>
          </p:nvSpPr>
          <p:spPr>
            <a:xfrm>
              <a:off x="183528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87"/>
            <p:cNvSpPr/>
            <p:nvPr/>
          </p:nvSpPr>
          <p:spPr>
            <a:xfrm>
              <a:off x="327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88"/>
            <p:cNvSpPr/>
            <p:nvPr/>
          </p:nvSpPr>
          <p:spPr>
            <a:xfrm>
              <a:off x="471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89"/>
            <p:cNvSpPr/>
            <p:nvPr/>
          </p:nvSpPr>
          <p:spPr>
            <a:xfrm>
              <a:off x="615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90"/>
            <p:cNvSpPr/>
            <p:nvPr/>
          </p:nvSpPr>
          <p:spPr>
            <a:xfrm>
              <a:off x="759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91"/>
            <p:cNvSpPr/>
            <p:nvPr/>
          </p:nvSpPr>
          <p:spPr>
            <a:xfrm>
              <a:off x="25092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92"/>
            <p:cNvSpPr/>
            <p:nvPr/>
          </p:nvSpPr>
          <p:spPr>
            <a:xfrm>
              <a:off x="154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Text Box 93"/>
            <p:cNvSpPr/>
            <p:nvPr/>
          </p:nvSpPr>
          <p:spPr>
            <a:xfrm>
              <a:off x="298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94"/>
            <p:cNvSpPr/>
            <p:nvPr/>
          </p:nvSpPr>
          <p:spPr>
            <a:xfrm>
              <a:off x="442764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95"/>
            <p:cNvSpPr/>
            <p:nvPr/>
          </p:nvSpPr>
          <p:spPr>
            <a:xfrm>
              <a:off x="586728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96"/>
            <p:cNvSpPr/>
            <p:nvPr/>
          </p:nvSpPr>
          <p:spPr>
            <a:xfrm>
              <a:off x="730872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chodné ustanovenia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Termín na implementáciu smernice AIF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2. júla 201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vinnosť zosúladiť sa a požiadať o povolenie do 22. júla 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uzavreté AIF zostávajú zachované práva vyplývajúce z prospektovej smer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IFM nemusia mať povolenie, 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avujú uzavreté AIF vytvorené pred 22. júlom 2013 a po tomto dátume nevykonávajú nové investície, nemusia mať povol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avujú uzavreté AIF, ktorých upisovacie obdobie sa skončilo pred 22. júlom 2013 a nie sú vytvorené na dlhšie ako 3 rok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Súčasný stav slovenskej legislatívy kolektívneho investovani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účasná úprava kolektívneho investovania je čiastočne pripravená na implementáciu smernice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ituácia je jednoduchšia pri licencovaných správcovských spoločnostiach spravujúcich špeciálne podielové fon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Existuje istá konzistencia s UCITS smernicou, avšak existuje veľa výnimiek a drobných rozdiel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slovenská legislatíva neposkytuje priestor pre podnikanie v súčasnosti neregulovaných subjektov, ktoré budú pod úpravou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Chýba najmä flexibilita pri právnych formách osôb, ktoré budú kvalifikované ako AIFM a osôb, ktoré budú kvalifikované ako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é budúce zmeny legislatívy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Nové právne formy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a forma AIF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 súčasnosti je povolená len forma akciovej spoločnosti – zvážiť aj prípadne iné obchodné spoloč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a forma A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 súčasnosti je povolená len forma podielového bez právnej subjek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re otvorený typ AIF (a prípade aj UCITS fondov) - Akciové spoločnosti s premenlivým základným imaním (SICA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re uzavretý typ AIF – akciová spoločnosť a ďalšie obchodné spoločnosti – spoločnosť s ručením obmedzeným, komanditná spoločnosť a verejná obchodná spoločnos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Otázka je, či umožniť, aby k majetkovým podielom v týchto spoločnostiach mohli byť vydávané obchodovateľné cenné papiere – podpora slovenského kapitálového trh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e formy AIF by mali byť upravené v Z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Ďalšie možné dopady implementácie AIFMD do právneho poriadku SR 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äčšina smernice AIFMD by mohla byť implementovaná osobitným zákonom vo vzťahu k Z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nto zákon by uprav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ov alternatívnych podielových fondov a ich právne for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mienky výkonu ich č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a AIF (s väzbou na úpravu depozitára podľa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ransparentnosť a ďalšie osobitné ustanov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Cezhraničné vzťa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ohľ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nto zákon by neuprav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e formy AIF ako subjektov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oduktovú reguláciu špeciálnych podielových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arketing retailovým investo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é budúce zmeny legislatívy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roduktová reguláci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Extenzívna produktová regulácia by mala byť zachovaná pre verejné špeciálne podielové fon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mernica AIFMD nevyžaduje licencovanie samotných A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iektoré (najmä rizikové) AIF by nemali byť licencované (typický príklad sú private equity a venture capital fon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tázka je, ako pristúpiť k produktovej regulácie š.p.f. profesionálnych investor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iešenie inštitútu verejnej ponuky majetkových hodnôt podľa Zo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ekrýva sa predmetom úpravy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bsa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čo bola prijatá nová smern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dmet úpravy – kto bude regulovaný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pad smernice na slovenský finančný t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ýzvy a riziká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ko smernicu implementovať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 a finančných analý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mernica 2011/61/EÚ </a:t>
            </a:r>
            <a:br>
              <a:rPr sz="2800"/>
            </a:br>
            <a:r>
              <a:rPr b="1" lang="sk-SK" sz="2200" spc="-1" strike="noStrike">
                <a:solidFill>
                  <a:srgbClr val="003881"/>
                </a:solidFill>
                <a:latin typeface="Tahoma"/>
              </a:rPr>
              <a:t>Directive on managers of alternative investment funds </a:t>
            </a:r>
            <a:br>
              <a:rPr sz="22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AIFMD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ôvodné ciele Európskej kom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avedenie regulácie doteraz neregulovaných hedge fondov a private equity fond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ástroj na obmedzenie systémového rizik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chrana investorov v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o distribúcie profesionálnym investo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Harmonizácia a zavedenie jednotného trhu pre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Dôsled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on-UCITS smernica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Extenzívna regulácia, v mnohých prípadoch prísnejšia ako súčasný štandard pre retailové fon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ýrazne posilnené kompetencie ES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načná legislatívna zložitosť a nezrelosť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dmet úprav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mernica sa vzťahu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všetkých správcov alternatívnych investičných fondov (AIFM) so sídlom na území E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správcov alternatívnych investičných fondov (AIFM) so sídlom na mimo územia EÚ, ktorí spravujú alebo distribuujú na území EÚ alternatívne investičné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Alternatívny investičný fond (AIF)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Alternatívny investičný fond (AIF) je subjekt kolektívneho investovania, ktor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zhromažďuje kapitá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od viacerých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s cieľom investovať ho v súlade s vymedzenou investičnou politikou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v prospech týchto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a nevyžaduje si povolenie podľa článku 5 smernice 2009/65/EÚ (UCIT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t.j. ide 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všetky špeciálne podielové fondy podľa ZK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iektoré business modely spadajúce pod verejnú ponuku majetkových hodnôt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doteraz neregulované private equity a venture capital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ight“ režim smernic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2 režim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Plný“ reži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Light“ reži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AIFM, ktoré priamo alebo nepriamo spravujú AIF vo veľkosti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ahoma"/>
              </a:rPr>
              <a:t>celkových AuM, vrátane akéhokoľvek majetku získaného cez leverage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, nepresahujúcich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100 miliónov EUR aleb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500 miliónov EUR, ak ide o AIF bez leverage a sú uzavreté aspoň na dobu 5 rok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obmedzená aplikácia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povinnosť registrácie (nie povolenia) u regulátora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reporting regulátorovi o hlavných investičných nástrojoch, expozíciách a koncentráciách majetku v AIF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podliehajú všeobecnému dohľadu podľa čl. 46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Títo AIF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emajú právo passpor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môžu urobiť tzv. „opt-in“ – t.j. získať plnú licenciu a prejsť pod plný režim aplikácie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to bude regulovaný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564000" y="1989000"/>
            <a:ext cx="1692360" cy="1015920"/>
          </a:xfrm>
          <a:prstGeom prst="rect">
            <a:avLst/>
          </a:prstGeom>
          <a:solidFill>
            <a:srgbClr val="0038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19280" y="3141720"/>
            <a:ext cx="1152360" cy="9169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produ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42920" y="4078440"/>
            <a:ext cx="2232000" cy="230544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de o AIF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ubjekt kolektívneho investovania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hromažďovanie majetk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Od viacerých investor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efinovaná investičná politik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Investovanie v prospech investor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924360" y="3141720"/>
            <a:ext cx="1152360" cy="642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správc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419640" y="4078440"/>
            <a:ext cx="2232000" cy="2313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 rámci výnimk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Hol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ôchodkové fon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Poistné produk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ekuritizačné SP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Family office, joint-vent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amestnanecké sché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" name="AutoShape 10"/>
          <p:cNvCxnSpPr>
            <a:stCxn id="99" idx="3"/>
            <a:endCxn id="101" idx="1"/>
          </p:cNvCxnSpPr>
          <p:nvPr/>
        </p:nvCxnSpPr>
        <p:spPr>
          <a:xfrm>
            <a:off x="2784240" y="3474720"/>
            <a:ext cx="11278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4" name="Text Box 11"/>
          <p:cNvSpPr/>
          <p:nvPr/>
        </p:nvSpPr>
        <p:spPr>
          <a:xfrm>
            <a:off x="6443640" y="3141720"/>
            <a:ext cx="1152720" cy="642600"/>
          </a:xfrm>
          <a:prstGeom prst="rect">
            <a:avLst/>
          </a:prstGeom>
          <a:solidFill>
            <a:srgbClr val="003881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Režim AIFM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796000" y="4078440"/>
            <a:ext cx="2376360" cy="1384560"/>
          </a:xfrm>
          <a:prstGeom prst="rect">
            <a:avLst/>
          </a:prstGeom>
          <a:solidFill>
            <a:srgbClr val="003881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Light reži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100 mil. / 500 mil. EUR limit (thresho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registrácia, reporting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bez passportu (možný opt-i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796000" y="5877000"/>
            <a:ext cx="2376360" cy="459720"/>
          </a:xfrm>
          <a:prstGeom prst="rect">
            <a:avLst/>
          </a:prstGeom>
          <a:solidFill>
            <a:srgbClr val="003881">
              <a:alpha val="7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lný rež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7" name="AutoShape 14"/>
          <p:cNvCxnSpPr>
            <a:stCxn id="101" idx="3"/>
            <a:endCxn id="104" idx="1"/>
          </p:cNvCxnSpPr>
          <p:nvPr/>
        </p:nvCxnSpPr>
        <p:spPr>
          <a:xfrm>
            <a:off x="5089680" y="3474720"/>
            <a:ext cx="1342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8" name="AutoShape 16"/>
          <p:cNvCxnSpPr>
            <a:stCxn id="105" idx="2"/>
            <a:endCxn id="106" idx="0"/>
          </p:cNvCxnSpPr>
          <p:nvPr/>
        </p:nvCxnSpPr>
        <p:spPr>
          <a:xfrm>
            <a:off x="6984720" y="5489280"/>
            <a:ext cx="1080" cy="375480"/>
          </a:xfrm>
          <a:prstGeom prst="straightConnector1">
            <a:avLst/>
          </a:prstGeom>
          <a:ln w="38160">
            <a:solidFill>
              <a:srgbClr val="003881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I. Dopad na slovenský finančný trh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icencované správcovské spoloč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 veľkej časti pripravené na AIFMD – značná konzistencia smerníc UCITS a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špeciálnych fondov si bude vyžadovať druhé povolenie pre správcu (alebo registráciu, v prípade „light“ reži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egislatívna dvojkoľajnosť regul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UCITS smernica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transpozícia do ZK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IFMD smernica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čiastočná transpozícia do slovenského právneho poriadku + priame nariadenia EK a regulačné technické štandardy ES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výšené náklady na prispôsobenia a compl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II. Depozitár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depozitára značne prekonáva štandard UCITS smer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epozitárska úschova a s ňou spojená objektívna zodpovednos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yššia miera detailu regulácie – vyššia administratívna zaťažen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časná materiálna rozdielnosť v regulácii až do implementácie smernice UCITS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eskôr legislatívna dvojkoľajnosť regulácie činnosti depozitára pre UCITS fondy a pre A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Jana Michalíková - AKAT</cp:lastModifiedBy>
  <dcterms:modified xsi:type="dcterms:W3CDTF">2012-04-24T12:45:13Z</dcterms:modified>
  <cp:revision>55</cp:revision>
  <dc:subject/>
  <dc:title>Slide 1</dc:title>
</cp:coreProperties>
</file>