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91A-77D4-4725-AA2A-83BE6A5F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8C1-7E6C-45B9-B63F-D6A16D26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0387-D1A6-450E-A862-AEDBF432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E03-1C3E-46F8-91C8-3C08EF7F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9C7E-B456-4FB0-BAAA-14241B3D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9E19-CE49-4732-94AA-3CB06DDD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C216-73D7-4205-A6B7-3CD91E53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F119-A321-4A97-BF2B-0331969F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9211-D5F1-49EC-AEC6-60DD9DD6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F513-D8E6-43B7-92EB-EDCC1815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EB17-94F9-4CCB-9802-BD8E3049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0283-B03B-4434-84E9-34FABB46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B676-96FD-40DD-979D-D90C71E2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6ECE-ADFE-4D62-B541-37D9205A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0150-6BE1-41FE-B473-5AA911A6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A924-337D-4F58-BFCB-1F7F0F40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C677-4D46-4AEA-ADBC-57BE37F3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0A92-347B-4258-8BFA-4C29DAFE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09F-2E68-4FCB-BDC6-D1D9EDB0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291-61E3-49F9-A743-CF4703B0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AED8-E3A0-4977-BAF0-20396DBB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CFC-6622-42FC-935B-7A018061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9A04-2227-4A9F-B345-00766116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255C-9610-41A9-9DDC-EB69055C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29FD-BDDD-404F-B019-CBCC808FF5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NBS_podstranka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NBS_uvod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494a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9D01-0738-4D61-AFEE-84ECA8AC5275}" type="slidenum">
              <a:rPr b="1" lang="en-US" sz="2400" spc="-1" strike="noStrike">
                <a:solidFill>
                  <a:srgbClr val="494a4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tomas.ambra@nbs.sk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2707920"/>
            <a:ext cx="8708760" cy="259380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ff"/>
                </a:solidFill>
                <a:latin typeface="Tahoma"/>
              </a:rPr>
              <a:t>Výzvy nových smerníc týkajúce sa depozitárov</a:t>
            </a:r>
            <a:br>
              <a:rPr sz="4000"/>
            </a:br>
            <a:br>
              <a:rPr sz="4800"/>
            </a:br>
            <a:r>
              <a:rPr b="1" lang="sk-SK" sz="2800" spc="-1" strike="noStrike">
                <a:solidFill>
                  <a:srgbClr val="003881"/>
                </a:solidFill>
                <a:latin typeface="Tahoma"/>
              </a:rPr>
              <a:t>POŽIADAVKY NA DEPOZITÁROV PO SMERNICI AIFMD</a:t>
            </a:r>
            <a:endParaRPr b="1" lang="en-US" sz="28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3640" y="5589360"/>
            <a:ext cx="8705880" cy="115236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Konferencia Next Steps in Asset Management, 26. apríla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Ing. Tomáš Ambr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Odbor regulácie a finančných analý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Národná banka Slovens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Kolaterál a SPV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ustody“ režim sa vzťahuje aj na finančné nástroje poskytnuté alebo prijaté ako kolaterál, ak k nim nezaniklo alebo vzniklo vlastnícke právo fon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ba režimy sa vzťahujú na „look-through“ bá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To znamená aj vo vzťahu k právnickým osobám alebo k finančným štruktúram priamo alebo nepriamo kontrolovaným fondo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Objektívna zodpovednosť depozitára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ežim „custody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Objektívna zodpovednosť za stratu finančných nástrojov v custody (alebo v sub-custody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Strata finančného nástro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k sa zistí, že vlastnícke právo fondu zaniklo alebo nikdy neexistova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k bol fond definitívne pozbavený vlastníckeho prá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k vlastnícke právo stále existuje, ale nemožno finančný nástroj priamo alebo nepriamo scudzi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Možnosť prevodu objektívnej zodpovednosti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bjektívnu zodpovednosť za finančné nástroje v sub-custody možno kontraktuálne previesť na sub-custodi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Prevod zodpovednosti písomnou zmluvou medzi depozitárom a sub-custodianom, ktorá umožňuje správcovi resp. fondu žiadať náhradu v prípade straty finančných nástrojov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Písomná zmluva medzi depozitárom a správcom výslovne umožňuje prevod zodpovednosti a ustanovuje objektívny dôvod na takýto prevo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Možnosť liberácie depozitára z objektívnej zodpovednosti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epozitár sa môže z objektívnej zodpovednosti liberovať, ak vie preukázať, ž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strata vznikla v dôsledku externej udalost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ktorej vznik nemohol ovplyvniť a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ktorej dôsledkom nebolo napriek všetkému odôvodnenému úsiliu možné zabrániť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Zodpovednosť depozitára</a:t>
            </a:r>
            <a:br>
              <a:rPr sz="3200"/>
            </a:b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Level 2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39640" y="2492280"/>
            <a:ext cx="1692360" cy="459720"/>
          </a:xfrm>
          <a:prstGeom prst="rect">
            <a:avLst/>
          </a:prstGeom>
          <a:solidFill>
            <a:srgbClr val="00388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ahoma"/>
              </a:rPr>
              <a:t>Str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916360" y="1989000"/>
            <a:ext cx="1657080" cy="91692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Test zodpovednos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79280" y="3068640"/>
            <a:ext cx="2232000" cy="21016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000000"/>
                </a:solidFill>
                <a:uFillTx/>
                <a:latin typeface="Tahoma"/>
              </a:rPr>
              <a:t>Finančný nástroj v custody sa považuje za stratený a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81080" indent="-181080"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Už neexistuje alebo nikdy neexistoval (frau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81080" indent="-181080"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Stále existuje, ale AIF natrvalo stratil k nemu vlastnícke práv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81080" indent="-181080"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AIF má vlastnícke právo, ale nemôže finančný nástroj trvalo scudziť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203640" y="2924280"/>
            <a:ext cx="1152360" cy="5806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Vonkajšia udalosť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843280" y="5157720"/>
            <a:ext cx="1800000" cy="15541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Následkom ktorej by sa napriek všetkej primeranej snahe nedalo vyhnúť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132000" y="3933720"/>
            <a:ext cx="1297080" cy="8240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Nemožnosť primerane ovplyvniť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3564000" y="3645000"/>
            <a:ext cx="43164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3564000" y="4869000"/>
            <a:ext cx="43164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3564000" y="2637000"/>
            <a:ext cx="43164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5724360" y="2133720"/>
            <a:ext cx="1582920" cy="1371600"/>
          </a:xfrm>
          <a:prstGeom prst="rect">
            <a:avLst/>
          </a:prstGeom>
          <a:noFill/>
          <a:ln w="1908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Udalosť vedúca k strate nebola výsledkom konania alebo opomenutia depozitára alebo jedného z sub-custodianov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5724360" y="3933720"/>
            <a:ext cx="1582920" cy="824040"/>
          </a:xfrm>
          <a:prstGeom prst="rect">
            <a:avLst/>
          </a:prstGeom>
          <a:noFill/>
          <a:ln w="1908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Depozitár nemohol zabrániť vzniku udalosti v rámci primeranej snah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5724360" y="5300640"/>
            <a:ext cx="1582920" cy="1189080"/>
          </a:xfrm>
          <a:prstGeom prst="rect">
            <a:avLst/>
          </a:prstGeom>
          <a:noFill/>
          <a:ln w="1908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Napriek rozsiahlej a dôslednej odbornej starostlivosti depozitár nemohol zabrániť stra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Line 15"/>
          <p:cNvSpPr/>
          <p:nvPr/>
        </p:nvSpPr>
        <p:spPr>
          <a:xfrm flipV="1">
            <a:off x="4356000" y="2708280"/>
            <a:ext cx="1368360" cy="504720"/>
          </a:xfrm>
          <a:prstGeom prst="line">
            <a:avLst/>
          </a:prstGeom>
          <a:ln cap="rnd" w="19080">
            <a:solidFill>
              <a:srgbClr val="00388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16"/>
          <p:cNvSpPr/>
          <p:nvPr/>
        </p:nvSpPr>
        <p:spPr>
          <a:xfrm flipV="1">
            <a:off x="4427640" y="4365360"/>
            <a:ext cx="1296720" cy="73080"/>
          </a:xfrm>
          <a:prstGeom prst="line">
            <a:avLst/>
          </a:prstGeom>
          <a:ln cap="rnd" w="19080">
            <a:solidFill>
              <a:srgbClr val="00388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7"/>
          <p:cNvSpPr/>
          <p:nvPr/>
        </p:nvSpPr>
        <p:spPr>
          <a:xfrm flipV="1">
            <a:off x="4643280" y="5877000"/>
            <a:ext cx="1081080" cy="1440"/>
          </a:xfrm>
          <a:prstGeom prst="line">
            <a:avLst/>
          </a:prstGeom>
          <a:ln cap="rnd" w="19080">
            <a:solidFill>
              <a:srgbClr val="00388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Kontrolné funkcie depozitára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5 kontrolných funkcií (totožných s UCITS smernico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Kontrola vydávania a vyplácania podielov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Kontrola oceňovania a výpočtu NAV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Plnenie (a kontrola) pokynov AIF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Kontrola dodržiavania obvyklých lehôt protiplnení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Kontrola rozdeľovania výnosov (dividend) z AIF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ová kontrolná funkcia – monitoring cash-flow fon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5 štandardných kontrolných funkcií depozitára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Upresnenie obsahu týchto funkcií vychádzajúcich z UCITS smern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Značne v zhode so súčasným znením rekodifikovaného ZK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Potvrdenie princípov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ýkonu kontrolných činností na ex-post bá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kontroly správnosti procesov a postupov správcu (nie kontrola výsledk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Vyššia miera detailu – upresnenie postupov depozitára pri výkone kontrolných činností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Monitoring cash flow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epozitár overuje, či sú zabezpečené postupy sledovania cash flow AIF, t.j. č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Hotovosť je uložená na účtoch AIF / AIF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Existujú postupy rekoncilácie cash flow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Identifikácia významných transakcií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Review a overovanie konzistencie medzi svojimi záznamami a záznamami AIF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avidlá činnosti depozitára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epozitár nesmie vykonávať aktivity ohľadne AIF / AIFM, ktoré by mohli vytvárať konflikt záujmov medzi AIF, jeho investormi, AIFM a depozitárom, iba ak má depozitár funkčne a hierarchicky oddelený výkon depozitárskych činností a je ošetrený konflikt záujm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ktíva v custody nesmú byť používané depozitárom (re-hypotekácia) bez predchádzajúceho súhlasu AIF /AIF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UCITS V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ávrh smernice UCITS V sa očakáva v lete 20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ežim pre UCITS fondy by mal byť založený na regulácii depozitárov podľa AIFM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eďže UCITS sú vnímané ako retailový produkt, niektoré ustanovenia budú prísnejšie / menej flexibil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Menší rozsah prípustných osôb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Nemožnosť kontraktuálne previesť objektívnu zodpovednosť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Nové smernice týkajúce sa depozitárov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Smernica 2011/61/EÚ – AIFM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Extenzívna regulácia depozitárov alternatívnych investičných fondov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Doplňujúce Nariadenie E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aložené na technickej pomoci E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 súčasnosti sa konzultuje na úrovni Európskeho parlamentu a R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Budúca novelizácia smernice UCITS – 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UCITS 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Minimálne tak striktný režim ako pri AIFM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50560" y="4869000"/>
            <a:ext cx="8705880" cy="122400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  <a:ea typeface="Tahoma"/>
              </a:rPr>
              <a:t>Ing. Tomáš Ambr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  <a:ea typeface="Tahoma"/>
              </a:rPr>
              <a:t>Odbor regulácie a finančných analýz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  <a:ea typeface="Tahoma"/>
              </a:rPr>
              <a:t>Národná banka Slovensk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7f9bc0"/>
                </a:solidFill>
                <a:uFillTx/>
                <a:latin typeface="Tahoma"/>
                <a:ea typeface="Tahoma"/>
                <a:hlinkClick r:id="rId1"/>
              </a:rPr>
              <a:t>tomas.ambra@nbs.s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  <a:ea typeface="Tahoma"/>
              </a:rPr>
              <a:t>tel.: 02 5787 336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50560" y="422100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3881"/>
                </a:solidFill>
                <a:latin typeface="Tahoma"/>
              </a:rPr>
              <a:t>Ďakujem za pozornosť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Regulácia depozitárov podľa smernice AIFMD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Širšie spektrum prípustných osôb na výkon činnosti depozitá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epozitárska úscho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Objektívna zodpovednosť za finančné nástroje v rámci „custody“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Regulácia sub-custod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ontrolné činnosti depozitá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Rozšírenie a spresnenie súčasného rozsahu oproti smernici UCITS IV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Depozitárska úschova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šetky aktíva alternatívneho investičného fondu musia byť zverené do depozitárskej úschov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epozitárska úschova sa delí na dva reži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Custody“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Overovanie vlastníctva a vedenie záznamov („record-keeping“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 závislosti od režimu depozitárskej úschovy sa odvodzuje zodpovednosť depozitára za zverený majetok A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Custod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Rozsah - všetky finančné nástroj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ktoré môžu byť registrované na účte u depozitára a možno ich držať v priamo alebo nepriamo v mene depozitár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ematerializované prevoditeľné cenné papiere, nástroje peňažného trhu a cenný papiere subjektov kolektívneho investova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ktoré nie sú registrované priamo u emitenta alebo jeho agenta (registrára alebo transfer agent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 ďalej všetky finančné nástroje, ktoré môžu byť fyzicky dodané depozitárov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Listinné cenné papi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Špecifické povinnosti depozitára pri „custody“ režime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Finančné nástroje musia byť registrované na segregovanom účte u depozitá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Záznamy a účty depozitára musia korešpondovať a aktuálnym stavom majetku AIF zvereného depozitárovi do úschov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Je potrebné vykonávať rekoncilácie medzi internými účtami a záznamami depozitára a akéhokoľvek sub-custodiana, ktorému bola custody majetku zveren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Povinnosť vykonávať odbornú starostlivosť ohľadne finančných nástrojov držaných v custo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Je potrebné monitorovať a vyhodnocovať riziko custody v rámci celého custody reťaz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Je potrebné prijať organizačné opatrenia, aby sa minimalizovalo riziko straty finančných nástrojov v dôsledku podvodu, nesprávnych administratívnych postupov, zlej registrácie alebo opomenutia povinností depozitá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Je potrebné overiť vlastnícke práva fondu k predmetným finančným nástrojom v custo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Overovanie vlastníctva a vedenie záznamov („record-keeping)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omuto režimu depozitárskej úschovy podliehajú všetky aktíva fondu, ktoré nespadajú pod režim „custody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vinnosť overovať vlastnícke práva fondu nad týmito aktívami a viesť o nich zázna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Overovanie sa vykoná na základe dokumentov od správcu a ak je to možné aj od tretích strá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Povinnosti depozitára pri „record-keeping“ režime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právca je povinný zabezpečiť prístup depozitára k potrebným dokumentom od tretích strá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Je potrebné zabezpečiť, aby depozitár mal k dispozícii dostatočné a spoľahlivé informácie na overenie vlastníckych práv fon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epozitár musí byť schopný kedykoľvek poskytnúť aktuálny zoznam majetku fondu v vrátane nominálnych hodnô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epozitár musí zabezpečiť, a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ktíva nemohli byť prevedené, vymenené alebo dodané bez jeho súhlasu aleb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Mal okamžitý prístup k údajom o každej transakcii od tretích strá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Overovanie správneho registrovanie predmetných aktív a porovnávanie vlastných záznamov o majetku fondu a záznamov správc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Sub-custod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elegovať možno nielen custody, ale aj overovaciu a záznamovú povinnos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bjektívny dôvod na delegova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dborná starostlivosť pri výbere sub-custodi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Expertíza a zdroje sub-custodian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Regulácia a dohľad nad sub-custodiano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Segregácia aktív u sub-custodian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ebežný monitoring sub-custodi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1:29:03Z</dcterms:created>
  <dc:creator>User</dc:creator>
  <dc:description/>
  <dc:language>en-US</dc:language>
  <cp:lastModifiedBy>Jana Michalíková - AKAT</cp:lastModifiedBy>
  <dcterms:modified xsi:type="dcterms:W3CDTF">2012-04-24T12:45:43Z</dcterms:modified>
  <cp:revision>55</cp:revision>
  <dc:subject/>
  <dc:title>Slide 1</dc:title>
</cp:coreProperties>
</file>