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EC67-162D-453E-A3CA-80069B70F0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CC48-B2A5-4655-807F-28C5D77807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04BC-0CA4-49AE-BB76-53422823C76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7A92-F55C-4068-82F2-DECE4BF327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2425-39CC-4704-B130-6AF36915DB1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E603-DFBB-4999-9C6F-ABEED65B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AE74D-3F01-4E76-8E32-E52FE153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640E-A992-4EAB-AA15-575B2B3E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BDBF-8BB3-4547-9437-1707E115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BCB4-0FF6-458C-9D1A-2BDC41E9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A533-B464-4413-9A37-A14E6CA8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D700-62B1-4375-8329-13DD84DC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63A1-FD0A-434A-B4D8-0CC7E558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E928-FE28-4AE2-8FE4-37F3DDAB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78E4-F3F0-4747-BB48-0CDA82B6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5883-0C79-4DAA-8781-37CE6C2E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15758-E44F-4320-8C10-5C40AD45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38D6-9560-4361-B014-5DDC610C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321B-A127-4B2D-A1FA-52781B37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D2F9-E498-406C-A635-0CC7B447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513F-F996-4A95-9FAA-57BD2A94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9560-4F61-4148-8535-8082D8E7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7D5F-1E5B-4903-8354-6D368156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E659-02E7-4954-A463-EA5BB193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8F6A-877F-4C5B-94C6-D89B0721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FE47-AFC3-450B-B413-4395A51B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5BA6-4A23-4783-920C-795C1C1C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85112-8775-4610-AA58-B966AFC5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10AE7-938D-4E24-B05D-CBD35115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4A1A-56A9-40D9-B881-5E4B8C5103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8902-A8E0-48F5-AF5A-68BD2E28B6C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daniela.dolezalova@mfcr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MiFID II/MiFI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91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jpodstatnější problematické okruhy pro Č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Garamond"/>
              </a:rPr>
              <a:t>Next Steps in Asset Management 2012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Bratislava, 26. dubna 2012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5e5ff"/>
                </a:solidFill>
                <a:latin typeface="Garamond"/>
              </a:rPr>
              <a:t>MiFID/MiFIR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Blanketní“ forma návrhu, faktický přesun pravomocí na EK a ESMA – ČR požaduje mnohem detailnější vymezení pravidel již na „level I“; špatně nastavená pravidla na level II by například výrazně prodražila korporátní i státní financování a zajišťování proti rizikům;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e-trade transparency ohledně obchodů s dluhovými nástroji a deriváty - nerespektuje odlišný charakter obchodů s těmito finančními instrumenty od obchodů s akciemi (maturity, counterparty credit risk contra settlement risk, rozdílná likvidita a frekvence obchodování, složení a počet účastníků na trhu atd.) – ČR požaduje vyjmout „wholesale market“ a zavést pravidla pouze pro vysoce likvidní aktiva; nutné oddělit pravidla pro dluhové nástroje a deriváty; ideální by bylo fázování celého procesu (začít s post-trade transparencí a postupně rozšiřovat regulaci i na před-obchodní fázi u nejlikvidnějších aktiv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5e5ff"/>
                </a:solidFill>
                <a:latin typeface="Garamond"/>
              </a:rPr>
              <a:t>MiFID/MiFIR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gulace OTF a SI – ČR požaduje zachování pro OTF obchodování na vlastní účet, zachování hybridních i voice broking platforem; SI – pro jednotlivé finanční nástroje, „firm quotes“ jen pro retailové klienty; není jasné, jak by fungoval RFQ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gulace algoritmického obchodování – ČR nesouhlasí s tak přemrštěnou regulací (povinný market making pro všechny uživatele algoritmického obchodování – včetně retailových klientů, CCP a CSD?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Vztah s třetími zeměmi – mechanismus uznávání obchodních míst (v souvislosti s trading obligation) z  třetích zemí je pro ČR velmi problematický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5e5ff"/>
                </a:solidFill>
                <a:latin typeface="Garamond"/>
              </a:rPr>
              <a:t>Závěr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ísto nadávání na Brusel je třeba začít hrát aktivní roli při tvorbě EU legislativy, zapojit se do pracovních skupin ESMA a snažit se věcně korigovat nadměrnou a mnohdy nepromyšlenou regulaci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ěkuji za pozornost</a:t>
            </a: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Kontakt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Daniela Doležalová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Ministerstvo financí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Letenská 15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118 10 Praha 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Tel. 257042957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Email: </a:t>
            </a:r>
            <a:r>
              <a:rPr b="0" lang="cs-CZ" sz="1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daniela.dolezalova@mfcr.cz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1:50:40Z</dcterms:created>
  <dc:creator>12207</dc:creator>
  <dc:description/>
  <dc:language>en-US</dc:language>
  <cp:lastModifiedBy>Jana Michalíková - AKAT</cp:lastModifiedBy>
  <dcterms:modified xsi:type="dcterms:W3CDTF">2012-04-24T12:49:07Z</dcterms:modified>
  <cp:revision>20</cp:revision>
  <dc:subject/>
  <dc:title>Snímek 1</dc:title>
</cp:coreProperties>
</file>