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52E-4F37-4345-B834-AF224EF0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C3C-2401-4398-8561-C0535276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30D-4E5C-4B7C-A7FF-029B8972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89A-7C66-488B-BE83-67F61CE5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015-3B6D-47A0-9B8F-FD1677A9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D6A-667E-424C-B809-0437187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D16-B160-4185-8230-544821D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836-ACDE-45BE-9D2D-556D47DA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75E-92C8-4F3F-A6E1-2D8D7B2E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C85-CEE6-474D-BC7B-4E76DFC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33C-CEFF-4E42-8ACB-9D5DD689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372-673B-4377-809B-7F807968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3702-C783-4E03-A619-64615D6A89D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erence AKAT/S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xt Steps in Asse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tislava, 26. dubna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pozitář po účinnosti nového zákona o investičních společnostech a investičních fondech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bude pro depozitáře znamenat „neomezená odpovědnost bez ohledu na zavinění?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na všechny oblasti kontroly depozitáře aplikovat kontroly pouze ex post (nyní převážně  ex ant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ze při ex post kontrole přijmout neomezenou odpovědnost depozitář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izika vyplývající z navrhované legislat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rovnováha v detailně popsaných náležitostech depozitářské smlouvy a zcela obecným popisem převratné změny v úrovni kontrolní činnosti depozitář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existence prováděcích předpisů – budou v ČR přísnější než ukládají evropské předpis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 bude v konečném důsledku dopad do reálných kontrolních proces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dou mít vůbec banky nadále zájem tyto služby poskyt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u cenu budou banky za riziko  v případě neomezené odpovědnosti požad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5:10:15Z</dcterms:created>
  <dc:creator>jboskov1</dc:creator>
  <dc:description/>
  <dc:language>en-US</dc:language>
  <cp:lastModifiedBy>Jana Michalíková - AKAT</cp:lastModifiedBy>
  <dcterms:modified xsi:type="dcterms:W3CDTF">2012-04-24T12:59:08Z</dcterms:modified>
  <cp:revision>11</cp:revision>
  <dc:subject/>
  <dc:title>Konference AKAT/SASS</dc:title>
</cp:coreProperties>
</file>