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move the slide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B9B-23CB-4375-9FEA-2AFA23B1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ůst zamětnanců z 30/CESR na 100/E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počet rostě úměrně t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stou i ambice v obla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hl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formačních povinností (omnibus direk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tifikace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ingle Rulebo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0 technickcých standardů (OTC, deriváty, AIF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vel 2 Advice – považovaná za vybalancovaný s ohledem na zásadní připomínky člen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K připravila návrh implementační direktivy, kterou představí co nevidě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F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depozitá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výpočet leverage, total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. země – guidline k MoU, aby se esma nemontova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blém – off-shore- GB/Kajmanské fondy, je otázka zda se zapoj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SMA chce zapojit IO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tázky důvěrnosti a on-site k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oney market fo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ustupuje se od kritéria kreditního ratingu státních dluhopis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RA upouštní od přeceňování rat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TS k remmuneration založené na 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F21A-1F26-4DB2-95ED-FFB1E0E4F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8307-7F99-4C83-94DF-BED0853DE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0D66-E35B-4D1A-BEF1-A560F308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B359-E3E1-4204-8546-AF6F7A8B2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D5BF-B94A-4ED7-992B-35118558A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2EA7-502F-46E7-8A2B-AFFFB4C0B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A867-0D0F-45AE-9B35-B949D035B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EA22-84FE-4369-9AAA-DC6B47777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77C1-25B7-4FDA-A069-208189CE8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8E57-68A3-45D1-AA48-757842F04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4185-E509-483A-B5D4-0195E144C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535F-A4FF-452C-975C-AA9635DF7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54B-395C-494A-99D4-ACB248A2ADF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0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hyperlink" Target="mailto:alena.sebestova@cnb.cz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Spolupráce regulátorů v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f7c"/>
                </a:solidFill>
                <a:latin typeface="Arial Narrow"/>
              </a:rPr>
              <a:t>Aktuality ESMA</a:t>
            </a:r>
            <a:endParaRPr b="0" lang="en-US" sz="4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Sekce regulace a mezinárodní spolupráce na finančním trhu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Konference Next Steps in Asset Management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Bratislava 26. 4. 2012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CD1-6676-4D32-84AF-83164891DBC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Co j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SMA - European Securities and Markets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Nezávislá agentura EU (dříve CESR)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Spolupráce evropských regulátorů v oblasti kapitálového trh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Organizac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Board of Supervisor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Internal committees and panel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Investment Standing committee pro fondovou oblast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Review panel, ESMA-Pol…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Management Board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Chair + 6 člen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Executive Director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Staff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Joint Committee of ESA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Průřezová témata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227-6D76-45E4-9753-F788D5BCC0B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Formy prác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Lamfalussy proce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1 – Směrnice,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becná stanoviska, technické rady Komisi EU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2 – Prováděcí směrnice, prováděcí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Větší role než CERS, návrhy prováděcích předpis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3 - Guidelines a Recommendations pro orgány dohled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Princip - Comply or explain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4 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Questions/Answer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perational task force (dohledová spolupráce)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ast track procedure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CF6-12C3-4053-9862-11D0EC8D4B2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Aktuální témata z oblasti fondů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AIFM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evel 2 Advice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U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muneration guidelines 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Venture fond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ocial fund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hadow banking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UCITS V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Money market funds – revize guide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PRIPS (packaged retail investment product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6A3-56A2-41CA-8A62-510F0634FF8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Sekce regulace a mezinárodní spolupráce na finačním trhu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2"/>
              </a:rPr>
              <a:t>alena.sebestova@cnb.cz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Jana Michalíková - AKAT</cp:lastModifiedBy>
  <dcterms:modified xsi:type="dcterms:W3CDTF">2012-04-25T13:06:52Z</dcterms:modified>
  <cp:revision>61</cp:revision>
  <dc:subject/>
  <dc:title>Český název přednášky/akce</dc:title>
</cp:coreProperties>
</file>