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774600" y="-36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901800" y="766440"/>
            <a:ext cx="491472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0" y="943884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774600" y="943884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A3E-E8AF-4D05-A2DA-CBCE8F91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9BF-9093-4638-B2B6-99225DCDE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E53-1FC8-4079-9B0C-EAF223F1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03240" y="76680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336-3EBA-4AE6-AD77-C2E6E2DDF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03240" y="76680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DA5C-E011-4C48-91DF-B455A5B0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4F94-7D41-4780-8304-7E5F5B3F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F32B-D134-4B3B-BAF8-868CD49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8696-1100-409D-8453-B91F5C7A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6917-958A-4900-B4E3-FA2E4CA8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D178-26B3-4CEE-800F-F1118FB8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453D-91BE-4976-B674-07273A4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E834-66D8-4E6C-AD58-DD563E3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E986-3485-4102-ACB9-B58F17B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0778-D721-4D23-B66F-37637CC3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6EBE-4F5D-4CFB-B605-BA4FA896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346D-60E3-47A7-81E0-A4C5B238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8348-BCD5-4B9A-A921-F40CE8B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0153-03BA-41FF-82FA-65D86C9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468A-3167-42AC-B455-FC5B1DAE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6726-5D10-44DF-93EB-F309195D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8D1C-89D6-43AE-80D7-4B8841F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259F-D9E3-4916-8EFF-C306B35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E4B-A1A0-40BE-A8F5-2FE1627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F00-4523-493F-B780-1AE4F03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168-DF55-4382-9343-F041F30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2C61-353E-42F3-9321-D4E4B33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38D4-2D74-4356-839B-983FF76D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0F94-269F-4CB5-BBE9-FA06E502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506-0683-4015-8C7B-9D17AF1E979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</p:grpSp>
        <p:sp>
          <p:nvSpPr>
            <p:cNvPr id="4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</p:grpSp>
        <p:sp>
          <p:nvSpPr>
            <p:cNvPr id="9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4CCE-CCB1-4502-8C94-406B579F756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71680" y="20192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407664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0920" y="1557360"/>
            <a:ext cx="864216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noAutofit/>
          </a:bodyPr>
          <a:p>
            <a:pPr marL="1600200" indent="-22860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386064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8120" y="390240"/>
            <a:ext cx="77742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ZALOŽENÍ a VZNIK FONDU KVALIFIKOVANÝCH INVESTORŮ</a:t>
            </a:r>
            <a:br>
              <a:rPr sz="4000"/>
            </a:br>
            <a:r>
              <a:rPr b="1" lang="cs-CZ" sz="2400" spc="-1" strike="noStrike">
                <a:solidFill>
                  <a:srgbClr val="ff9933"/>
                </a:solidFill>
                <a:latin typeface="Arial Unicode MS"/>
              </a:rPr>
              <a:t>(Case study ZISIF ve světle AIFMD)</a:t>
            </a:r>
            <a:br>
              <a:rPr sz="2800"/>
            </a:br>
            <a:br>
              <a:rPr sz="4000"/>
            </a:br>
            <a:r>
              <a:rPr b="1" lang="pl-PL" sz="4000" spc="-1" strike="noStrike">
                <a:solidFill>
                  <a:srgbClr val="ff9933"/>
                </a:solidFill>
                <a:latin typeface="Arial"/>
              </a:rPr>
              <a:t>JUDr. Michaela Bujňáková</a:t>
            </a:r>
            <a:br>
              <a:rPr sz="4000"/>
            </a:br>
            <a:r>
              <a:rPr b="0" i="1" lang="en-US" sz="2400" spc="-1" strike="noStrike">
                <a:solidFill>
                  <a:srgbClr val="ff9933"/>
                </a:solidFill>
                <a:latin typeface="Garamond"/>
              </a:rPr>
              <a:t>Praha 19.</a:t>
            </a:r>
            <a:r>
              <a:rPr b="0" i="1" lang="cs-CZ" sz="2400" spc="-1" strike="noStrike">
                <a:solidFill>
                  <a:srgbClr val="ff9933"/>
                </a:solidFill>
                <a:latin typeface="Garamond"/>
              </a:rPr>
              <a:t>4</a:t>
            </a:r>
            <a:r>
              <a:rPr b="0" i="1" lang="en-US" sz="2400" spc="-1" strike="noStrike">
                <a:solidFill>
                  <a:srgbClr val="ff9933"/>
                </a:solidFill>
                <a:latin typeface="Garamond"/>
              </a:rPr>
              <a:t> 2013, hotel Sheraton</a:t>
            </a:r>
            <a:br>
              <a:rPr sz="2400"/>
            </a:br>
            <a:r>
              <a:rPr b="0" i="1" lang="en-US" sz="2400" spc="-1" strike="noStrike">
                <a:solidFill>
                  <a:srgbClr val="ff9933"/>
                </a:solidFill>
                <a:latin typeface="Garamond"/>
              </a:rPr>
              <a:t>Next Steps in Asset Management, AKAT ČR/SA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33"/>
                </a:solidFill>
                <a:latin typeface="Footlight MT Light"/>
              </a:rPr>
              <a:t>Výhrada prezent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	</a:t>
            </a:r>
            <a:r>
              <a:rPr b="0" i="1" lang="cs-CZ" sz="2400" spc="-1" strike="noStrike">
                <a:solidFill>
                  <a:srgbClr val="e5e5ff"/>
                </a:solidFill>
                <a:latin typeface="Arial Unicode MS"/>
              </a:rPr>
              <a:t>Obsah zobrazený v této prezentaci, jakož i ústní projev, odráží výlučně individuální názory, hodnocení a přístup autorky k dané problematice, jež se nemusí shodovat s názory či hodnoceními Ministerstva financí ani nepředstavují jeho oficiální pozic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5e5ff"/>
                </a:solidFill>
                <a:latin typeface="Arial Unicode MS"/>
              </a:rPr>
              <a:t>	</a:t>
            </a:r>
            <a:r>
              <a:rPr b="0" i="1" lang="cs-CZ" sz="2400" spc="-1" strike="noStrike">
                <a:solidFill>
                  <a:srgbClr val="e5e5ff"/>
                </a:solidFill>
                <a:latin typeface="Arial Unicode MS"/>
              </a:rPr>
              <a:t>Přestože autorka připravil prezentaci s veškerou náležitou péčí, činí tak bez nároku na úplnost a přesnost obsažených informací.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57200" y="1295280"/>
            <a:ext cx="813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ZALOŽENÍ a VZNIK FONDU KVALIFIKOVANÝCH INVESTORŮ</a:t>
            </a:r>
            <a:br>
              <a:rPr sz="3600"/>
            </a:b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(„FKVI“) I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odelový přípa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: osoba hodlá založit FKVI s následujícími vlastnostm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anditní společnost na investiční lis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nd kvalifikovaných investorů, který je samosprávným investičním fond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ZALOŽENÍ a VZNIK FONDU KVALIFIKOVANÝCH INVESTORŮ</a:t>
            </a:r>
            <a:br>
              <a:rPr sz="3600"/>
            </a:b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(„FKVI“) II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aložení FKVI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enská smlouva (Z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nik FVKI (den vzniku oprávnění k obhospodařování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m nabytí právní moci rozhodnutí ČNB o udělení povolení k činnosti FVKI (je-li osoba zapsána v 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m zápisu do OR(není-li osoba zapsána do 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KOMANDITNÍ SPOLEČNOST NA INVESTIČNÍ LISTY </a:t>
            </a:r>
            <a:br>
              <a:rPr sz="3600"/>
            </a:b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(„KSIL“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§ 170 – 182 ZIS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!) zvláštní právní forma, jedná se pouze o odchylku od komanditní společnosti dle Z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je se pouze pro investiční fo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SIL podle ZISIF až od 1.1.20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iční list (vtělení podílu), převoditelnost není omezena nebo podmíně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ěkteré odchylky od ZOK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ráva splacených vklad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kladová povinn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hodování společ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loučení komplementář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manditní společnost pouze s 1 komplementář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SAMOSPRÁVNÝ INVESTIČNÍ FOND („SIF“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volení ČNB k činnosti SIF dle ZIS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hůta: 3 měsíce (resp. 3+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rávní poplatek: 50 000 Kč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k rozhodnutí obsahuj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oprávnění přesáhnout rozhodný lim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„typ“ investičního fon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) oprávnění provádět svou vlastní administrac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oučasně rozhodne o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doucích osobách a kvalifikované úča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pis a výmaz se sezna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9933"/>
                </a:solidFill>
                <a:latin typeface="Arial"/>
              </a:rPr>
              <a:t>ZRUŠENÍ A ZÁNIK FKV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rušení FKVI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ecné důvody podle NOZ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nětí povolení – FKVI se zrušuje s likvidací ke dni odnětí povolení;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to neplat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má-li se stát nesamosprávným fond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lze změnit předmět podnik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ánik FV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m výmazu z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9933"/>
                </a:solidFill>
                <a:latin typeface="Arial"/>
              </a:rPr>
              <a:t>Děkuji za pozorno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Arial Unicode MS"/>
              </a:rPr>
              <a:t>kapitalovy.trh@mfcr.c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5:22:43Z</dcterms:created>
  <dc:creator>Jana</dc:creator>
  <dc:description/>
  <dc:language>en-US</dc:language>
  <cp:lastModifiedBy>Jana Michalíková - AKAT</cp:lastModifiedBy>
  <dcterms:modified xsi:type="dcterms:W3CDTF">2013-04-17T19:21:56Z</dcterms:modified>
  <cp:revision>231</cp:revision>
  <dc:subject/>
  <dc:title>PowerPoint Presentation</dc:title>
</cp:coreProperties>
</file>