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7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30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35.png" ContentType="image/png"/>
  <Override PartName="/ppt/media/image43.jpeg" ContentType="image/jpeg"/>
  <Override PartName="/ppt/media/image39.png" ContentType="image/png"/>
  <Override PartName="/ppt/media/image28.png" ContentType="image/png"/>
  <Override PartName="/ppt/media/image38.jpeg" ContentType="image/jpeg"/>
  <Override PartName="/ppt/media/image1.wmf" ContentType="image/x-wmf"/>
  <Override PartName="/ppt/media/image32.png" ContentType="image/png"/>
  <Override PartName="/ppt/media/image41.jpeg" ContentType="image/jpeg"/>
  <Override PartName="/ppt/media/image4.wmf" ContentType="image/x-wmf"/>
  <Override PartName="/ppt/media/image7.wmf" ContentType="image/x-wmf"/>
  <Override PartName="/ppt/media/image20.jpeg" ContentType="image/jpeg"/>
  <Override PartName="/ppt/media/image6.wmf" ContentType="image/x-wmf"/>
  <Override PartName="/ppt/media/image40.jpeg" ContentType="image/jpeg"/>
  <Override PartName="/ppt/media/image13.jpeg" ContentType="image/jpeg"/>
  <Override PartName="/ppt/media/image3.wmf" ContentType="image/x-wmf"/>
  <Override PartName="/ppt/media/image15.jpeg" ContentType="image/jpeg"/>
  <Override PartName="/ppt/media/image12.png" ContentType="image/png"/>
  <Override PartName="/ppt/media/image2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871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280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dt" idx="4"/>
          </p:nvPr>
        </p:nvSpPr>
        <p:spPr>
          <a:xfrm>
            <a:off x="5590800" y="0"/>
            <a:ext cx="4280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body"/>
          </p:nvPr>
        </p:nvSpPr>
        <p:spPr>
          <a:xfrm>
            <a:off x="987480" y="3228840"/>
            <a:ext cx="78976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ftr" idx="5"/>
          </p:nvPr>
        </p:nvSpPr>
        <p:spPr>
          <a:xfrm>
            <a:off x="-36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 type="sldNum" idx="6"/>
          </p:nvPr>
        </p:nvSpPr>
        <p:spPr>
          <a:xfrm>
            <a:off x="55908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BB5F-B059-4200-A935-B08026132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87480" y="3228840"/>
            <a:ext cx="789768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de je možné pohovořit o našich zkušenostech s mnoha typy podpor, které jsou financovány z různých zdrojů. Zdůraznit, že OP PI byl jediný operační program v období 2007-13, který využíval finanční nástroje. Máme banku ČMZRB, která je nyní již 100 % vlastněná státem a která spolupracuje s řadou bank na českém trhu, zejména při implementaci záručních programů, Finalizujeme projekt Seed fond, který poprvé v praxi otestuje možnosti poskytování rizikového kapitálu z prostředků strukturálních fondů. Rozběhl se i program Inostart, který kombinuje poskytování záruk za úvěry ČMZRB, úvěrování malých podnikatelů vysoutěženou bankou a poskytování zvýhodněných poradenských sužeb. Implementační schémata jednotlivých systémů budou rozvedena dá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8BC-6826-4F5E-A177-613EB640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A14-4554-45EE-AA72-CDF53791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933-C886-4D18-B2AF-83E32C88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C63-BFD9-4C24-A26D-3186587F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9ABF-E5EB-4841-AA26-2B141279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35D-B7A1-4335-A47D-AD11603F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80F9-F11C-4183-8FF3-CA020CFA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E3E-11DF-4805-A944-758BC07D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933-1BDB-4F56-9250-3397B764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D7D-A243-49C8-A731-300229B3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FDB-CDB3-4B58-9924-A2437841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33A-A1BF-4473-BF92-83E64473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21.xml"/><Relationship Id="rId13" Type="http://schemas.openxmlformats.org/officeDocument/2006/relationships/slideLayout" Target="../slideLayouts/slideLayout122.xml"/><Relationship Id="rId14" Type="http://schemas.openxmlformats.org/officeDocument/2006/relationships/slideLayout" Target="../slideLayouts/slideLayout123.xml"/><Relationship Id="rId15" Type="http://schemas.openxmlformats.org/officeDocument/2006/relationships/slideLayout" Target="../slideLayouts/slideLayout124.xml"/><Relationship Id="rId16" Type="http://schemas.openxmlformats.org/officeDocument/2006/relationships/slideLayout" Target="../slideLayouts/slideLayout125.xml"/><Relationship Id="rId17" Type="http://schemas.openxmlformats.org/officeDocument/2006/relationships/slideLayout" Target="../slideLayouts/slideLayout126.xml"/><Relationship Id="rId18" Type="http://schemas.openxmlformats.org/officeDocument/2006/relationships/slideLayout" Target="../slideLayouts/slideLayout127.xml"/><Relationship Id="rId19" Type="http://schemas.openxmlformats.org/officeDocument/2006/relationships/slideLayout" Target="../slideLayouts/slideLayout128.xml"/><Relationship Id="rId20" Type="http://schemas.openxmlformats.org/officeDocument/2006/relationships/slideLayout" Target="../slideLayouts/slideLayout129.xml"/><Relationship Id="rId21" Type="http://schemas.openxmlformats.org/officeDocument/2006/relationships/slideLayout" Target="../slideLayouts/slideLayout130.xml"/><Relationship Id="rId22" Type="http://schemas.openxmlformats.org/officeDocument/2006/relationships/slideLayout" Target="../slideLayouts/slideLayout131.xml"/><Relationship Id="rId2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33.xml"/><Relationship Id="rId13" Type="http://schemas.openxmlformats.org/officeDocument/2006/relationships/slideLayout" Target="../slideLayouts/slideLayout134.xml"/><Relationship Id="rId14" Type="http://schemas.openxmlformats.org/officeDocument/2006/relationships/slideLayout" Target="../slideLayouts/slideLayout135.xml"/><Relationship Id="rId15" Type="http://schemas.openxmlformats.org/officeDocument/2006/relationships/slideLayout" Target="../slideLayouts/slideLayout136.xml"/><Relationship Id="rId16" Type="http://schemas.openxmlformats.org/officeDocument/2006/relationships/slideLayout" Target="../slideLayouts/slideLayout137.xml"/><Relationship Id="rId17" Type="http://schemas.openxmlformats.org/officeDocument/2006/relationships/slideLayout" Target="../slideLayouts/slideLayout138.xml"/><Relationship Id="rId18" Type="http://schemas.openxmlformats.org/officeDocument/2006/relationships/slideLayout" Target="../slideLayouts/slideLayout139.xml"/><Relationship Id="rId19" Type="http://schemas.openxmlformats.org/officeDocument/2006/relationships/slideLayout" Target="../slideLayouts/slideLayout140.xml"/><Relationship Id="rId20" Type="http://schemas.openxmlformats.org/officeDocument/2006/relationships/slideLayout" Target="../slideLayouts/slideLayout141.xml"/><Relationship Id="rId21" Type="http://schemas.openxmlformats.org/officeDocument/2006/relationships/slideLayout" Target="../slideLayouts/slideLayout142.xml"/><Relationship Id="rId22" Type="http://schemas.openxmlformats.org/officeDocument/2006/relationships/slideLayout" Target="../slideLayouts/slideLayout143.xml"/><Relationship Id="rId2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ovéPole 9"/>
          <p:cNvSpPr/>
          <p:nvPr/>
        </p:nvSpPr>
        <p:spPr>
          <a:xfrm>
            <a:off x="2771640" y="6100920"/>
            <a:ext cx="18766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Ing. Martin Kocourek</a:t>
            </a:r>
            <a:br>
              <a:rPr sz="900"/>
            </a:b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ministr průmyslu a obchod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ZPĚT NA VRCHOL – INSTITUCE, INOVACE A INFRASTRUK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bdélník 11"/>
          <p:cNvSpPr/>
          <p:nvPr/>
        </p:nvSpPr>
        <p:spPr>
          <a:xfrm>
            <a:off x="0" y="-7308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0" y="5975280"/>
            <a:ext cx="9144000" cy="88272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D:\3 Projekty\MPO\prezentace OPPI\podklady\EU2.wmf"/>
          <p:cNvPicPr/>
          <p:nvPr/>
        </p:nvPicPr>
        <p:blipFill>
          <a:blip r:embed="rId2"/>
          <a:stretch/>
        </p:blipFill>
        <p:spPr>
          <a:xfrm>
            <a:off x="5796000" y="6168960"/>
            <a:ext cx="2921040" cy="5158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D:\3 Projekty\MPO\prezentace OPPI\podklady\OPPI-white.wmf"/>
          <p:cNvPicPr/>
          <p:nvPr/>
        </p:nvPicPr>
        <p:blipFill>
          <a:blip r:embed="rId3"/>
          <a:stretch/>
        </p:blipFill>
        <p:spPr>
          <a:xfrm>
            <a:off x="295200" y="6173640"/>
            <a:ext cx="1573200" cy="5112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4"/>
          <a:stretch/>
        </p:blipFill>
        <p:spPr>
          <a:xfrm>
            <a:off x="3146400" y="6100920"/>
            <a:ext cx="1243080" cy="5839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2"/>
          <a:stretch/>
        </p:blipFill>
        <p:spPr>
          <a:xfrm>
            <a:off x="50911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446" name="Obdélník 6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ovéPole 9"/>
          <p:cNvSpPr/>
          <p:nvPr/>
        </p:nvSpPr>
        <p:spPr>
          <a:xfrm>
            <a:off x="2771640" y="6100920"/>
            <a:ext cx="157824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</a:rPr>
              <a:t>Ing. Petr Očko, Ph.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</a:rPr>
              <a:t>ředitel sekce fondů EU, výzkumu a vývo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bdélník 9"/>
          <p:cNvSpPr/>
          <p:nvPr/>
        </p:nvSpPr>
        <p:spPr>
          <a:xfrm>
            <a:off x="0" y="0"/>
            <a:ext cx="9144000" cy="62056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bdélník 7"/>
          <p:cNvSpPr/>
          <p:nvPr/>
        </p:nvSpPr>
        <p:spPr>
          <a:xfrm>
            <a:off x="4851360" y="2844720"/>
            <a:ext cx="4292640" cy="40132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bdélník 8"/>
          <p:cNvSpPr/>
          <p:nvPr/>
        </p:nvSpPr>
        <p:spPr>
          <a:xfrm>
            <a:off x="0" y="5654520"/>
            <a:ext cx="2320920" cy="12034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5" descr=""/>
          <p:cNvPicPr/>
          <p:nvPr/>
        </p:nvPicPr>
        <p:blipFill>
          <a:blip r:embed="rId3"/>
          <a:stretch/>
        </p:blipFill>
        <p:spPr>
          <a:xfrm>
            <a:off x="5091120" y="3632040"/>
            <a:ext cx="4052880" cy="32259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"/>
          <p:cNvPicPr/>
          <p:nvPr/>
        </p:nvPicPr>
        <p:blipFill>
          <a:blip r:embed="rId4"/>
          <a:stretch/>
        </p:blipFill>
        <p:spPr>
          <a:xfrm>
            <a:off x="297000" y="5867280"/>
            <a:ext cx="1722240" cy="8114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4220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b5f4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13b5f4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44240" y="999720"/>
            <a:ext cx="8242200" cy="465444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0" bIns="0" anchor="t">
            <a:normAutofit/>
          </a:bodyPr>
          <a:p>
            <a:pPr marL="360360" indent="-3603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1" marL="720720" indent="-36036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2" marL="1073160" indent="-3524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3" marL="1434960" indent="-3618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4" marL="1795320" indent="-36036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5" marL="1795320" indent="-36036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6" marL="1795320" indent="-36036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2"/>
    <p:sldLayoutId id="2147483780" r:id="rId13"/>
    <p:sldLayoutId id="2147483781" r:id="rId14"/>
    <p:sldLayoutId id="2147483782" r:id="rId15"/>
    <p:sldLayoutId id="2147483783" r:id="rId16"/>
    <p:sldLayoutId id="2147483784" r:id="rId17"/>
    <p:sldLayoutId id="2147483785" r:id="rId18"/>
    <p:sldLayoutId id="2147483786" r:id="rId19"/>
    <p:sldLayoutId id="2147483787" r:id="rId20"/>
    <p:sldLayoutId id="2147483788" r:id="rId21"/>
    <p:sldLayoutId id="2147483789" r:id="rId22"/>
    <p:sldLayoutId id="2147483790" r:id="rId2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"/>
          <p:cNvPicPr/>
          <p:nvPr/>
        </p:nvPicPr>
        <p:blipFill>
          <a:blip r:embed="rId2"/>
          <a:stretch/>
        </p:blipFill>
        <p:spPr>
          <a:xfrm>
            <a:off x="50911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493" name="Obdélník 6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ovéPole 9"/>
          <p:cNvSpPr/>
          <p:nvPr/>
        </p:nvSpPr>
        <p:spPr>
          <a:xfrm>
            <a:off x="2771640" y="6100920"/>
            <a:ext cx="157824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</a:rPr>
              <a:t>Ing. Petr Očko, Ph.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</a:rPr>
              <a:t>ředitel sekce fondů EU, výzkumu a vývo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bdélník 9"/>
          <p:cNvSpPr/>
          <p:nvPr/>
        </p:nvSpPr>
        <p:spPr>
          <a:xfrm>
            <a:off x="0" y="0"/>
            <a:ext cx="9144000" cy="62056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bdélník 7"/>
          <p:cNvSpPr/>
          <p:nvPr/>
        </p:nvSpPr>
        <p:spPr>
          <a:xfrm>
            <a:off x="4851360" y="2844720"/>
            <a:ext cx="4292640" cy="40132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bdélník 8"/>
          <p:cNvSpPr/>
          <p:nvPr/>
        </p:nvSpPr>
        <p:spPr>
          <a:xfrm>
            <a:off x="0" y="5654520"/>
            <a:ext cx="2320920" cy="12034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5091120" y="3632040"/>
            <a:ext cx="4052880" cy="32259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4"/>
          <a:stretch/>
        </p:blipFill>
        <p:spPr>
          <a:xfrm>
            <a:off x="297000" y="5867280"/>
            <a:ext cx="1722240" cy="81144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4220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b5f4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13b5f4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44240" y="999720"/>
            <a:ext cx="8242200" cy="465444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0" bIns="0" anchor="t">
            <a:normAutofit/>
          </a:bodyPr>
          <a:p>
            <a:pPr marL="360360" indent="-3603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1" marL="720720" indent="-36036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2" marL="1073160" indent="-3524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3" marL="1434960" indent="-3618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4" marL="1795320" indent="-36036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5" marL="1795320" indent="-36036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6" marL="1795320" indent="-36036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2"/>
    <p:sldLayoutId id="2147483793" r:id="rId13"/>
    <p:sldLayoutId id="2147483794" r:id="rId14"/>
    <p:sldLayoutId id="2147483795" r:id="rId15"/>
    <p:sldLayoutId id="2147483796" r:id="rId16"/>
    <p:sldLayoutId id="2147483797" r:id="rId17"/>
    <p:sldLayoutId id="2147483798" r:id="rId18"/>
    <p:sldLayoutId id="2147483799" r:id="rId19"/>
    <p:sldLayoutId id="2147483800" r:id="rId20"/>
    <p:sldLayoutId id="2147483801" r:id="rId21"/>
    <p:sldLayoutId id="2147483802" r:id="rId22"/>
    <p:sldLayoutId id="2147483803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5764-9846-4200-9F81-4691665B5CE9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50911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83" name="Obdélník 6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4220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b5f4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13b5f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44240" y="999720"/>
            <a:ext cx="8242200" cy="465444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0" bIns="0" anchor="t">
            <a:normAutofit/>
          </a:bodyPr>
          <a:p>
            <a:pPr marL="360360" indent="-3603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1" marL="720720" indent="-3603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2" marL="1073160" indent="-3524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3" marL="1434960" indent="-3618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4" marL="1795320" indent="-3603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5" marL="1795320" indent="-36036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6" marL="1795320" indent="-36036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</p:txBody>
      </p:sp>
      <p:sp>
        <p:nvSpPr>
          <p:cNvPr id="86" name="TextovéPole 9"/>
          <p:cNvSpPr/>
          <p:nvPr/>
        </p:nvSpPr>
        <p:spPr>
          <a:xfrm>
            <a:off x="2771640" y="6100920"/>
            <a:ext cx="157824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</a:rPr>
              <a:t>Ing. Petr Očko, Ph.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</a:rPr>
              <a:t>ředitel sekce fondů EU, výzkumu a vývo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9"/>
          <p:cNvSpPr/>
          <p:nvPr/>
        </p:nvSpPr>
        <p:spPr>
          <a:xfrm>
            <a:off x="2771640" y="6100920"/>
            <a:ext cx="18766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Ing. Martin Kocourek</a:t>
            </a:r>
            <a:br>
              <a:rPr sz="900"/>
            </a:b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ministr průmyslu a obchod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ZPĚT NA VRCHOL – INSTITUCE, INOVACE A INFRASTRUK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bdélník 10"/>
          <p:cNvSpPr/>
          <p:nvPr/>
        </p:nvSpPr>
        <p:spPr>
          <a:xfrm>
            <a:off x="4851360" y="2844720"/>
            <a:ext cx="4292640" cy="40132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délník 8"/>
          <p:cNvSpPr/>
          <p:nvPr/>
        </p:nvSpPr>
        <p:spPr>
          <a:xfrm>
            <a:off x="0" y="5654520"/>
            <a:ext cx="2320920" cy="12034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320920" y="6021360"/>
            <a:ext cx="2174760" cy="83664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5100480" y="2759040"/>
            <a:ext cx="4052880" cy="3225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D:\3 Projekty\MPO\prezentace OPPI\podklady\EU2.wmf"/>
          <p:cNvPicPr/>
          <p:nvPr/>
        </p:nvPicPr>
        <p:blipFill>
          <a:blip r:embed="rId4"/>
          <a:stretch/>
        </p:blipFill>
        <p:spPr>
          <a:xfrm>
            <a:off x="5796000" y="6168960"/>
            <a:ext cx="2921040" cy="5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D:\3 Projekty\MPO\prezentace OPPI\podklady\OPPI-white.wmf"/>
          <p:cNvPicPr/>
          <p:nvPr/>
        </p:nvPicPr>
        <p:blipFill>
          <a:blip r:embed="rId5"/>
          <a:stretch/>
        </p:blipFill>
        <p:spPr>
          <a:xfrm>
            <a:off x="295200" y="6173640"/>
            <a:ext cx="1573200" cy="511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6"/>
          <a:stretch/>
        </p:blipFill>
        <p:spPr>
          <a:xfrm>
            <a:off x="3146400" y="6100920"/>
            <a:ext cx="1243080" cy="583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173" name="TextovéPole 9"/>
          <p:cNvSpPr/>
          <p:nvPr/>
        </p:nvSpPr>
        <p:spPr>
          <a:xfrm>
            <a:off x="2771640" y="6100920"/>
            <a:ext cx="18766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Ing. Martin Kocourek</a:t>
            </a:r>
            <a:br>
              <a:rPr sz="900"/>
            </a:b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ministr průmyslu a obchod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ZPĚT NA VRCHOL – INSTITUCE, INOVACE A INFRASTRUK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bdélník 11"/>
          <p:cNvSpPr/>
          <p:nvPr/>
        </p:nvSpPr>
        <p:spPr>
          <a:xfrm>
            <a:off x="0" y="-7308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5975280"/>
            <a:ext cx="9144000" cy="88272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D:\3 Projekty\MPO\prezentace OPPI\podklady\EU2.wmf"/>
          <p:cNvPicPr/>
          <p:nvPr/>
        </p:nvPicPr>
        <p:blipFill>
          <a:blip r:embed="rId3"/>
          <a:stretch/>
        </p:blipFill>
        <p:spPr>
          <a:xfrm>
            <a:off x="5796000" y="6168960"/>
            <a:ext cx="2921040" cy="515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D:\3 Projekty\MPO\prezentace OPPI\podklady\OPPI-white.wmf"/>
          <p:cNvPicPr/>
          <p:nvPr/>
        </p:nvPicPr>
        <p:blipFill>
          <a:blip r:embed="rId4"/>
          <a:stretch/>
        </p:blipFill>
        <p:spPr>
          <a:xfrm>
            <a:off x="295200" y="6173640"/>
            <a:ext cx="1573200" cy="511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5"/>
          <a:stretch/>
        </p:blipFill>
        <p:spPr>
          <a:xfrm>
            <a:off x="3146400" y="6100920"/>
            <a:ext cx="1243080" cy="583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219" name="TextovéPole 9"/>
          <p:cNvSpPr/>
          <p:nvPr/>
        </p:nvSpPr>
        <p:spPr>
          <a:xfrm>
            <a:off x="2771640" y="6100920"/>
            <a:ext cx="18766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Ing. Martin Kocourek</a:t>
            </a:r>
            <a:br>
              <a:rPr sz="900"/>
            </a:b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ministr průmyslu a obchod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ZPĚT NA VRCHOL – INSTITUCE, INOVACE A INFRASTRUK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bdélník 11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5975280"/>
            <a:ext cx="9144000" cy="88272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D:\3 Projekty\MPO\prezentace OPPI\podklady\EU2.wmf"/>
          <p:cNvPicPr/>
          <p:nvPr/>
        </p:nvPicPr>
        <p:blipFill>
          <a:blip r:embed="rId3"/>
          <a:stretch/>
        </p:blipFill>
        <p:spPr>
          <a:xfrm>
            <a:off x="5796000" y="6168960"/>
            <a:ext cx="2921040" cy="515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D:\3 Projekty\MPO\prezentace OPPI\podklady\OPPI-white.wmf"/>
          <p:cNvPicPr/>
          <p:nvPr/>
        </p:nvPicPr>
        <p:blipFill>
          <a:blip r:embed="rId4"/>
          <a:stretch/>
        </p:blipFill>
        <p:spPr>
          <a:xfrm>
            <a:off x="295200" y="6173640"/>
            <a:ext cx="1573200" cy="511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5"/>
          <a:stretch/>
        </p:blipFill>
        <p:spPr>
          <a:xfrm>
            <a:off x="3146400" y="6100920"/>
            <a:ext cx="1243080" cy="583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265" name="TextovéPole 9"/>
          <p:cNvSpPr/>
          <p:nvPr/>
        </p:nvSpPr>
        <p:spPr>
          <a:xfrm>
            <a:off x="2771640" y="6100920"/>
            <a:ext cx="18766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Ing. Martin Kocourek</a:t>
            </a:r>
            <a:br>
              <a:rPr sz="900"/>
            </a:b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ministr průmyslu a obchod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ZPĚT NA VRCHOL – INSTITUCE, INOVACE A INFRASTRUK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bdélník 11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0" y="5975280"/>
            <a:ext cx="9144000" cy="88272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D:\3 Projekty\MPO\prezentace OPPI\podklady\EU2.wmf"/>
          <p:cNvPicPr/>
          <p:nvPr/>
        </p:nvPicPr>
        <p:blipFill>
          <a:blip r:embed="rId3"/>
          <a:stretch/>
        </p:blipFill>
        <p:spPr>
          <a:xfrm>
            <a:off x="5796000" y="6168960"/>
            <a:ext cx="2921040" cy="515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:\3 Projekty\MPO\prezentace OPPI\podklady\OPPI-white.wmf"/>
          <p:cNvPicPr/>
          <p:nvPr/>
        </p:nvPicPr>
        <p:blipFill>
          <a:blip r:embed="rId4"/>
          <a:stretch/>
        </p:blipFill>
        <p:spPr>
          <a:xfrm>
            <a:off x="295200" y="6173640"/>
            <a:ext cx="1573200" cy="511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"/>
          <p:cNvPicPr/>
          <p:nvPr/>
        </p:nvPicPr>
        <p:blipFill>
          <a:blip r:embed="rId5"/>
          <a:stretch/>
        </p:blipFill>
        <p:spPr>
          <a:xfrm>
            <a:off x="3146400" y="6100920"/>
            <a:ext cx="1243080" cy="5839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311" name="TextovéPole 9"/>
          <p:cNvSpPr/>
          <p:nvPr/>
        </p:nvSpPr>
        <p:spPr>
          <a:xfrm>
            <a:off x="2771640" y="6100920"/>
            <a:ext cx="18766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Ing. Martin Kocourek</a:t>
            </a:r>
            <a:br>
              <a:rPr sz="900"/>
            </a:b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ministr průmyslu a obchod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ZPĚT NA VRCHOL – INSTITUCE, INOVACE A INFRASTRUK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délník 11"/>
          <p:cNvSpPr/>
          <p:nvPr/>
        </p:nvSpPr>
        <p:spPr>
          <a:xfrm>
            <a:off x="0" y="-7308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5975280"/>
            <a:ext cx="9144000" cy="88272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8" descr="D:\3 Projekty\MPO\prezentace OPPI\podklady\EU2.wmf"/>
          <p:cNvPicPr/>
          <p:nvPr/>
        </p:nvPicPr>
        <p:blipFill>
          <a:blip r:embed="rId3"/>
          <a:stretch/>
        </p:blipFill>
        <p:spPr>
          <a:xfrm>
            <a:off x="5796000" y="6168960"/>
            <a:ext cx="2921040" cy="515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D:\3 Projekty\MPO\prezentace OPPI\podklady\OPPI-white.wmf"/>
          <p:cNvPicPr/>
          <p:nvPr/>
        </p:nvPicPr>
        <p:blipFill>
          <a:blip r:embed="rId4"/>
          <a:stretch/>
        </p:blipFill>
        <p:spPr>
          <a:xfrm>
            <a:off x="295200" y="6173640"/>
            <a:ext cx="1573200" cy="511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5"/>
          <a:stretch/>
        </p:blipFill>
        <p:spPr>
          <a:xfrm>
            <a:off x="3146400" y="6100920"/>
            <a:ext cx="1243080" cy="5839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357" name="TextovéPole 9"/>
          <p:cNvSpPr/>
          <p:nvPr/>
        </p:nvSpPr>
        <p:spPr>
          <a:xfrm>
            <a:off x="2771640" y="6100920"/>
            <a:ext cx="18766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Ing. Martin Kocourek</a:t>
            </a:r>
            <a:br>
              <a:rPr sz="900"/>
            </a:b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ministr průmyslu a obchod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ZPĚT NA VRCHOL – INSTITUCE, INOVACE A INFRASTRUK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bdélník 11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0" y="5975280"/>
            <a:ext cx="9144000" cy="88272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D:\3 Projekty\MPO\prezentace OPPI\podklady\EU2.wmf"/>
          <p:cNvPicPr/>
          <p:nvPr/>
        </p:nvPicPr>
        <p:blipFill>
          <a:blip r:embed="rId3"/>
          <a:stretch/>
        </p:blipFill>
        <p:spPr>
          <a:xfrm>
            <a:off x="5796000" y="6168960"/>
            <a:ext cx="2921040" cy="515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D:\3 Projekty\MPO\prezentace OPPI\podklady\OPPI-white.wmf"/>
          <p:cNvPicPr/>
          <p:nvPr/>
        </p:nvPicPr>
        <p:blipFill>
          <a:blip r:embed="rId4"/>
          <a:stretch/>
        </p:blipFill>
        <p:spPr>
          <a:xfrm>
            <a:off x="295200" y="6173640"/>
            <a:ext cx="1573200" cy="5112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5"/>
          <a:stretch/>
        </p:blipFill>
        <p:spPr>
          <a:xfrm>
            <a:off x="3146400" y="6100920"/>
            <a:ext cx="1243080" cy="5839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wmf"/><Relationship Id="rId3" Type="http://schemas.openxmlformats.org/officeDocument/2006/relationships/image" Target="../media/image22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22.png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2.png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22.png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wmf"/><Relationship Id="rId3" Type="http://schemas.openxmlformats.org/officeDocument/2006/relationships/image" Target="../media/image22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v&#283;deckotechnick&#253;+park&amp;source=images&amp;cd=&amp;cad=rja&amp;docid=NmbKs9zsDkAveM&amp;tbnid=yOwPA_rLUTNtFM:&amp;ved=&amp;url=http%3A%2F%2Fwww.kraj-jihocesky.cz%2Findex.php%3Fpar%255Bid_v%255D%3D1365%26par%255Blang%255D%3D&amp;ei=35prUfjOOtKQ4ASO3IHIBA&amp;bvm=bv.45175338,d.bGE&amp;psig=AFQjCNHKE99e-iSs6R0RMsv_FLgKTjfkFQ&amp;ust=1366092896366827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z/url?sa=i&amp;rct=j&amp;q=Podniaktelsk&#253;+inkub&#225;tor+Ostrava&amp;source=images&amp;cd=&amp;cad=rja&amp;docid=RvLSTFs3vhxwlM&amp;tbnid=UcxiuzGqlGaXuM:&amp;ved=&amp;url=http%3A%2F%2Fwww.facebook.com%2FPodnikatelskyInkubator%3Fsk%3Dwall%26filter%3D1&amp;ei=L5trUfuSGc7Y4QTDmoDwDg&amp;bvm=bv.45175338,d.bGE&amp;psig=AFQjCNFCBTltKapAb1nWfgVqRJF69939Lw&amp;ust=1366092975870407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google.cz/url?sa=i&amp;rct=j&amp;q=nanotechnologie&amp;source=images&amp;cd=&amp;cad=rja&amp;docid=tk9nFXr45PZOVM&amp;tbnid=RTFGFE9IGMpVpM:&amp;ved=&amp;url=http%3A%2F%2Fcomputerworld.cz%2Ftechnologie%2Fdalsi-triumf-nanotechnologie-jediny-atom-jako-tranzistor-44621&amp;ei=1ZtrUf7fKJKM4gTC1YGYDg&amp;bvm=bv.45175338,d.bGE&amp;psig=AFQjCNEeYJhQZ7HR1wo5GGD_R5juNUU_kQ&amp;ust=1366093142065600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privat+capital&amp;source=images&amp;cd=&amp;cad=rja&amp;docid=vkMFEB-4-g9f5M&amp;tbnid=vpaKzPzwJbbsHM:&amp;ved=0CAUQjRw&amp;url=http://supercfo.typepad.com/blog/2011/02/private-equity-capital-why-you-should-invest-in-it.html&amp;ei=umRQUdeABcWItAblu4HgAw&amp;bvm=bv.44158598,d.Yms&amp;psig=AFQjCNGaZDcJn7MbvdQEeSsg1Yv3xhotyQ&amp;ust=1364309549067366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cz/url?sa=i&amp;rct=j&amp;q=money&amp;source=images&amp;cd=&amp;cad=rja&amp;docid=MsYip3_ZefgXQM&amp;tbnid=MPGylXcJwb410M:&amp;ved=0CAUQjRw&amp;url=http://justinchilders.blogspot.com/2011/08/proverbs-on-money.html&amp;ei=uGlQUdOxFMLQOaytgeAL&amp;bvm=bv.44158598,d.Yms&amp;psig=AFQjCNHsXOJ66uV_SQjQvQ2R1Sf8SYDWUw&amp;ust=1364310821544573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bu.edu/ceit/initiatives/rule/" TargetMode="External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hyperlink" Target="http://blogs.reuters.com/small-business/2011/08/08/10-reasons-not-to-seek-investors-for-your-startup/" TargetMode="External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22.png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2.png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22.png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8.jpeg"/><Relationship Id="rId1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22.png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9.png"/><Relationship Id="rId11" Type="http://schemas.openxmlformats.org/officeDocument/2006/relationships/hyperlink" Target="http://www.pksal.com/blog/wp-content/uploads/2011/07/ESP.jpg" TargetMode="External"/><Relationship Id="rId12" Type="http://schemas.openxmlformats.org/officeDocument/2006/relationships/image" Target="../media/image40.jpeg"/><Relationship Id="rId1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Nadpis 1"/>
          <p:cNvSpPr/>
          <p:nvPr/>
        </p:nvSpPr>
        <p:spPr>
          <a:xfrm>
            <a:off x="257040" y="450720"/>
            <a:ext cx="88869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Calibri"/>
              </a:rPr>
              <a:t>Realizace projektu Seed fond a příprava OP Podnikání a inovace pro konkurenceschop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1680" y="2733480"/>
            <a:ext cx="504036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343080" bIns="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alibri"/>
              </a:rPr>
              <a:t>Ing. Petr Očko, Ph.D.</a:t>
            </a:r>
            <a:br>
              <a:rPr sz="2200"/>
            </a:br>
            <a:r>
              <a:rPr b="1" lang="cs-CZ" sz="2200" spc="-1" strike="noStrike">
                <a:solidFill>
                  <a:srgbClr val="ffffff"/>
                </a:solidFill>
                <a:latin typeface="Calibri"/>
              </a:rPr>
              <a:t>ředitel sekce fondů EU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Obdélník 9"/>
          <p:cNvSpPr/>
          <p:nvPr/>
        </p:nvSpPr>
        <p:spPr>
          <a:xfrm>
            <a:off x="349200" y="48798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19. dubna 2013,  Praha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onference Next Steps in Asse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Zástupný symbol pro text 1"/>
          <p:cNvSpPr/>
          <p:nvPr/>
        </p:nvSpPr>
        <p:spPr>
          <a:xfrm>
            <a:off x="468360" y="620640"/>
            <a:ext cx="820728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285840" indent="-2858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Fond je konstruován jako smíšený fond rizikového kapit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Zahrnuje finanční nástroj </a:t>
            </a:r>
            <a:r>
              <a:rPr b="1" lang="cs-CZ" sz="1800" spc="-1" strike="noStrike">
                <a:solidFill>
                  <a:srgbClr val="004b8d"/>
                </a:solidFill>
                <a:latin typeface="Calibri"/>
              </a:rPr>
              <a:t>SEED </a:t>
            </a: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zaměřený na early-stage investice (firmy do 5 let stáří) a finanční nástroj </a:t>
            </a:r>
            <a:r>
              <a:rPr b="1" lang="cs-CZ" sz="1800" spc="-1" strike="noStrike">
                <a:solidFill>
                  <a:srgbClr val="004b8d"/>
                </a:solidFill>
                <a:latin typeface="Calibri"/>
              </a:rPr>
              <a:t>VENTURE </a:t>
            </a: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zaměřený na later-stage investice (firmy nad 5 l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Nadpis 2"/>
          <p:cNvSpPr/>
          <p:nvPr/>
        </p:nvSpPr>
        <p:spPr>
          <a:xfrm>
            <a:off x="468360" y="339840"/>
            <a:ext cx="839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</a:rPr>
              <a:t>Parametry Seed/VC fo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395280" y="2139840"/>
          <a:ext cx="8280360" cy="3705480"/>
        </p:xfrm>
        <a:graphic>
          <a:graphicData uri="http://schemas.openxmlformats.org/drawingml/2006/table">
            <a:tbl>
              <a:tblPr/>
              <a:tblGrid>
                <a:gridCol w="2489040"/>
                <a:gridCol w="2880000"/>
                <a:gridCol w="2911320"/>
              </a:tblGrid>
              <a:tr h="571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zpo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31.792.02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21.194.683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vní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100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400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am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Seed, Star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Expa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mit tranší na M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1,5 mil. € (na 1 inv</a:t>
                      </a: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estici</a:t>
                      </a:r>
                      <a:r>
                        <a:rPr b="0" lang="pt-BR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2,5 mil. € (na 1 inv</a:t>
                      </a: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estici</a:t>
                      </a:r>
                      <a:r>
                        <a:rPr b="0" lang="pt-BR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 ročně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díl externích investor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&lt; 50 % na zákl. kapit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&lt; 50 % na zákl. kapit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apojení koinvestor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Min. 30 % /</a:t>
                      </a:r>
                      <a:r>
                        <a:rPr b="0" i="1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de minimis</a:t>
                      </a: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 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Min. 50 % na každé inv</a:t>
                      </a: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est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výhodnění koinvestor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Kupní op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Bez výhody (</a:t>
                      </a:r>
                      <a:r>
                        <a:rPr b="0" i="1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pari passu</a:t>
                      </a: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kladba individuální in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Min. 70 % kapitál/kvazikapit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Min. 70 % kapitál/kvazikapit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ktorové zam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Bez preferenc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Bez preferenc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ografické zam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Ek. aktivita v ČR mimo Pr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Ek. aktivita v ČR mimo Pr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dhad počtu inve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125 (35 seed, 90 start-up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99760" y="843120"/>
            <a:ext cx="286524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3b5ea"/>
                </a:solidFill>
                <a:latin typeface="Calibri"/>
                <a:ea typeface="Arial"/>
              </a:rPr>
              <a:t>Budoucn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6" name="Picture 2" descr="http://www.itest.cz/automobily/img/VW/budoucnost/1.jpg"/>
          <p:cNvPicPr/>
          <p:nvPr/>
        </p:nvPicPr>
        <p:blipFill>
          <a:blip r:embed="rId1"/>
          <a:stretch/>
        </p:blipFill>
        <p:spPr>
          <a:xfrm>
            <a:off x="5049720" y="2311560"/>
            <a:ext cx="3722760" cy="26971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" descr="http://img.blesk.cz/img/1/normal480/1512369-img-elektronika-budoucnost-robot-veda.jpg"/>
          <p:cNvPicPr/>
          <p:nvPr/>
        </p:nvPicPr>
        <p:blipFill>
          <a:blip r:embed="rId2"/>
          <a:stretch/>
        </p:blipFill>
        <p:spPr>
          <a:xfrm>
            <a:off x="379440" y="2284560"/>
            <a:ext cx="42703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3b5ea"/>
                </a:solidFill>
                <a:latin typeface="Calibri"/>
                <a:ea typeface="Arial"/>
              </a:rPr>
              <a:t>Základní východiska OP PI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44240" y="1270080"/>
            <a:ext cx="8242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300"/>
              </a:spcBef>
              <a:spcAft>
                <a:spcPts val="300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4b8d"/>
                </a:solidFill>
                <a:latin typeface="Calibri"/>
              </a:rPr>
              <a:t>Nařízení E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Evropa 2020 – Evropská strategie růst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63600" indent="-363600">
              <a:spcBef>
                <a:spcPts val="300"/>
              </a:spcBef>
              <a:spcAft>
                <a:spcPts val="300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4b8d"/>
                </a:solidFill>
                <a:latin typeface="Calibri"/>
              </a:rPr>
              <a:t>Národní strategie a koncepce schválené vládo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Národní program refore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Strategie mezinárodní konkurenceschopnost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Národní inovační strateg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Koncepce podpory malých a středních podnikatelů na období 2014+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63600" indent="-363600">
              <a:spcBef>
                <a:spcPts val="300"/>
              </a:spcBef>
              <a:spcAft>
                <a:spcPts val="300"/>
              </a:spcAft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4b8d"/>
                </a:solidFill>
                <a:latin typeface="Calibri"/>
              </a:rPr>
              <a:t>Zkušenosti z období 2004-2006 a 2007-201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Potřeba úžeji vymezit strategie, snížit počet podporovaných aktivit, vytvořit indikáto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Nutnost zjednodušit implementační systém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44520" y="339840"/>
            <a:ext cx="839952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3b5ea"/>
                </a:solidFill>
                <a:latin typeface="Calibri"/>
              </a:rPr>
              <a:t>Budoucnost: Evropská strategie růstu Evropa 2020 </a:t>
            </a:r>
            <a:br>
              <a:rPr sz="2400"/>
            </a:br>
            <a:r>
              <a:rPr b="1" lang="cs-CZ" sz="2400" spc="-1" strike="noStrike">
                <a:solidFill>
                  <a:srgbClr val="13b5ea"/>
                </a:solidFill>
                <a:latin typeface="Calibri"/>
              </a:rPr>
              <a:t>OP PIK: 4 z 11 tematických cílů pro inteligentní a udržitelný rů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74600" y="1257480"/>
          <a:ext cx="7588440" cy="4495680"/>
        </p:xfrm>
        <a:graphic>
          <a:graphicData uri="http://schemas.openxmlformats.org/drawingml/2006/table">
            <a:tbl>
              <a:tblPr/>
              <a:tblGrid>
                <a:gridCol w="7588440"/>
              </a:tblGrid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osílení výzkumu, technologického rozvoje a inovac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Zlepšení přístupu k informačním a komunikačním technologiím, jejich využití a kvalit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5bd3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Zvýšení konkurenceschopnosti malých a středních podniků, odvětví zemědělství a rybářství a akvakultur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odpora přechodu na nízkouhlíkové hospodářství ve všech odvětví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Podpora přizpůsobení se změně klimatu, předcházení rizikům a řízení rizi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Ochrana životního prostředí a podpora účinného využívání zdroj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Podpora udržitelné dopravy a odstraňování překážek v klíčových síťových infrastrukturá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Podpora zaměstnanosti a podpora mobility pracovních s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Podpora sociálního začleňování a boj proti chudobě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Investice do vzdělávání, dovedností a celoživotního uče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Posilování institucionální kapacity a účinné veřejné správ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12" name="Pravá složená závorka 6"/>
          <p:cNvSpPr/>
          <p:nvPr/>
        </p:nvSpPr>
        <p:spPr>
          <a:xfrm>
            <a:off x="7853400" y="1257480"/>
            <a:ext cx="200160" cy="1685880"/>
          </a:xfrm>
          <a:custGeom>
            <a:avLst/>
            <a:gdLst>
              <a:gd name="textAreaLeft" fmla="*/ 0 w 200160"/>
              <a:gd name="textAreaRight" fmla="*/ 72360 w 200160"/>
              <a:gd name="textAreaTop" fmla="*/ 5040 h 1685880"/>
              <a:gd name="textAreaBottom" fmla="*/ 1680840 h 16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7"/>
                  <a:pt x="10800" y="214"/>
                </a:cubicBezTo>
                <a:lnTo>
                  <a:pt x="10800" y="10586"/>
                </a:lnTo>
                <a:cubicBezTo>
                  <a:pt x="10800" y="10693"/>
                  <a:pt x="16200" y="10800"/>
                  <a:pt x="21600" y="10800"/>
                </a:cubicBezTo>
                <a:cubicBezTo>
                  <a:pt x="16200" y="10800"/>
                  <a:pt x="10800" y="10907"/>
                  <a:pt x="10800" y="11014"/>
                </a:cubicBezTo>
                <a:lnTo>
                  <a:pt x="10800" y="21386"/>
                </a:lnTo>
                <a:cubicBezTo>
                  <a:pt x="10800" y="214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ovéPole 7"/>
          <p:cNvSpPr/>
          <p:nvPr/>
        </p:nvSpPr>
        <p:spPr>
          <a:xfrm>
            <a:off x="8053560" y="19242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4b8d"/>
                </a:solidFill>
                <a:latin typeface="Calibri"/>
              </a:rPr>
              <a:t>Vybrány pro OP P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380880" y="0"/>
            <a:ext cx="8256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3b5ea"/>
                </a:solidFill>
                <a:latin typeface="Calibri"/>
                <a:ea typeface="Arial"/>
              </a:rPr>
              <a:t>Proč finanční nástro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Zástupný symbol pro text 1"/>
          <p:cNvSpPr/>
          <p:nvPr/>
        </p:nvSpPr>
        <p:spPr>
          <a:xfrm>
            <a:off x="785880" y="938160"/>
            <a:ext cx="775476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Nutnost využívat finanční zdroje efektivně (reakce na finanční kriz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Působit jako katalyzátor v situacích prokazatelného selhání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Motivovat k zapojení další veřejné i soukromé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Široká škála různých nástrojů a jejich kombin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různé typy úvěrů (investiční, provozní, mikropůjčky 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záruky, nástroje sdílení riz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kapitálové vstupy (seed, startup, expansion capi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subvence k úrokovým sazbá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subvence k poplatkům  za záru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dotace, např. na technickou asistenci (zpracování projekt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dotované služby (poraden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…</a:t>
            </a: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Velká flexibilita vyu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Oval 4"/>
          <p:cNvSpPr/>
          <p:nvPr/>
        </p:nvSpPr>
        <p:spPr>
          <a:xfrm>
            <a:off x="851040" y="1123920"/>
            <a:ext cx="2052360" cy="584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ptim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5"/>
          <p:cNvSpPr/>
          <p:nvPr/>
        </p:nvSpPr>
        <p:spPr>
          <a:xfrm>
            <a:off x="3398760" y="1123920"/>
            <a:ext cx="2052720" cy="584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uboptim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6"/>
          <p:cNvSpPr/>
          <p:nvPr/>
        </p:nvSpPr>
        <p:spPr>
          <a:xfrm>
            <a:off x="5946840" y="1123920"/>
            <a:ext cx="2052720" cy="584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konomicky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neoptim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7"/>
          <p:cNvSpPr/>
          <p:nvPr/>
        </p:nvSpPr>
        <p:spPr>
          <a:xfrm>
            <a:off x="958680" y="2243160"/>
            <a:ext cx="18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itivní výnos, možné financování tr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8"/>
          <p:cNvSpPr/>
          <p:nvPr/>
        </p:nvSpPr>
        <p:spPr>
          <a:xfrm>
            <a:off x="3505320" y="2243160"/>
            <a:ext cx="1838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nosu je dosaženo, ten ale není dostatečný pro financování tr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9"/>
          <p:cNvSpPr/>
          <p:nvPr/>
        </p:nvSpPr>
        <p:spPr>
          <a:xfrm>
            <a:off x="6054840" y="2243160"/>
            <a:ext cx="1838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nos je malý nebo žádný, investice je však žádoucí pro naplnění strategických cí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0"/>
          <p:cNvSpPr/>
          <p:nvPr/>
        </p:nvSpPr>
        <p:spPr>
          <a:xfrm>
            <a:off x="1308240" y="3987720"/>
            <a:ext cx="1137960" cy="1104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1"/>
          <p:cNvSpPr/>
          <p:nvPr/>
        </p:nvSpPr>
        <p:spPr>
          <a:xfrm>
            <a:off x="911520" y="5641920"/>
            <a:ext cx="19425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ádné interv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2"/>
          <p:cNvSpPr/>
          <p:nvPr/>
        </p:nvSpPr>
        <p:spPr>
          <a:xfrm>
            <a:off x="3478320" y="5641920"/>
            <a:ext cx="1930320" cy="368280"/>
          </a:xfrm>
          <a:prstGeom prst="rect">
            <a:avLst/>
          </a:prstGeom>
          <a:solidFill>
            <a:srgbClr val="cce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ná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6152400" y="5641920"/>
            <a:ext cx="16650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tace, gra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14"/>
          <p:cNvSpPr/>
          <p:nvPr/>
        </p:nvSpPr>
        <p:spPr>
          <a:xfrm>
            <a:off x="3855960" y="3987720"/>
            <a:ext cx="1138320" cy="1104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15"/>
          <p:cNvSpPr/>
          <p:nvPr/>
        </p:nvSpPr>
        <p:spPr>
          <a:xfrm>
            <a:off x="6404040" y="3987720"/>
            <a:ext cx="1138320" cy="1104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Nadpis 1"/>
          <p:cNvSpPr/>
          <p:nvPr/>
        </p:nvSpPr>
        <p:spPr>
          <a:xfrm>
            <a:off x="444600" y="446040"/>
            <a:ext cx="825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3b5ea"/>
                </a:solidFill>
                <a:latin typeface="Calibri"/>
                <a:ea typeface="Arial"/>
              </a:rPr>
              <a:t>3 typy investičních situ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7"/>
          <p:cNvSpPr/>
          <p:nvPr/>
        </p:nvSpPr>
        <p:spPr>
          <a:xfrm>
            <a:off x="3252960" y="1063800"/>
            <a:ext cx="2435040" cy="519876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227160" y="404280"/>
            <a:ext cx="85104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99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4b8d"/>
                </a:solidFill>
                <a:latin typeface="Calibri"/>
              </a:rPr>
              <a:t>Pro veřejnou správu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lnSpc>
                <a:spcPct val="90000"/>
              </a:lnSpc>
              <a:spcAft>
                <a:spcPts val="3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Dobře připravené finanční nástroje jsou efektivním nástrojem podpory podnikání, který je možný opakovaně použít bez dalších nároků na veřejné fi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lnSpc>
                <a:spcPct val="90000"/>
              </a:lnSpc>
              <a:spcAft>
                <a:spcPts val="3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Zapojení holdingového fondu umožňuje rychleji vyčerpat alokované prostředky – lepší plnění n+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lnSpc>
                <a:spcPct val="90000"/>
              </a:lnSpc>
              <a:spcAft>
                <a:spcPts val="3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Pro každý FN je možné vyhlásit jednu výzvu až do konce programového obdob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99"/>
              </a:spcAft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4b8d"/>
                </a:solidFill>
                <a:latin typeface="Calibri"/>
              </a:rPr>
              <a:t>Pro příjemce pomoci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lnSpc>
                <a:spcPct val="90000"/>
              </a:lnSpc>
              <a:spcAft>
                <a:spcPts val="30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FN odpovídají obchodním zvyklostem (forma úvěru, záruky, investi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lnSpc>
                <a:spcPct val="90000"/>
              </a:lnSpc>
              <a:spcAft>
                <a:spcPts val="300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Nižší administrativní zátěž spojená s žádost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lnSpc>
                <a:spcPct val="90000"/>
              </a:lnSpc>
              <a:spcAft>
                <a:spcPts val="300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Není nutné projekt předfinancovat z vlastních zdroj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lnSpc>
                <a:spcPct val="90000"/>
              </a:lnSpc>
              <a:spcAft>
                <a:spcPts val="300"/>
              </a:spcAft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Rychlejší proces administrace žádosti i proplácení (v případě záruk v řádu několika pracovních dnů) =&gt; možnost rychle a efektivně reagovat na potřeby podnikate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lnSpc>
                <a:spcPct val="90000"/>
              </a:lnSpc>
              <a:spcAft>
                <a:spcPts val="300"/>
              </a:spcAft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Cílem je dosažení maximálního růstu podpořené firmy (návratnost prostředků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995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</a:rPr>
              <a:t>Výhody finančních nástro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227160" y="404280"/>
            <a:ext cx="85104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0" bIns="0" anchor="t">
            <a:normAutofit/>
          </a:bodyPr>
          <a:p>
            <a:pPr marL="285840" indent="-285840">
              <a:spcBef>
                <a:spcPts val="300"/>
              </a:spcBef>
              <a:spcAft>
                <a:spcPts val="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Pro soukromé subjekty působící na trh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Mobilizuje jejich zdroje k financování projektů naplňujících strategické cí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Snižuje jejich vlastní rizik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Umožňuje financovat i takové projekty, které by za běžných tržních podmínek museli odmítn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Rozšiřuje jejich tržní příležitosti (získávání nových klientů, budování dlouhodobých obchodních vztahů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Vytváří prostor pro prodej dalších doprovodných služeb (poradenstv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spcAft>
                <a:spcPts val="99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… </a:t>
            </a: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za předpokladu, ž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Systém implementace není příliš složitý a administrativně náročn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Schéma nenarušuje tržní prostředí v jiné obla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300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300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995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</a:rPr>
              <a:t>Výhody finančních nástro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328680" y="732960"/>
            <a:ext cx="820872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0" bIns="0" anchor="t">
            <a:normAutofit/>
          </a:bodyPr>
          <a:p>
            <a:pPr marL="285840" indent="-285840" algn="just">
              <a:spcAft>
                <a:spcPts val="3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Pracovní setkání „Kulatý stůl k možnostem využití finančních nástrojů v období 2014+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Praha, 16.4.2013 za účasti bank, investičních fondů, fondů rizikového kapitálu a dalších zainteresovaných subjekt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Hlavní závě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Vytvářet pokud možno jednoduchá implementační schémata a přesně definovat podmínky jejich použi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Respektovat  primární předmět podnikání jednotlivých typů finančních institucí (banky -&gt; úvěry, fondy -&gt; kapitálové vstup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Definovat finanční nástroje tak, aby nenarušovaly tr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Konzultovat návrhy na zapojení finančních nástrojů s profesními sdruženími (ČBA, AKAT, CVCA) a s regulátorem finančního trhu (ČN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Vyjasnit problematiku veřejné podpory a navrhnout jednoduchý a snadno prokazatelný systé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title"/>
          </p:nvPr>
        </p:nvSpPr>
        <p:spPr>
          <a:xfrm>
            <a:off x="468360" y="339480"/>
            <a:ext cx="83995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</a:rPr>
              <a:t>Zapojení finančních institucí do přípravy OP PI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ovéPole 3"/>
          <p:cNvSpPr/>
          <p:nvPr/>
        </p:nvSpPr>
        <p:spPr>
          <a:xfrm>
            <a:off x="533520" y="2714760"/>
            <a:ext cx="53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alibri"/>
                <a:ea typeface="Arial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ovéPole 3"/>
          <p:cNvSpPr/>
          <p:nvPr/>
        </p:nvSpPr>
        <p:spPr>
          <a:xfrm>
            <a:off x="2430360" y="1706400"/>
            <a:ext cx="433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3b5ea"/>
                </a:solidFill>
                <a:latin typeface="Calibri"/>
                <a:ea typeface="Arial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9" descr="1332-can-cleantech-entrepreneurs-rely-on-venture-capital-300x300"/>
          <p:cNvPicPr/>
          <p:nvPr/>
        </p:nvPicPr>
        <p:blipFill>
          <a:blip r:embed="rId1"/>
          <a:stretch/>
        </p:blipFill>
        <p:spPr>
          <a:xfrm>
            <a:off x="3132000" y="271476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739" name="TextovéPole 3"/>
          <p:cNvSpPr/>
          <p:nvPr/>
        </p:nvSpPr>
        <p:spPr>
          <a:xfrm>
            <a:off x="3782160" y="54450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3b5ea"/>
                </a:solidFill>
                <a:latin typeface="Calibri"/>
                <a:ea typeface="Arial"/>
              </a:rPr>
              <a:t>seedfond@mpo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99760" y="843120"/>
            <a:ext cx="286524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3b5ea"/>
                </a:solidFill>
                <a:latin typeface="Calibri"/>
                <a:ea typeface="Arial"/>
              </a:rPr>
              <a:t>Současn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0" name="Picture 5" descr="http://www.kraj-jihocesky.cz/file.php?par%5Bid_r%5D=34710&amp;par%5Bview%5D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4840" y="2719440"/>
            <a:ext cx="4559040" cy="27226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7" descr="http://sphotos-b.xx.fbcdn.net/hphotos-ash3/35462_10151157426469231_919933374_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83360" y="2741760"/>
            <a:ext cx="3382920" cy="12492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http://data.computerworld.cz/img/article_title/title_l/9d/80da53b590e0feefc29c3a5464d946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83360" y="4013280"/>
            <a:ext cx="3384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Obdélník 4"/>
          <p:cNvSpPr/>
          <p:nvPr/>
        </p:nvSpPr>
        <p:spPr>
          <a:xfrm>
            <a:off x="3102120" y="1393920"/>
            <a:ext cx="2876400" cy="3784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bdélník 5"/>
          <p:cNvSpPr/>
          <p:nvPr/>
        </p:nvSpPr>
        <p:spPr>
          <a:xfrm>
            <a:off x="6129360" y="1384200"/>
            <a:ext cx="2876400" cy="37926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bdélník 6"/>
          <p:cNvSpPr/>
          <p:nvPr/>
        </p:nvSpPr>
        <p:spPr>
          <a:xfrm>
            <a:off x="73080" y="1389240"/>
            <a:ext cx="2876400" cy="3787560"/>
          </a:xfrm>
          <a:prstGeom prst="rect">
            <a:avLst/>
          </a:prstGeom>
          <a:solidFill>
            <a:srgbClr val="f8f8f8"/>
          </a:solidFill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4b8d"/>
                </a:solidFill>
                <a:latin typeface="Calibri"/>
              </a:rPr>
              <a:t>Program ZÁRU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4b8d"/>
                </a:solidFill>
                <a:latin typeface="Calibri"/>
              </a:rPr>
              <a:t>pro různé kategorie malých a středních podnikate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ál 7"/>
          <p:cNvSpPr/>
          <p:nvPr/>
        </p:nvSpPr>
        <p:spPr>
          <a:xfrm>
            <a:off x="222120" y="1405080"/>
            <a:ext cx="2578320" cy="760320"/>
          </a:xfrm>
          <a:prstGeom prst="ellipse">
            <a:avLst/>
          </a:prstGeom>
          <a:noFill/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4b8d"/>
                </a:solidFill>
                <a:latin typeface="Calibri"/>
              </a:rPr>
              <a:t>Státní rozpočet ČR</a:t>
            </a:r>
            <a:br>
              <a:rPr sz="1600"/>
            </a:br>
            <a:r>
              <a:rPr b="1" lang="cs-CZ" sz="1600" spc="-1" strike="noStrike">
                <a:solidFill>
                  <a:srgbClr val="004b8d"/>
                </a:solidFill>
                <a:latin typeface="Calibri"/>
              </a:rPr>
              <a:t>Národní progra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ál 8"/>
          <p:cNvSpPr/>
          <p:nvPr/>
        </p:nvSpPr>
        <p:spPr>
          <a:xfrm>
            <a:off x="3251160" y="1405080"/>
            <a:ext cx="2578320" cy="760320"/>
          </a:xfrm>
          <a:prstGeom prst="ellipse">
            <a:avLst/>
          </a:prstGeom>
          <a:noFill/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4b8d"/>
                </a:solidFill>
                <a:latin typeface="Calibri"/>
              </a:rPr>
              <a:t>Strukturální fondy 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ál 9"/>
          <p:cNvSpPr/>
          <p:nvPr/>
        </p:nvSpPr>
        <p:spPr>
          <a:xfrm>
            <a:off x="6280200" y="1405080"/>
            <a:ext cx="2576520" cy="760320"/>
          </a:xfrm>
          <a:prstGeom prst="ellipse">
            <a:avLst/>
          </a:prstGeom>
          <a:noFill/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4b8d"/>
                </a:solidFill>
                <a:latin typeface="Arial"/>
              </a:rPr>
              <a:t>Program švýcarsko-české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Zástupný symbol pro text 1"/>
          <p:cNvSpPr/>
          <p:nvPr/>
        </p:nvSpPr>
        <p:spPr>
          <a:xfrm>
            <a:off x="3102120" y="2527200"/>
            <a:ext cx="28764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b8d"/>
                </a:solidFill>
                <a:latin typeface="Calibri"/>
                <a:ea typeface="Arial"/>
              </a:rPr>
              <a:t>Jediný OP využívající kromě dotací též finanční nástro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4b8d"/>
                </a:solidFill>
                <a:latin typeface="Calibri"/>
                <a:ea typeface="Arial"/>
              </a:rPr>
              <a:t>Záru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4b8d"/>
                </a:solidFill>
                <a:latin typeface="Calibri"/>
                <a:ea typeface="Arial"/>
              </a:rPr>
              <a:t>Úvě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4b8d"/>
                </a:solidFill>
                <a:latin typeface="Calibri"/>
                <a:ea typeface="Arial"/>
              </a:rPr>
              <a:t>Rizikový kapitál – projekt </a:t>
            </a:r>
            <a:r>
              <a:rPr b="1" lang="cs-CZ" sz="1400" spc="-1" strike="noStrike">
                <a:solidFill>
                  <a:srgbClr val="ff0000"/>
                </a:solidFill>
                <a:latin typeface="Calibri"/>
                <a:ea typeface="Arial"/>
              </a:rPr>
              <a:t>SEED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Zástupný symbol pro text 1"/>
          <p:cNvSpPr/>
          <p:nvPr/>
        </p:nvSpPr>
        <p:spPr>
          <a:xfrm>
            <a:off x="6342120" y="2527200"/>
            <a:ext cx="24541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4b8d"/>
                </a:solidFill>
                <a:latin typeface="Calibri"/>
                <a:ea typeface="Arial"/>
              </a:rPr>
              <a:t>Program INOSTART </a:t>
            </a:r>
            <a:r>
              <a:rPr b="0" lang="cs-CZ" sz="1800" spc="-1" strike="noStrike">
                <a:solidFill>
                  <a:srgbClr val="004b8d"/>
                </a:solidFill>
                <a:latin typeface="Calibri"/>
                <a:ea typeface="Arial"/>
              </a:rPr>
              <a:t>– </a:t>
            </a:r>
            <a:r>
              <a:rPr b="0" lang="cs-CZ" sz="1600" spc="-1" strike="noStrike">
                <a:solidFill>
                  <a:srgbClr val="004b8d"/>
                </a:solidFill>
                <a:latin typeface="Calibri"/>
                <a:ea typeface="Arial"/>
              </a:rPr>
              <a:t>úvěry </a:t>
            </a:r>
            <a:br>
              <a:rPr sz="1600"/>
            </a:br>
            <a:r>
              <a:rPr b="0" lang="cs-CZ" sz="1600" spc="-1" strike="noStrike">
                <a:solidFill>
                  <a:srgbClr val="004b8d"/>
                </a:solidFill>
                <a:latin typeface="Calibri"/>
                <a:ea typeface="Arial"/>
              </a:rPr>
              <a:t>+ záruky za úvěry na inovativní projekty </a:t>
            </a:r>
            <a:br>
              <a:rPr sz="1600"/>
            </a:br>
            <a:r>
              <a:rPr b="0" lang="cs-CZ" sz="1600" spc="-1" strike="noStrike">
                <a:solidFill>
                  <a:srgbClr val="004b8d"/>
                </a:solidFill>
                <a:latin typeface="Calibri"/>
                <a:ea typeface="Arial"/>
              </a:rPr>
              <a:t>+ poradens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http://www.kraj-lbc.cz/public/vnejsi_vztahy/vlajka_svycarska_6951aa3b72.jpg"/>
          <p:cNvPicPr/>
          <p:nvPr/>
        </p:nvPicPr>
        <p:blipFill>
          <a:blip r:embed="rId1"/>
          <a:stretch/>
        </p:blipFill>
        <p:spPr>
          <a:xfrm>
            <a:off x="7002360" y="4151160"/>
            <a:ext cx="1130400" cy="10256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http://mshokej.wbs.cz/VLAJKY_CZE.PNG"/>
          <p:cNvPicPr/>
          <p:nvPr/>
        </p:nvPicPr>
        <p:blipFill>
          <a:blip r:embed="rId2"/>
          <a:stretch/>
        </p:blipFill>
        <p:spPr>
          <a:xfrm>
            <a:off x="814320" y="4254480"/>
            <a:ext cx="1390680" cy="927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http://www.vetweb.cz/files/image/Veterina/vlajka%20EU_750x495.jpg"/>
          <p:cNvPicPr/>
          <p:nvPr/>
        </p:nvPicPr>
        <p:blipFill>
          <a:blip r:embed="rId3"/>
          <a:stretch/>
        </p:blipFill>
        <p:spPr>
          <a:xfrm>
            <a:off x="3830760" y="4243320"/>
            <a:ext cx="1415880" cy="9352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6" descr=""/>
          <p:cNvPicPr/>
          <p:nvPr/>
        </p:nvPicPr>
        <p:blipFill>
          <a:blip r:embed="rId4"/>
          <a:srcRect l="0" t="25844" r="0" b="20925"/>
          <a:stretch/>
        </p:blipFill>
        <p:spPr>
          <a:xfrm>
            <a:off x="3292560" y="2252520"/>
            <a:ext cx="2504880" cy="549360"/>
          </a:xfrm>
          <a:prstGeom prst="rect">
            <a:avLst/>
          </a:prstGeom>
          <a:ln w="0">
            <a:noFill/>
          </a:ln>
        </p:spPr>
      </p:pic>
      <p:sp>
        <p:nvSpPr>
          <p:cNvPr id="565" name="TextovéPole 16"/>
          <p:cNvSpPr/>
          <p:nvPr/>
        </p:nvSpPr>
        <p:spPr>
          <a:xfrm>
            <a:off x="407880" y="776160"/>
            <a:ext cx="50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Zkušenosti s mnoha typy podpor od r.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bdélník 17"/>
          <p:cNvSpPr/>
          <p:nvPr/>
        </p:nvSpPr>
        <p:spPr>
          <a:xfrm>
            <a:off x="73080" y="5337000"/>
            <a:ext cx="8932680" cy="468360"/>
          </a:xfrm>
          <a:prstGeom prst="rect">
            <a:avLst/>
          </a:prstGeom>
          <a:solidFill>
            <a:srgbClr val="4d4d4d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Nepřímá podpora podnikatelům: informační servis, poradenství,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Nadpis 1"/>
          <p:cNvSpPr/>
          <p:nvPr/>
        </p:nvSpPr>
        <p:spPr>
          <a:xfrm>
            <a:off x="419040" y="200160"/>
            <a:ext cx="8242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3b5ea"/>
                </a:solidFill>
                <a:latin typeface="Calibri"/>
              </a:rPr>
              <a:t>Zdroje financování podpory 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http://supercfo.typepad.com/.a/6a0133f47c0313970b0147e29b9d7b970b-800w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7560" y="1766880"/>
            <a:ext cx="2286000" cy="2320920"/>
          </a:xfrm>
          <a:prstGeom prst="rect">
            <a:avLst/>
          </a:prstGeom>
          <a:ln w="0">
            <a:noFill/>
          </a:ln>
        </p:spPr>
      </p:pic>
      <p:grpSp>
        <p:nvGrpSpPr>
          <p:cNvPr id="569" name="Skupina 7"/>
          <p:cNvGrpSpPr/>
          <p:nvPr/>
        </p:nvGrpSpPr>
        <p:grpSpPr>
          <a:xfrm>
            <a:off x="6526080" y="1673280"/>
            <a:ext cx="2295720" cy="2414520"/>
            <a:chOff x="6526080" y="1673280"/>
            <a:chExt cx="2295720" cy="2414520"/>
          </a:xfrm>
        </p:grpSpPr>
        <p:sp>
          <p:nvSpPr>
            <p:cNvPr id="570" name="Zahnutá šipka dolů 8"/>
            <p:cNvSpPr/>
            <p:nvPr/>
          </p:nvSpPr>
          <p:spPr>
            <a:xfrm>
              <a:off x="6741720" y="1673280"/>
              <a:ext cx="2014920" cy="985680"/>
            </a:xfrm>
            <a:custGeom>
              <a:avLst/>
              <a:gdLst>
                <a:gd name="textAreaLeft" fmla="*/ 401040 w 2014920"/>
                <a:gd name="textAreaRight" fmla="*/ 1477080 w 2014920"/>
                <a:gd name="textAreaTop" fmla="*/ 131760 h 985680"/>
                <a:gd name="textAreaBottom" fmla="*/ 853920 h 9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603" hR="21600" stAng="10800000" swAng="5400000"/>
                  <a:lnTo>
                    <a:pt x="11533" y="0"/>
                  </a:lnTo>
                  <a:arcTo wR="8603" hR="21600" stAng="-5400000" swAng="3422744"/>
                  <a:lnTo>
                    <a:pt x="21327" y="16200"/>
                  </a:lnTo>
                  <a:lnTo>
                    <a:pt x="18671" y="21600"/>
                  </a:lnTo>
                  <a:lnTo>
                    <a:pt x="15469" y="16200"/>
                  </a:lnTo>
                  <a:lnTo>
                    <a:pt x="16933" y="16200"/>
                  </a:lnTo>
                  <a:arcTo wR="8603" hR="21600" stAng="-1977256" swAng="-3186499"/>
                  <a:lnTo>
                    <a:pt x="10068" y="315"/>
                  </a:lnTo>
                  <a:arcTo wR="8603" hR="21600" stAng="-5636245" swAng="-5163755"/>
                  <a:close/>
                </a:path>
                <a:path fill="darkenLess" w="21600" h="21600">
                  <a:moveTo>
                    <a:pt x="0" y="21600"/>
                  </a:moveTo>
                  <a:arcTo wR="8603" hR="21600" stAng="10800000" swAng="5400000"/>
                  <a:lnTo>
                    <a:pt x="8603" y="0"/>
                  </a:lnTo>
                  <a:arcTo wR="8603" hR="21600" stAng="-5400000" swAng="236245"/>
                  <a:lnTo>
                    <a:pt x="10068" y="315"/>
                  </a:lnTo>
                  <a:arcTo wR="8603" hR="21600" stAng="-5636245" swAng="-5163755"/>
                  <a:close/>
                </a:path>
              </a:pathLst>
            </a:custGeom>
            <a:solidFill>
              <a:srgbClr val="33ccff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Zahnutá šipka dolů 9"/>
            <p:cNvSpPr/>
            <p:nvPr/>
          </p:nvSpPr>
          <p:spPr>
            <a:xfrm rot="10800000">
              <a:off x="6597360" y="3102120"/>
              <a:ext cx="2088000" cy="985680"/>
            </a:xfrm>
            <a:custGeom>
              <a:avLst/>
              <a:gdLst>
                <a:gd name="textAreaLeft" fmla="*/ 419400 w 2088000"/>
                <a:gd name="textAreaRight" fmla="*/ 1531800 w 2088000"/>
                <a:gd name="textAreaTop" fmla="*/ 131760 h 985680"/>
                <a:gd name="textAreaBottom" fmla="*/ 853920 h 9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680" hR="21600" stAng="10800000" swAng="5400000"/>
                  <a:lnTo>
                    <a:pt x="11506" y="0"/>
                  </a:lnTo>
                  <a:arcTo wR="8680" hR="21600" stAng="-5400000" swAng="3436700"/>
                  <a:lnTo>
                    <a:pt x="21324" y="16200"/>
                  </a:lnTo>
                  <a:lnTo>
                    <a:pt x="18773" y="21600"/>
                  </a:lnTo>
                  <a:lnTo>
                    <a:pt x="15670" y="16200"/>
                  </a:lnTo>
                  <a:lnTo>
                    <a:pt x="17084" y="16200"/>
                  </a:lnTo>
                  <a:arcTo wR="8680" hR="21600" stAng="-1963300" swAng="-3209107"/>
                  <a:lnTo>
                    <a:pt x="10093" y="288"/>
                  </a:lnTo>
                  <a:arcTo wR="8680" hR="21600" stAng="-5627593" swAng="-5172407"/>
                  <a:close/>
                </a:path>
                <a:path fill="darkenLess" w="21600" h="21600">
                  <a:moveTo>
                    <a:pt x="0" y="21600"/>
                  </a:moveTo>
                  <a:arcTo wR="8680" hR="21600" stAng="10800000" swAng="5400000"/>
                  <a:lnTo>
                    <a:pt x="8680" y="0"/>
                  </a:lnTo>
                  <a:arcTo wR="8680" hR="21600" stAng="-5400000" swAng="227593"/>
                  <a:lnTo>
                    <a:pt x="10093" y="288"/>
                  </a:lnTo>
                  <a:arcTo wR="8680" hR="21600" stAng="-5627593" swAng="-5172407"/>
                  <a:close/>
                </a:path>
              </a:pathLst>
            </a:custGeom>
            <a:solidFill>
              <a:srgbClr val="33ccff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Picture 6" descr="http://3.bp.blogspot.com/-ckZM0I2KDMw/Tl58zFrKyAI/AAAAAAAABD4/1EUIAA9t3io/s1600/smart-money-saving.jpg">
              <a:hlinkClick r:id="rId3"/>
            </p:cNvPr>
            <p:cNvPicPr/>
            <p:nvPr/>
          </p:nvPicPr>
          <p:blipFill>
            <a:blip r:embed="rId4"/>
            <a:srcRect l="13779" t="7402" r="7295" b="7503"/>
            <a:stretch/>
          </p:blipFill>
          <p:spPr>
            <a:xfrm>
              <a:off x="7461000" y="3290040"/>
              <a:ext cx="559080" cy="60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5" descr="innovations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26080" y="2694960"/>
              <a:ext cx="608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11" descr="image_growth1"/>
            <p:cNvPicPr/>
            <p:nvPr/>
          </p:nvPicPr>
          <p:blipFill>
            <a:blip r:embed="rId7"/>
            <a:srcRect l="9777" t="6207" r="7953" b="5824"/>
            <a:stretch/>
          </p:blipFill>
          <p:spPr>
            <a:xfrm>
              <a:off x="7348680" y="1906560"/>
              <a:ext cx="585720" cy="4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15" descr="Photo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8253000" y="2686320"/>
              <a:ext cx="568800" cy="38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6" name="Skupina 16"/>
          <p:cNvGrpSpPr/>
          <p:nvPr/>
        </p:nvGrpSpPr>
        <p:grpSpPr>
          <a:xfrm>
            <a:off x="433440" y="1766880"/>
            <a:ext cx="2181240" cy="2320920"/>
            <a:chOff x="433440" y="1766880"/>
            <a:chExt cx="2181240" cy="2320920"/>
          </a:xfrm>
        </p:grpSpPr>
        <p:pic>
          <p:nvPicPr>
            <p:cNvPr id="577" name="Picture 11" descr="innova"/>
            <p:cNvPicPr/>
            <p:nvPr/>
          </p:nvPicPr>
          <p:blipFill>
            <a:blip r:embed="rId10"/>
            <a:stretch/>
          </p:blipFill>
          <p:spPr>
            <a:xfrm>
              <a:off x="433440" y="1766880"/>
              <a:ext cx="2181240" cy="132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15" descr="business2"/>
            <p:cNvPicPr/>
            <p:nvPr/>
          </p:nvPicPr>
          <p:blipFill>
            <a:blip r:embed="rId11"/>
            <a:srcRect l="0" t="15012" r="0" b="5052"/>
            <a:stretch/>
          </p:blipFill>
          <p:spPr>
            <a:xfrm>
              <a:off x="433440" y="3088440"/>
              <a:ext cx="2181240" cy="99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3440" y="196920"/>
            <a:ext cx="83995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  <a:ea typeface="Arial"/>
              </a:rPr>
              <a:t>Seed fond – hlavní cíle projektu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Obdélník 3"/>
          <p:cNvSpPr/>
          <p:nvPr/>
        </p:nvSpPr>
        <p:spPr>
          <a:xfrm>
            <a:off x="95040" y="830160"/>
            <a:ext cx="28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b8d"/>
                </a:solidFill>
                <a:latin typeface="Calibri"/>
              </a:rPr>
              <a:t>Zásadní podpora inovací,</a:t>
            </a:r>
            <a:br>
              <a:rPr sz="2000"/>
            </a:br>
            <a:r>
              <a:rPr b="1" lang="cs-CZ" sz="2000" spc="-1" strike="noStrike">
                <a:solidFill>
                  <a:srgbClr val="004b8d"/>
                </a:solidFill>
                <a:latin typeface="Calibri"/>
              </a:rPr>
              <a:t> podpora zakládání fir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bdélník 5"/>
          <p:cNvSpPr/>
          <p:nvPr/>
        </p:nvSpPr>
        <p:spPr>
          <a:xfrm>
            <a:off x="3098880" y="830160"/>
            <a:ext cx="319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b8d"/>
                </a:solidFill>
                <a:latin typeface="Calibri"/>
              </a:rPr>
              <a:t>Zapojení soukromých inves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bdélník 6"/>
          <p:cNvSpPr/>
          <p:nvPr/>
        </p:nvSpPr>
        <p:spPr>
          <a:xfrm>
            <a:off x="6410160" y="830160"/>
            <a:ext cx="288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b8d"/>
                </a:solidFill>
                <a:latin typeface="Calibri"/>
              </a:rPr>
              <a:t>Efektivní využívání veřejných prostředk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Zástupný symbol pro text 4"/>
          <p:cNvSpPr/>
          <p:nvPr/>
        </p:nvSpPr>
        <p:spPr>
          <a:xfrm>
            <a:off x="330120" y="4087800"/>
            <a:ext cx="820728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Seed fond je určen nositelům nových nápadů – malým a středním podnikům </a:t>
            </a:r>
            <a:br>
              <a:rPr sz="1800"/>
            </a:br>
            <a:r>
              <a:rPr b="0" lang="cs-CZ" sz="1400" spc="-1" strike="noStrike">
                <a:solidFill>
                  <a:srgbClr val="004b8d"/>
                </a:solidFill>
                <a:latin typeface="Calibri"/>
              </a:rPr>
              <a:t>(počet zaměstnanců &lt; 250, součet aktiv &lt; 43 mil. € nebo obrat &lt; 50 mil €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… </a:t>
            </a: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které přitom hledají finance pro své založení (seed), rozjezd (startup) nebo </a:t>
            </a:r>
            <a:br>
              <a:rPr sz="1800"/>
            </a:b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další rozvoj (expansion), jsou ochotné vzdát se části firmy a spolupracovat s „cizím“ invest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44" descr="2"/>
          <p:cNvPicPr/>
          <p:nvPr/>
        </p:nvPicPr>
        <p:blipFill>
          <a:blip r:embed="rId1"/>
          <a:srcRect l="0" t="0" r="0" b="24980"/>
          <a:stretch/>
        </p:blipFill>
        <p:spPr>
          <a:xfrm>
            <a:off x="1163520" y="4006800"/>
            <a:ext cx="2735280" cy="1540080"/>
          </a:xfrm>
          <a:prstGeom prst="rect">
            <a:avLst/>
          </a:prstGeom>
          <a:ln w="0">
            <a:noFill/>
          </a:ln>
        </p:spPr>
      </p:pic>
      <p:sp>
        <p:nvSpPr>
          <p:cNvPr id="585" name="Volný tvar 4"/>
          <p:cNvSpPr/>
          <p:nvPr/>
        </p:nvSpPr>
        <p:spPr>
          <a:xfrm>
            <a:off x="1152360" y="1569960"/>
            <a:ext cx="7310520" cy="2427480"/>
          </a:xfrm>
          <a:custGeom>
            <a:avLst/>
            <a:gdLst/>
            <a:ahLst/>
            <a:rect l="l" t="t" r="r" b="b"/>
            <a:pathLst>
              <a:path w="8088086" h="4985657">
                <a:moveTo>
                  <a:pt x="0" y="0"/>
                </a:moveTo>
                <a:lnTo>
                  <a:pt x="0" y="4985657"/>
                </a:lnTo>
                <a:lnTo>
                  <a:pt x="8088086" y="4985657"/>
                </a:lnTo>
                <a:lnTo>
                  <a:pt x="8088086" y="498565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ovéPole 6"/>
          <p:cNvSpPr/>
          <p:nvPr/>
        </p:nvSpPr>
        <p:spPr>
          <a:xfrm>
            <a:off x="427320" y="16621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rž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Volný tvar 6"/>
          <p:cNvSpPr/>
          <p:nvPr/>
        </p:nvSpPr>
        <p:spPr>
          <a:xfrm>
            <a:off x="1166760" y="1871640"/>
            <a:ext cx="7701120" cy="3009960"/>
          </a:xfrm>
          <a:custGeom>
            <a:avLst/>
            <a:gdLst>
              <a:gd name="textAreaLeft" fmla="*/ 0 w 7701120"/>
              <a:gd name="textAreaRight" fmla="*/ 7701480 w 7701120"/>
              <a:gd name="textAreaTop" fmla="*/ 0 h 3009960"/>
              <a:gd name="textAreaBottom" fmla="*/ 3010320 h 3009960"/>
            </a:gdLst>
            <a:ahLst/>
            <a:rect l="textAreaLeft" t="textAreaTop" r="textAreaRight" b="textAreaBottom"/>
            <a:pathLst>
              <a:path w="4851" h="1896">
                <a:moveTo>
                  <a:pt x="0" y="1341"/>
                </a:moveTo>
                <a:cubicBezTo>
                  <a:pt x="33" y="1390"/>
                  <a:pt x="98" y="1549"/>
                  <a:pt x="197" y="1633"/>
                </a:cubicBezTo>
                <a:cubicBezTo>
                  <a:pt x="296" y="1717"/>
                  <a:pt x="452" y="1809"/>
                  <a:pt x="596" y="1846"/>
                </a:cubicBezTo>
                <a:cubicBezTo>
                  <a:pt x="740" y="1883"/>
                  <a:pt x="916" y="1896"/>
                  <a:pt x="1061" y="1853"/>
                </a:cubicBezTo>
                <a:cubicBezTo>
                  <a:pt x="1207" y="1809"/>
                  <a:pt x="1352" y="1675"/>
                  <a:pt x="1467" y="1585"/>
                </a:cubicBezTo>
                <a:cubicBezTo>
                  <a:pt x="1582" y="1496"/>
                  <a:pt x="1622" y="1429"/>
                  <a:pt x="1753" y="1318"/>
                </a:cubicBezTo>
                <a:cubicBezTo>
                  <a:pt x="1884" y="1207"/>
                  <a:pt x="2091" y="1057"/>
                  <a:pt x="2251" y="920"/>
                </a:cubicBezTo>
                <a:cubicBezTo>
                  <a:pt x="2412" y="783"/>
                  <a:pt x="2514" y="626"/>
                  <a:pt x="2717" y="495"/>
                </a:cubicBezTo>
                <a:cubicBezTo>
                  <a:pt x="2920" y="363"/>
                  <a:pt x="3187" y="210"/>
                  <a:pt x="3468" y="131"/>
                </a:cubicBezTo>
                <a:cubicBezTo>
                  <a:pt x="3750" y="52"/>
                  <a:pt x="4175" y="43"/>
                  <a:pt x="4406" y="22"/>
                </a:cubicBezTo>
                <a:cubicBezTo>
                  <a:pt x="4636" y="0"/>
                  <a:pt x="4744" y="10"/>
                  <a:pt x="4851" y="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ovéPole 9"/>
          <p:cNvSpPr/>
          <p:nvPr/>
        </p:nvSpPr>
        <p:spPr>
          <a:xfrm>
            <a:off x="7807680" y="39974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Přímá spojnice se šipkou 8"/>
          <p:cNvCxnSpPr/>
          <p:nvPr/>
        </p:nvCxnSpPr>
        <p:spPr>
          <a:xfrm flipV="1">
            <a:off x="1152000" y="3997080"/>
            <a:ext cx="1080" cy="498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0" name="Přímá spojnice 9"/>
          <p:cNvSpPr/>
          <p:nvPr/>
        </p:nvSpPr>
        <p:spPr>
          <a:xfrm>
            <a:off x="144360" y="3997440"/>
            <a:ext cx="99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ovéPole 16"/>
          <p:cNvSpPr/>
          <p:nvPr/>
        </p:nvSpPr>
        <p:spPr>
          <a:xfrm>
            <a:off x="260280" y="3513240"/>
            <a:ext cx="76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Uzrání</a:t>
            </a:r>
            <a:br>
              <a:rPr sz="1400"/>
            </a:b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plá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ovéPole 18"/>
          <p:cNvSpPr/>
          <p:nvPr/>
        </p:nvSpPr>
        <p:spPr>
          <a:xfrm>
            <a:off x="1119240" y="3535200"/>
            <a:ext cx="97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Vznik</a:t>
            </a:r>
            <a:br>
              <a:rPr sz="1400"/>
            </a:b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fi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Přímá spojnice se šipkou 12"/>
          <p:cNvCxnSpPr/>
          <p:nvPr/>
        </p:nvCxnSpPr>
        <p:spPr>
          <a:xfrm flipH="1" flipV="1">
            <a:off x="2890440" y="4782240"/>
            <a:ext cx="1032480" cy="453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4" name="TextovéPole 23"/>
          <p:cNvSpPr/>
          <p:nvPr/>
        </p:nvSpPr>
        <p:spPr>
          <a:xfrm>
            <a:off x="1571760" y="4305240"/>
            <a:ext cx="11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Prototy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Přímá spojnice se šipkou 14"/>
          <p:cNvCxnSpPr/>
          <p:nvPr/>
        </p:nvCxnSpPr>
        <p:spPr>
          <a:xfrm flipH="1" flipV="1">
            <a:off x="3695400" y="4266720"/>
            <a:ext cx="730800" cy="240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6" name="TextovéPole 25"/>
          <p:cNvSpPr/>
          <p:nvPr/>
        </p:nvSpPr>
        <p:spPr>
          <a:xfrm>
            <a:off x="2532240" y="4017960"/>
            <a:ext cx="11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Uvedení </a:t>
            </a:r>
            <a:br>
              <a:rPr sz="1400"/>
            </a:b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na tr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Přímá spojnice se šipkou 16"/>
          <p:cNvCxnSpPr/>
          <p:nvPr/>
        </p:nvCxnSpPr>
        <p:spPr>
          <a:xfrm flipH="1" flipV="1">
            <a:off x="4669560" y="3469680"/>
            <a:ext cx="686520" cy="183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8" name="TextovéPole 28"/>
          <p:cNvSpPr/>
          <p:nvPr/>
        </p:nvSpPr>
        <p:spPr>
          <a:xfrm>
            <a:off x="3216240" y="3156120"/>
            <a:ext cx="11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Rychlý rů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Přímá spojnice se šipkou 18"/>
          <p:cNvCxnSpPr/>
          <p:nvPr/>
        </p:nvCxnSpPr>
        <p:spPr>
          <a:xfrm flipH="1" flipV="1">
            <a:off x="6761880" y="2084040"/>
            <a:ext cx="521640" cy="567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00" name="TextovéPole 38"/>
          <p:cNvSpPr/>
          <p:nvPr/>
        </p:nvSpPr>
        <p:spPr>
          <a:xfrm>
            <a:off x="5983200" y="1717560"/>
            <a:ext cx="11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Expa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ovéPole 39"/>
          <p:cNvSpPr/>
          <p:nvPr/>
        </p:nvSpPr>
        <p:spPr>
          <a:xfrm>
            <a:off x="7637400" y="1511280"/>
            <a:ext cx="11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Zral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TextovéPole 40"/>
          <p:cNvGrpSpPr/>
          <p:nvPr/>
        </p:nvGrpSpPr>
        <p:grpSpPr>
          <a:xfrm>
            <a:off x="-6480" y="4559400"/>
            <a:ext cx="1268640" cy="476280"/>
            <a:chOff x="-6480" y="4559400"/>
            <a:chExt cx="1268640" cy="476280"/>
          </a:xfrm>
        </p:grpSpPr>
        <p:pic>
          <p:nvPicPr>
            <p:cNvPr id="603" name="TextovéPole 40" descr=""/>
            <p:cNvPicPr/>
            <p:nvPr/>
          </p:nvPicPr>
          <p:blipFill>
            <a:blip r:embed="rId2"/>
            <a:stretch/>
          </p:blipFill>
          <p:spPr>
            <a:xfrm>
              <a:off x="-6480" y="4559400"/>
              <a:ext cx="12686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47520" y="4594320"/>
              <a:ext cx="11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Zakladatel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TextovéPole 41"/>
          <p:cNvGrpSpPr/>
          <p:nvPr/>
        </p:nvGrpSpPr>
        <p:grpSpPr>
          <a:xfrm>
            <a:off x="3865680" y="4937040"/>
            <a:ext cx="1779480" cy="689040"/>
            <a:chOff x="3865680" y="4937040"/>
            <a:chExt cx="1779480" cy="689040"/>
          </a:xfrm>
        </p:grpSpPr>
        <p:pic>
          <p:nvPicPr>
            <p:cNvPr id="606" name="TextovéPole 41" descr=""/>
            <p:cNvPicPr/>
            <p:nvPr/>
          </p:nvPicPr>
          <p:blipFill>
            <a:blip r:embed="rId3"/>
            <a:stretch/>
          </p:blipFill>
          <p:spPr>
            <a:xfrm>
              <a:off x="3865680" y="4937040"/>
              <a:ext cx="17794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3922560" y="4975200"/>
              <a:ext cx="167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Andělské financován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TextovéPole 43"/>
          <p:cNvGrpSpPr/>
          <p:nvPr/>
        </p:nvGrpSpPr>
        <p:grpSpPr>
          <a:xfrm>
            <a:off x="4425840" y="4243320"/>
            <a:ext cx="2846520" cy="689040"/>
            <a:chOff x="4425840" y="4243320"/>
            <a:chExt cx="2846520" cy="689040"/>
          </a:xfrm>
        </p:grpSpPr>
        <p:pic>
          <p:nvPicPr>
            <p:cNvPr id="609" name="TextovéPole 43" descr=""/>
            <p:cNvPicPr/>
            <p:nvPr/>
          </p:nvPicPr>
          <p:blipFill>
            <a:blip r:embed="rId4"/>
            <a:stretch/>
          </p:blipFill>
          <p:spPr>
            <a:xfrm>
              <a:off x="4425840" y="4243320"/>
              <a:ext cx="28465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4479840" y="4278240"/>
              <a:ext cx="2737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Fondy rizikového kapitálu + Korporátní investoř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TextovéPole 44"/>
          <p:cNvGrpSpPr/>
          <p:nvPr/>
        </p:nvGrpSpPr>
        <p:grpSpPr>
          <a:xfrm>
            <a:off x="5284800" y="3481560"/>
            <a:ext cx="804960" cy="474480"/>
            <a:chOff x="5284800" y="3481560"/>
            <a:chExt cx="804960" cy="474480"/>
          </a:xfrm>
        </p:grpSpPr>
        <p:pic>
          <p:nvPicPr>
            <p:cNvPr id="612" name="TextovéPole 44" descr=""/>
            <p:cNvPicPr/>
            <p:nvPr/>
          </p:nvPicPr>
          <p:blipFill>
            <a:blip r:embed="rId5"/>
            <a:stretch/>
          </p:blipFill>
          <p:spPr>
            <a:xfrm>
              <a:off x="5284800" y="3481560"/>
              <a:ext cx="8049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340240" y="3514680"/>
              <a:ext cx="69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Bank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TextovéPole 45"/>
          <p:cNvGrpSpPr/>
          <p:nvPr/>
        </p:nvGrpSpPr>
        <p:grpSpPr>
          <a:xfrm>
            <a:off x="7083360" y="2614680"/>
            <a:ext cx="1195560" cy="689040"/>
            <a:chOff x="7083360" y="2614680"/>
            <a:chExt cx="1195560" cy="689040"/>
          </a:xfrm>
        </p:grpSpPr>
        <p:pic>
          <p:nvPicPr>
            <p:cNvPr id="615" name="TextovéPole 45" descr=""/>
            <p:cNvPicPr/>
            <p:nvPr/>
          </p:nvPicPr>
          <p:blipFill>
            <a:blip r:embed="rId6"/>
            <a:stretch/>
          </p:blipFill>
          <p:spPr>
            <a:xfrm>
              <a:off x="7083360" y="2614680"/>
              <a:ext cx="11955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7140600" y="2651040"/>
              <a:ext cx="1082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Akvizice, I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AutoShape 33"/>
          <p:cNvGrpSpPr/>
          <p:nvPr/>
        </p:nvGrpSpPr>
        <p:grpSpPr>
          <a:xfrm>
            <a:off x="23760" y="798480"/>
            <a:ext cx="1231920" cy="682560"/>
            <a:chOff x="23760" y="798480"/>
            <a:chExt cx="1231920" cy="682560"/>
          </a:xfrm>
        </p:grpSpPr>
        <p:pic>
          <p:nvPicPr>
            <p:cNvPr id="618" name="AutoShape 33" descr=""/>
            <p:cNvPicPr/>
            <p:nvPr/>
          </p:nvPicPr>
          <p:blipFill>
            <a:blip r:embed="rId7"/>
            <a:stretch/>
          </p:blipFill>
          <p:spPr>
            <a:xfrm>
              <a:off x="23760" y="798480"/>
              <a:ext cx="12319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155520" y="826920"/>
              <a:ext cx="914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Nápad, </a:t>
              </a:r>
              <a:br>
                <a:rPr sz="1200"/>
              </a:b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uzrání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AutoShape 34"/>
          <p:cNvGrpSpPr/>
          <p:nvPr/>
        </p:nvGrpSpPr>
        <p:grpSpPr>
          <a:xfrm>
            <a:off x="1395360" y="798480"/>
            <a:ext cx="1152720" cy="682560"/>
            <a:chOff x="1395360" y="798480"/>
            <a:chExt cx="1152720" cy="682560"/>
          </a:xfrm>
        </p:grpSpPr>
        <p:pic>
          <p:nvPicPr>
            <p:cNvPr id="621" name="AutoShape 34" descr=""/>
            <p:cNvPicPr/>
            <p:nvPr/>
          </p:nvPicPr>
          <p:blipFill>
            <a:blip r:embed="rId8"/>
            <a:stretch/>
          </p:blipFill>
          <p:spPr>
            <a:xfrm>
              <a:off x="1395360" y="798480"/>
              <a:ext cx="1152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712880" y="826920"/>
              <a:ext cx="52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Vzni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firm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AutoShape 35"/>
          <p:cNvGrpSpPr/>
          <p:nvPr/>
        </p:nvGrpSpPr>
        <p:grpSpPr>
          <a:xfrm>
            <a:off x="2693880" y="798480"/>
            <a:ext cx="1152720" cy="682560"/>
            <a:chOff x="2693880" y="798480"/>
            <a:chExt cx="1152720" cy="682560"/>
          </a:xfrm>
        </p:grpSpPr>
        <p:pic>
          <p:nvPicPr>
            <p:cNvPr id="624" name="AutoShape 35" descr=""/>
            <p:cNvPicPr/>
            <p:nvPr/>
          </p:nvPicPr>
          <p:blipFill>
            <a:blip r:embed="rId9"/>
            <a:stretch/>
          </p:blipFill>
          <p:spPr>
            <a:xfrm>
              <a:off x="2693880" y="798480"/>
              <a:ext cx="1152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3009960" y="826920"/>
              <a:ext cx="52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Prototy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AutoShape 36"/>
          <p:cNvGrpSpPr/>
          <p:nvPr/>
        </p:nvGrpSpPr>
        <p:grpSpPr>
          <a:xfrm>
            <a:off x="3986280" y="798480"/>
            <a:ext cx="1158840" cy="682560"/>
            <a:chOff x="3986280" y="798480"/>
            <a:chExt cx="1158840" cy="682560"/>
          </a:xfrm>
        </p:grpSpPr>
        <p:pic>
          <p:nvPicPr>
            <p:cNvPr id="627" name="AutoShape 36" descr=""/>
            <p:cNvPicPr/>
            <p:nvPr/>
          </p:nvPicPr>
          <p:blipFill>
            <a:blip r:embed="rId10"/>
            <a:stretch/>
          </p:blipFill>
          <p:spPr>
            <a:xfrm>
              <a:off x="3986280" y="798480"/>
              <a:ext cx="11588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4305240" y="826920"/>
              <a:ext cx="52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Uvedení </a:t>
              </a:r>
              <a:br>
                <a:rPr sz="1200"/>
              </a:b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    na tr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AutoShape 37"/>
          <p:cNvGrpSpPr/>
          <p:nvPr/>
        </p:nvGrpSpPr>
        <p:grpSpPr>
          <a:xfrm>
            <a:off x="6583320" y="798480"/>
            <a:ext cx="1165320" cy="682560"/>
            <a:chOff x="6583320" y="798480"/>
            <a:chExt cx="1165320" cy="682560"/>
          </a:xfrm>
        </p:grpSpPr>
        <p:pic>
          <p:nvPicPr>
            <p:cNvPr id="630" name="AutoShape 37" descr=""/>
            <p:cNvPicPr/>
            <p:nvPr/>
          </p:nvPicPr>
          <p:blipFill>
            <a:blip r:embed="rId11"/>
            <a:stretch/>
          </p:blipFill>
          <p:spPr>
            <a:xfrm>
              <a:off x="6583320" y="798480"/>
              <a:ext cx="1165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6897600" y="826920"/>
              <a:ext cx="52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Expan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AutoShape 38"/>
          <p:cNvGrpSpPr/>
          <p:nvPr/>
        </p:nvGrpSpPr>
        <p:grpSpPr>
          <a:xfrm>
            <a:off x="7875720" y="798480"/>
            <a:ext cx="1158840" cy="682560"/>
            <a:chOff x="7875720" y="798480"/>
            <a:chExt cx="1158840" cy="682560"/>
          </a:xfrm>
        </p:grpSpPr>
        <p:pic>
          <p:nvPicPr>
            <p:cNvPr id="633" name="AutoShape 38" descr=""/>
            <p:cNvPicPr/>
            <p:nvPr/>
          </p:nvPicPr>
          <p:blipFill>
            <a:blip r:embed="rId12"/>
            <a:stretch/>
          </p:blipFill>
          <p:spPr>
            <a:xfrm>
              <a:off x="7875720" y="798480"/>
              <a:ext cx="11588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8194680" y="826920"/>
              <a:ext cx="52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Zral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AutoShape 39"/>
          <p:cNvGrpSpPr/>
          <p:nvPr/>
        </p:nvGrpSpPr>
        <p:grpSpPr>
          <a:xfrm>
            <a:off x="5284800" y="798480"/>
            <a:ext cx="1152360" cy="682560"/>
            <a:chOff x="5284800" y="798480"/>
            <a:chExt cx="1152360" cy="682560"/>
          </a:xfrm>
        </p:grpSpPr>
        <p:pic>
          <p:nvPicPr>
            <p:cNvPr id="636" name="AutoShape 39" descr=""/>
            <p:cNvPicPr/>
            <p:nvPr/>
          </p:nvPicPr>
          <p:blipFill>
            <a:blip r:embed="rId13"/>
            <a:stretch/>
          </p:blipFill>
          <p:spPr>
            <a:xfrm>
              <a:off x="5284800" y="798480"/>
              <a:ext cx="11523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5602320" y="826920"/>
              <a:ext cx="52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Rychlý</a:t>
              </a:r>
              <a:br>
                <a:rPr sz="1200"/>
              </a:b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 rů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TextovéPole 40"/>
          <p:cNvGrpSpPr/>
          <p:nvPr/>
        </p:nvGrpSpPr>
        <p:grpSpPr>
          <a:xfrm>
            <a:off x="109440" y="5357880"/>
            <a:ext cx="1262160" cy="476280"/>
            <a:chOff x="109440" y="5357880"/>
            <a:chExt cx="1262160" cy="476280"/>
          </a:xfrm>
        </p:grpSpPr>
        <p:pic>
          <p:nvPicPr>
            <p:cNvPr id="639" name="TextovéPole 40" descr=""/>
            <p:cNvPicPr/>
            <p:nvPr/>
          </p:nvPicPr>
          <p:blipFill>
            <a:blip r:embed="rId14"/>
            <a:stretch/>
          </p:blipFill>
          <p:spPr>
            <a:xfrm>
              <a:off x="109440" y="5357880"/>
              <a:ext cx="12621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162000" y="5394240"/>
              <a:ext cx="115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F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Line 43"/>
          <p:cNvSpPr/>
          <p:nvPr/>
        </p:nvSpPr>
        <p:spPr>
          <a:xfrm flipV="1">
            <a:off x="741240" y="4738320"/>
            <a:ext cx="1141560" cy="655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5"/>
          <p:cNvSpPr/>
          <p:nvPr/>
        </p:nvSpPr>
        <p:spPr>
          <a:xfrm>
            <a:off x="1163520" y="562752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Údolí smrt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Nadpis 2"/>
          <p:cNvSpPr/>
          <p:nvPr/>
        </p:nvSpPr>
        <p:spPr>
          <a:xfrm>
            <a:off x="382680" y="27000"/>
            <a:ext cx="8399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</a:rPr>
              <a:t>Investice do různých vývojových fází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6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4"/>
          <p:cNvSpPr/>
          <p:nvPr/>
        </p:nvSpPr>
        <p:spPr>
          <a:xfrm>
            <a:off x="2627280" y="2060640"/>
            <a:ext cx="17985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eed fond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Český rozvojový,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zavřený investiční 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5"/>
          <p:cNvSpPr/>
          <p:nvPr/>
        </p:nvSpPr>
        <p:spPr>
          <a:xfrm>
            <a:off x="2627280" y="3284640"/>
            <a:ext cx="17985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33"/>
              </a:gs>
              <a:gs pos="50000">
                <a:srgbClr val="ffffff"/>
              </a:gs>
              <a:gs pos="100000">
                <a:srgbClr val="33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vestiční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správ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6"/>
          <p:cNvSpPr/>
          <p:nvPr/>
        </p:nvSpPr>
        <p:spPr>
          <a:xfrm>
            <a:off x="611280" y="1628640"/>
            <a:ext cx="12952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33"/>
              </a:gs>
              <a:gs pos="50000">
                <a:srgbClr val="ffffff"/>
              </a:gs>
              <a:gs pos="100000">
                <a:srgbClr val="33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epozitá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7"/>
          <p:cNvSpPr/>
          <p:nvPr/>
        </p:nvSpPr>
        <p:spPr>
          <a:xfrm>
            <a:off x="611280" y="2637000"/>
            <a:ext cx="129528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33"/>
              </a:gs>
              <a:gs pos="50000">
                <a:srgbClr val="ffffff"/>
              </a:gs>
              <a:gs pos="100000">
                <a:srgbClr val="33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8"/>
          <p:cNvSpPr/>
          <p:nvPr/>
        </p:nvSpPr>
        <p:spPr>
          <a:xfrm>
            <a:off x="4500720" y="547560"/>
            <a:ext cx="1223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OPP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9"/>
          <p:cNvSpPr/>
          <p:nvPr/>
        </p:nvSpPr>
        <p:spPr>
          <a:xfrm>
            <a:off x="1763640" y="476280"/>
            <a:ext cx="1224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N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1"/>
          <p:cNvSpPr/>
          <p:nvPr/>
        </p:nvSpPr>
        <p:spPr>
          <a:xfrm>
            <a:off x="395280" y="1484280"/>
            <a:ext cx="4176720" cy="28796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2495" h="1406">
                <a:moveTo>
                  <a:pt x="0" y="0"/>
                </a:moveTo>
                <a:lnTo>
                  <a:pt x="0" y="499"/>
                </a:lnTo>
                <a:lnTo>
                  <a:pt x="1043" y="499"/>
                </a:lnTo>
                <a:lnTo>
                  <a:pt x="1043" y="1406"/>
                </a:lnTo>
                <a:lnTo>
                  <a:pt x="2495" y="1406"/>
                </a:lnTo>
                <a:lnTo>
                  <a:pt x="2495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3"/>
          <p:cNvSpPr/>
          <p:nvPr/>
        </p:nvSpPr>
        <p:spPr>
          <a:xfrm>
            <a:off x="3492360" y="763560"/>
            <a:ext cx="1008360" cy="1297080"/>
          </a:xfrm>
          <a:custGeom>
            <a:avLst/>
            <a:gdLst>
              <a:gd name="textAreaLeft" fmla="*/ 0 w 1008360"/>
              <a:gd name="textAreaRight" fmla="*/ 1008720 w 1008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862" h="545">
                <a:moveTo>
                  <a:pt x="862" y="0"/>
                </a:moveTo>
                <a:lnTo>
                  <a:pt x="0" y="0"/>
                </a:lnTo>
                <a:lnTo>
                  <a:pt x="0" y="54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14"/>
          <p:cNvSpPr/>
          <p:nvPr/>
        </p:nvSpPr>
        <p:spPr>
          <a:xfrm>
            <a:off x="6443640" y="3284640"/>
            <a:ext cx="2016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15"/>
          <p:cNvSpPr/>
          <p:nvPr/>
        </p:nvSpPr>
        <p:spPr>
          <a:xfrm>
            <a:off x="6659640" y="3500280"/>
            <a:ext cx="20160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6"/>
          <p:cNvSpPr/>
          <p:nvPr/>
        </p:nvSpPr>
        <p:spPr>
          <a:xfrm>
            <a:off x="6875640" y="3716280"/>
            <a:ext cx="20160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oukromí investoř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7"/>
          <p:cNvSpPr/>
          <p:nvPr/>
        </p:nvSpPr>
        <p:spPr>
          <a:xfrm>
            <a:off x="4211640" y="5013360"/>
            <a:ext cx="647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5050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8"/>
          <p:cNvSpPr/>
          <p:nvPr/>
        </p:nvSpPr>
        <p:spPr>
          <a:xfrm>
            <a:off x="5111640" y="5013360"/>
            <a:ext cx="647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5050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9"/>
          <p:cNvSpPr/>
          <p:nvPr/>
        </p:nvSpPr>
        <p:spPr>
          <a:xfrm>
            <a:off x="6012000" y="5013360"/>
            <a:ext cx="647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5050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0"/>
          <p:cNvSpPr/>
          <p:nvPr/>
        </p:nvSpPr>
        <p:spPr>
          <a:xfrm>
            <a:off x="3995640" y="4869000"/>
            <a:ext cx="2881440" cy="1008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21"/>
          <p:cNvSpPr/>
          <p:nvPr/>
        </p:nvSpPr>
        <p:spPr>
          <a:xfrm>
            <a:off x="2232000" y="105264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23"/>
          <p:cNvSpPr/>
          <p:nvPr/>
        </p:nvSpPr>
        <p:spPr>
          <a:xfrm>
            <a:off x="1908000" y="1916280"/>
            <a:ext cx="719280" cy="360360"/>
          </a:xfrm>
          <a:custGeom>
            <a:avLst/>
            <a:gdLst>
              <a:gd name="textAreaLeft" fmla="*/ 0 w 719280"/>
              <a:gd name="textAreaRight" fmla="*/ 719640 w 719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53" h="227">
                <a:moveTo>
                  <a:pt x="0" y="0"/>
                </a:moveTo>
                <a:lnTo>
                  <a:pt x="272" y="0"/>
                </a:lnTo>
                <a:lnTo>
                  <a:pt x="272" y="227"/>
                </a:lnTo>
                <a:lnTo>
                  <a:pt x="453" y="22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24"/>
          <p:cNvSpPr/>
          <p:nvPr/>
        </p:nvSpPr>
        <p:spPr>
          <a:xfrm>
            <a:off x="1908000" y="2563920"/>
            <a:ext cx="719280" cy="288720"/>
          </a:xfrm>
          <a:custGeom>
            <a:avLst/>
            <a:gdLst>
              <a:gd name="textAreaLeft" fmla="*/ 0 w 719280"/>
              <a:gd name="textAreaRight" fmla="*/ 719640 w 719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53" h="318">
                <a:moveTo>
                  <a:pt x="0" y="318"/>
                </a:moveTo>
                <a:lnTo>
                  <a:pt x="272" y="318"/>
                </a:lnTo>
                <a:lnTo>
                  <a:pt x="272" y="0"/>
                </a:lnTo>
                <a:lnTo>
                  <a:pt x="45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25"/>
          <p:cNvSpPr/>
          <p:nvPr/>
        </p:nvSpPr>
        <p:spPr>
          <a:xfrm>
            <a:off x="611280" y="3429000"/>
            <a:ext cx="129528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vestiční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6"/>
          <p:cNvSpPr/>
          <p:nvPr/>
        </p:nvSpPr>
        <p:spPr>
          <a:xfrm>
            <a:off x="190800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7"/>
          <p:cNvSpPr/>
          <p:nvPr/>
        </p:nvSpPr>
        <p:spPr>
          <a:xfrm>
            <a:off x="4427640" y="3429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28"/>
          <p:cNvSpPr/>
          <p:nvPr/>
        </p:nvSpPr>
        <p:spPr>
          <a:xfrm>
            <a:off x="4788000" y="4076640"/>
            <a:ext cx="129528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vestiční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rad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0"/>
          <p:cNvSpPr/>
          <p:nvPr/>
        </p:nvSpPr>
        <p:spPr>
          <a:xfrm>
            <a:off x="4427640" y="3716280"/>
            <a:ext cx="865080" cy="360360"/>
          </a:xfrm>
          <a:custGeom>
            <a:avLst/>
            <a:gdLst>
              <a:gd name="textAreaLeft" fmla="*/ 0 w 865080"/>
              <a:gd name="textAreaRight" fmla="*/ 865440 w 8650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2"/>
          <p:cNvSpPr/>
          <p:nvPr/>
        </p:nvSpPr>
        <p:spPr>
          <a:xfrm>
            <a:off x="5580000" y="3716280"/>
            <a:ext cx="863640" cy="360360"/>
          </a:xfrm>
          <a:custGeom>
            <a:avLst/>
            <a:gdLst>
              <a:gd name="textAreaLeft" fmla="*/ 0 w 863640"/>
              <a:gd name="textAreaRight" fmla="*/ 864000 w 863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08" h="181">
                <a:moveTo>
                  <a:pt x="408" y="0"/>
                </a:moveTo>
                <a:lnTo>
                  <a:pt x="0" y="0"/>
                </a:lnTo>
                <a:lnTo>
                  <a:pt x="0" y="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3"/>
          <p:cNvSpPr/>
          <p:nvPr/>
        </p:nvSpPr>
        <p:spPr>
          <a:xfrm>
            <a:off x="3492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4"/>
          <p:cNvSpPr/>
          <p:nvPr/>
        </p:nvSpPr>
        <p:spPr>
          <a:xfrm>
            <a:off x="4785480" y="558972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ílové společn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5"/>
          <p:cNvSpPr/>
          <p:nvPr/>
        </p:nvSpPr>
        <p:spPr>
          <a:xfrm>
            <a:off x="5292720" y="4724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6"/>
          <p:cNvSpPr/>
          <p:nvPr/>
        </p:nvSpPr>
        <p:spPr>
          <a:xfrm>
            <a:off x="5508720" y="4724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7"/>
          <p:cNvSpPr/>
          <p:nvPr/>
        </p:nvSpPr>
        <p:spPr>
          <a:xfrm>
            <a:off x="5724360" y="4724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Nadpis 1"/>
          <p:cNvSpPr/>
          <p:nvPr/>
        </p:nvSpPr>
        <p:spPr>
          <a:xfrm>
            <a:off x="250920" y="0"/>
            <a:ext cx="878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3b5ea"/>
                </a:solidFill>
                <a:latin typeface="Calibri"/>
              </a:rPr>
              <a:t>Institucionální uspořádání „Seed fondu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Obrázek 17" descr=""/>
          <p:cNvPicPr/>
          <p:nvPr/>
        </p:nvPicPr>
        <p:blipFill>
          <a:blip r:embed="rId1"/>
          <a:stretch/>
        </p:blipFill>
        <p:spPr>
          <a:xfrm>
            <a:off x="6480000" y="144360"/>
            <a:ext cx="192888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Nadpis 2"/>
          <p:cNvSpPr/>
          <p:nvPr/>
        </p:nvSpPr>
        <p:spPr>
          <a:xfrm>
            <a:off x="468360" y="339840"/>
            <a:ext cx="839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</a:rPr>
              <a:t>Vnitřní struktura Seed fon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Zaoblený obdélník 4"/>
          <p:cNvSpPr/>
          <p:nvPr/>
        </p:nvSpPr>
        <p:spPr>
          <a:xfrm>
            <a:off x="5686560" y="1022400"/>
            <a:ext cx="1295280" cy="519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b8d"/>
                </a:solidFill>
                <a:latin typeface="Arial"/>
              </a:rPr>
              <a:t>F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Zaoblený obdélník 11"/>
          <p:cNvSpPr/>
          <p:nvPr/>
        </p:nvSpPr>
        <p:spPr>
          <a:xfrm>
            <a:off x="4356000" y="2152800"/>
            <a:ext cx="1330560" cy="772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b8d"/>
                </a:solidFill>
                <a:latin typeface="Arial"/>
              </a:rPr>
              <a:t>Finanční nástro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4b8d"/>
                </a:solidFill>
                <a:latin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Zaoblený obdélník 12"/>
          <p:cNvSpPr/>
          <p:nvPr/>
        </p:nvSpPr>
        <p:spPr>
          <a:xfrm>
            <a:off x="7318440" y="2114640"/>
            <a:ext cx="1535040" cy="820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b8d"/>
                </a:solidFill>
                <a:latin typeface="Arial"/>
              </a:rPr>
              <a:t>Finanční nástroj </a:t>
            </a:r>
            <a:r>
              <a:rPr b="1" lang="cs-CZ" sz="1800" spc="-1" strike="noStrike">
                <a:solidFill>
                  <a:srgbClr val="004b8d"/>
                </a:solidFill>
                <a:latin typeface="Arial"/>
              </a:rPr>
              <a:t>VEN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Zaoblený obdélník 13"/>
          <p:cNvSpPr/>
          <p:nvPr/>
        </p:nvSpPr>
        <p:spPr>
          <a:xfrm>
            <a:off x="4886280" y="3102120"/>
            <a:ext cx="101592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be1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Calibri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Zaoblený obdélník 14"/>
          <p:cNvSpPr/>
          <p:nvPr/>
        </p:nvSpPr>
        <p:spPr>
          <a:xfrm>
            <a:off x="4886280" y="3587760"/>
            <a:ext cx="101592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be1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Calibri"/>
              </a:rPr>
              <a:t>Star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Zaoblený obdélník 15"/>
          <p:cNvSpPr/>
          <p:nvPr/>
        </p:nvSpPr>
        <p:spPr>
          <a:xfrm>
            <a:off x="7726320" y="3206880"/>
            <a:ext cx="1200240" cy="414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be1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Calibri"/>
              </a:rPr>
              <a:t>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Volný tvar 16"/>
          <p:cNvSpPr/>
          <p:nvPr/>
        </p:nvSpPr>
        <p:spPr>
          <a:xfrm>
            <a:off x="4756320" y="2925720"/>
            <a:ext cx="133200" cy="909720"/>
          </a:xfrm>
          <a:custGeom>
            <a:avLst/>
            <a:gdLst>
              <a:gd name="textAreaLeft" fmla="*/ 0 w 133200"/>
              <a:gd name="textAreaRight" fmla="*/ 133560 w 13320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33350" h="1400175">
                <a:moveTo>
                  <a:pt x="0" y="0"/>
                </a:moveTo>
                <a:lnTo>
                  <a:pt x="0" y="1400175"/>
                </a:lnTo>
                <a:lnTo>
                  <a:pt x="133350" y="140017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římá spojnice 17"/>
          <p:cNvSpPr/>
          <p:nvPr/>
        </p:nvSpPr>
        <p:spPr>
          <a:xfrm flipV="1">
            <a:off x="4743360" y="3316320"/>
            <a:ext cx="130320" cy="6480"/>
          </a:xfrm>
          <a:prstGeom prst="line">
            <a:avLst/>
          </a:prstGeom>
          <a:ln w="284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Volný tvar 18"/>
          <p:cNvSpPr/>
          <p:nvPr/>
        </p:nvSpPr>
        <p:spPr>
          <a:xfrm>
            <a:off x="7620120" y="2935440"/>
            <a:ext cx="114120" cy="509400"/>
          </a:xfrm>
          <a:custGeom>
            <a:avLst/>
            <a:gdLst>
              <a:gd name="textAreaLeft" fmla="*/ 0 w 114120"/>
              <a:gd name="textAreaRight" fmla="*/ 114480 w 11412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114300" h="1276350">
                <a:moveTo>
                  <a:pt x="0" y="0"/>
                </a:moveTo>
                <a:lnTo>
                  <a:pt x="0" y="1276350"/>
                </a:lnTo>
                <a:lnTo>
                  <a:pt x="114300" y="127635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bdélník 19"/>
          <p:cNvSpPr/>
          <p:nvPr/>
        </p:nvSpPr>
        <p:spPr>
          <a:xfrm>
            <a:off x="3741840" y="1960560"/>
            <a:ext cx="2448000" cy="3382920"/>
          </a:xfrm>
          <a:prstGeom prst="rect">
            <a:avLst/>
          </a:prstGeom>
          <a:noFill/>
          <a:ln w="25560">
            <a:solidFill>
              <a:srgbClr val="c2c2c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ovéPole 20"/>
          <p:cNvSpPr/>
          <p:nvPr/>
        </p:nvSpPr>
        <p:spPr>
          <a:xfrm>
            <a:off x="4300920" y="4226040"/>
            <a:ext cx="16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666666"/>
                </a:solidFill>
                <a:latin typeface="Calibri"/>
              </a:rPr>
              <a:t>Firmy mladší 5 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bdélník 21"/>
          <p:cNvSpPr/>
          <p:nvPr/>
        </p:nvSpPr>
        <p:spPr>
          <a:xfrm>
            <a:off x="7130880" y="1959120"/>
            <a:ext cx="1938600" cy="3375000"/>
          </a:xfrm>
          <a:prstGeom prst="rect">
            <a:avLst/>
          </a:prstGeom>
          <a:noFill/>
          <a:ln w="25560">
            <a:solidFill>
              <a:srgbClr val="c2c2c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ovéPole 22"/>
          <p:cNvSpPr/>
          <p:nvPr/>
        </p:nvSpPr>
        <p:spPr>
          <a:xfrm>
            <a:off x="7269120" y="422604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666666"/>
                </a:solidFill>
                <a:latin typeface="Calibri"/>
              </a:rPr>
              <a:t>Firmy starší 5 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Volný tvar 23"/>
          <p:cNvSpPr/>
          <p:nvPr/>
        </p:nvSpPr>
        <p:spPr>
          <a:xfrm>
            <a:off x="4821120" y="1282680"/>
            <a:ext cx="865440" cy="831960"/>
          </a:xfrm>
          <a:custGeom>
            <a:avLst/>
            <a:gdLst>
              <a:gd name="textAreaLeft" fmla="*/ 0 w 865440"/>
              <a:gd name="textAreaRight" fmla="*/ 865800 w 86544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352425" h="904875">
                <a:moveTo>
                  <a:pt x="352425" y="0"/>
                </a:moveTo>
                <a:lnTo>
                  <a:pt x="0" y="0"/>
                </a:lnTo>
                <a:lnTo>
                  <a:pt x="0" y="90487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Volný tvar 24"/>
          <p:cNvSpPr/>
          <p:nvPr/>
        </p:nvSpPr>
        <p:spPr>
          <a:xfrm flipH="1">
            <a:off x="6981840" y="1282680"/>
            <a:ext cx="1008000" cy="831960"/>
          </a:xfrm>
          <a:custGeom>
            <a:avLst/>
            <a:gdLst>
              <a:gd name="textAreaLeft" fmla="*/ 360 w 1008000"/>
              <a:gd name="textAreaRight" fmla="*/ 1008720 w 100800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352425" h="904875">
                <a:moveTo>
                  <a:pt x="352425" y="0"/>
                </a:moveTo>
                <a:lnTo>
                  <a:pt x="0" y="0"/>
                </a:lnTo>
                <a:lnTo>
                  <a:pt x="0" y="90487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Zaoblený obdélník 25"/>
          <p:cNvSpPr/>
          <p:nvPr/>
        </p:nvSpPr>
        <p:spPr>
          <a:xfrm>
            <a:off x="3886200" y="4543560"/>
            <a:ext cx="1101600" cy="577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be1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4b8d"/>
                </a:solidFill>
                <a:latin typeface="Calibri"/>
              </a:rPr>
              <a:t>Bez soukromého invest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Zaoblený obdélník 26"/>
          <p:cNvSpPr/>
          <p:nvPr/>
        </p:nvSpPr>
        <p:spPr>
          <a:xfrm>
            <a:off x="5060880" y="4543560"/>
            <a:ext cx="1057320" cy="577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be1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4b8d"/>
                </a:solidFill>
                <a:latin typeface="Calibri"/>
              </a:rPr>
              <a:t>Se soukromým invest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Zaoblený obdélník 27"/>
          <p:cNvSpPr/>
          <p:nvPr/>
        </p:nvSpPr>
        <p:spPr>
          <a:xfrm>
            <a:off x="7521480" y="4533840"/>
            <a:ext cx="1116000" cy="577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be1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4b8d"/>
                </a:solidFill>
                <a:latin typeface="Calibri"/>
              </a:rPr>
              <a:t>Se soukromým invest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Zástupný symbol pro text 4"/>
          <p:cNvSpPr/>
          <p:nvPr/>
        </p:nvSpPr>
        <p:spPr>
          <a:xfrm>
            <a:off x="108000" y="824040"/>
            <a:ext cx="3508200" cy="47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285840" indent="-285840"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Finanční nástroj SEED je urč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90000"/>
              </a:lnSpc>
              <a:spcAft>
                <a:spcPts val="3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4b8d"/>
                </a:solidFill>
                <a:latin typeface="Calibri"/>
              </a:rPr>
              <a:t>začínajícím firmám (obvykle mladším než 5 l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90000"/>
              </a:lnSpc>
              <a:spcAft>
                <a:spcPts val="300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4b8d"/>
                </a:solidFill>
                <a:latin typeface="Calibri"/>
              </a:rPr>
              <a:t>zahajujícím podnik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90000"/>
              </a:lnSpc>
              <a:spcAft>
                <a:spcPts val="300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4b8d"/>
                </a:solidFill>
                <a:latin typeface="Calibri"/>
              </a:rPr>
              <a:t>rozvíjejícím produkt, přičemž nemají ještě trž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90000"/>
              </a:lnSpc>
              <a:spcAft>
                <a:spcPts val="300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4b8d"/>
                </a:solidFill>
                <a:latin typeface="Calibri"/>
              </a:rPr>
              <a:t>i velmi mladým firmám do dvou let hi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90000"/>
              </a:lnSpc>
              <a:spcAft>
                <a:spcPts val="300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4b8d"/>
                </a:solidFill>
                <a:latin typeface="Calibri"/>
              </a:rPr>
              <a:t>... dokonce ještě před vlastním založením společnosti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2401"/>
              </a:spcBef>
              <a:spcAft>
                <a:spcPts val="300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Finanční nástroj VENTURE je urč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90000"/>
              </a:lnSpc>
              <a:spcAft>
                <a:spcPts val="300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4b8d"/>
                </a:solidFill>
                <a:latin typeface="Calibri"/>
              </a:rPr>
              <a:t>vyspělejším firmám (obvykle  starším než 5 l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90000"/>
              </a:lnSpc>
              <a:spcAft>
                <a:spcPts val="300"/>
              </a:spcAft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4b8d"/>
                </a:solidFill>
                <a:latin typeface="Calibri"/>
              </a:rPr>
              <a:t>ve stádiu expanze – mají již produkt a trž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90000"/>
              </a:lnSpc>
              <a:spcAft>
                <a:spcPts val="300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4b8d"/>
                </a:solidFill>
                <a:latin typeface="Calibri"/>
              </a:rPr>
              <a:t>mají potenciál k dalšímu rozvo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Nadpis 3"/>
          <p:cNvSpPr/>
          <p:nvPr/>
        </p:nvSpPr>
        <p:spPr>
          <a:xfrm>
            <a:off x="250920" y="333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  <a:ea typeface="Arial"/>
              </a:rPr>
              <a:t>Bude investorem do začínajících podniků stá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Zástupný symbol pro text 4"/>
          <p:cNvSpPr/>
          <p:nvPr/>
        </p:nvSpPr>
        <p:spPr>
          <a:xfrm>
            <a:off x="324000" y="563400"/>
            <a:ext cx="8532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285840" indent="-285840">
              <a:lnSpc>
                <a:spcPct val="100000"/>
              </a:lnSpc>
              <a:spcAft>
                <a:spcPts val="300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4b8d"/>
                </a:solidFill>
                <a:latin typeface="Calibri"/>
              </a:rPr>
              <a:t>Vždy společně se soukromým investor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Soukromý investor bude mít rozhodující slovo</a:t>
            </a:r>
            <a:br>
              <a:rPr sz="1800"/>
            </a:b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při výběru cílového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Úkolem státního fondu je vytvořit finanční</a:t>
            </a:r>
            <a:br>
              <a:rPr sz="1800"/>
            </a:b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páku, rozložit rizi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Cílem </a:t>
            </a:r>
            <a:r>
              <a:rPr b="1" lang="cs-CZ" sz="1800" spc="-1" strike="noStrike">
                <a:solidFill>
                  <a:srgbClr val="004b8d"/>
                </a:solidFill>
                <a:latin typeface="Calibri"/>
              </a:rPr>
              <a:t>NENÍ KONKUROVAT</a:t>
            </a: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 soukromým investorů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4b8d"/>
                </a:solidFill>
                <a:latin typeface="Calibri"/>
              </a:rPr>
              <a:t>Vždy v souladu s tržními princi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Správa fondu svěřena do rukou odborníků – </a:t>
            </a:r>
            <a:r>
              <a:rPr b="1" lang="cs-CZ" sz="1800" spc="-1" strike="noStrike">
                <a:solidFill>
                  <a:srgbClr val="004b8d"/>
                </a:solidFill>
                <a:latin typeface="Calibri"/>
              </a:rPr>
              <a:t>NE ÚŘEDNÍKŮ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Standardní procesy (výběr investic podle kvality podnikatelského plánu a perspektivy růstu, due diligence, stanovení podmí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Standardní dokumenty (term sheet, investiční smlou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4b8d"/>
                </a:solidFill>
                <a:latin typeface="Calibri"/>
              </a:rPr>
              <a:t>Další efek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Vychovávat podnikatele k využívání této formy finan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Navázat partnerství se soukromými investory a motivovat je k investování do začínajících fi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7" descr="fd-private-public"/>
          <p:cNvPicPr/>
          <p:nvPr/>
        </p:nvPicPr>
        <p:blipFill>
          <a:blip r:embed="rId12"/>
          <a:stretch/>
        </p:blipFill>
        <p:spPr>
          <a:xfrm>
            <a:off x="6496200" y="957240"/>
            <a:ext cx="2108160" cy="2041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5778360" cy="52020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4b8d"/>
                </a:solidFill>
                <a:latin typeface="Calibri"/>
              </a:rPr>
              <a:t>Vyhledávání investičních příležitostí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36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Obhospodařovatel díky svým kontaktům na soukromé investory, investiční poradce a další subjek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36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Může je navrhnout Fo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36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Může je navrhnout soukromý inves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36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Firmy se budou hlásit samy (spin-off firm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36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Navrhne je organizace podpůrné inovační infrastruktury (Inovační centra, Centra transferu technologií, VTP, inkubátory aj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4b8d"/>
                </a:solidFill>
                <a:latin typeface="Calibri"/>
              </a:rPr>
              <a:t>Synergie s dalšími aktivitami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36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Pre-seed aktivity – OP VaVpI (MŠM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36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CzechEkoSystem (CzechInves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title"/>
          </p:nvPr>
        </p:nvSpPr>
        <p:spPr>
          <a:xfrm>
            <a:off x="468360" y="339840"/>
            <a:ext cx="83995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</a:rPr>
              <a:t>Bude dostatek cílových společností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0" name="Picture 9" descr="vtp_pohled3"/>
          <p:cNvPicPr/>
          <p:nvPr/>
        </p:nvPicPr>
        <p:blipFill>
          <a:blip r:embed="rId10"/>
          <a:srcRect l="2610" t="16109" r="17903" b="0"/>
          <a:stretch/>
        </p:blipFill>
        <p:spPr>
          <a:xfrm>
            <a:off x="6297480" y="3111480"/>
            <a:ext cx="2657520" cy="167004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7" descr="ESP-300x199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00720" y="1125360"/>
            <a:ext cx="264168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7:36:03Z</dcterms:created>
  <dc:creator>Ptáček Ondřej</dc:creator>
  <dc:description/>
  <dc:language>en-US</dc:language>
  <cp:lastModifiedBy>Vránová Dagmar</cp:lastModifiedBy>
  <cp:lastPrinted>2013-04-15T07:02:50Z</cp:lastPrinted>
  <dcterms:modified xsi:type="dcterms:W3CDTF">2013-04-16T13:19:01Z</dcterms:modified>
  <cp:revision>228</cp:revision>
  <dc:subject/>
  <dc:title>Informace o aktuálním stavu příprav seed fondu</dc:title>
</cp:coreProperties>
</file>