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8BB-A4E5-410B-8783-B1D5F13E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366-CF55-45D6-B16C-ECF0816D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0C4-7BB9-480C-A082-78264414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D01-F666-4ADC-BB68-03ECF5A9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A52-CA81-4F48-8F6E-E2B705FA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F04-82CF-4F82-B9A4-E8A0AA0B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896-BACE-4F40-ACA9-55BD734A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ED8-4208-4716-96D4-03DF3612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FB4-E11F-4C9A-928F-C948F183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B97-ED44-4960-9906-C21583C3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824-5372-4E75-9FC0-5ADF6E7E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7D0-7F89-44F2-B4ED-DD5806BE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3D42-90C8-47F0-8FB5-09AC259E4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224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43434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vé produktové možnosti v praxi kolektívneho investov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Arial Narrow"/>
              </a:rPr>
              <a:t>Ďakujeme za pozornos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638680" y="6275520"/>
            <a:ext cx="2210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800" spc="-1" strike="noStrike">
                <a:solidFill>
                  <a:srgbClr val="ffffff"/>
                </a:solidFill>
                <a:latin typeface="Arial Narrow"/>
              </a:rPr>
              <a:t>Slovesnksá asociácia správcovských spoločnost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800" spc="-1" strike="noStrike">
                <a:solidFill>
                  <a:srgbClr val="ffffff"/>
                </a:solidFill>
                <a:latin typeface="Arial Narrow"/>
              </a:rPr>
              <a:t>Drieňová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800" spc="-1" strike="noStrike">
                <a:solidFill>
                  <a:srgbClr val="ffffff"/>
                </a:solidFill>
                <a:latin typeface="Arial Narrow"/>
              </a:rPr>
              <a:t>821 01  Bratisla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6275520"/>
            <a:ext cx="990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800" spc="-1" strike="noStrike" u="sng">
                <a:solidFill>
                  <a:srgbClr val="ffffcc"/>
                </a:solidFill>
                <a:uFillTx/>
                <a:latin typeface="Arial Narrow"/>
              </a:rPr>
              <a:t>www.sass-sk.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800" spc="-1" strike="noStrike">
                <a:solidFill>
                  <a:srgbClr val="ffffff"/>
                </a:solidFill>
                <a:latin typeface="Arial Narrow"/>
              </a:rPr>
              <a:t>+421 2 444  56  5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800" spc="-1" strike="noStrike">
                <a:solidFill>
                  <a:srgbClr val="ffffff"/>
                </a:solidFill>
                <a:latin typeface="Arial Narrow"/>
              </a:rPr>
              <a:t>+421 2 446 32  5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82296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Štruktúra majetku v špeciálnych fondoch </a:t>
            </a:r>
            <a:br>
              <a:rPr sz="3600"/>
            </a:b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k 29.03.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1219320"/>
            <a:ext cx="3962520" cy="642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1 517 895 0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-380880" y="1143000"/>
          <a:ext cx="10287000" cy="594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1143000"/>
                    <a:ext cx="10287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Rozdelenie špeciálnych fondov a UCITS </a:t>
            </a:r>
            <a:br>
              <a:rPr sz="3600"/>
            </a:b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2007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-228600" y="1143000"/>
          <a:ext cx="960120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1143000"/>
                    <a:ext cx="96012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362320" y="1447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Mil.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66"/>
                </a:solidFill>
                <a:uFillTx/>
                <a:latin typeface="Arial Narrow"/>
              </a:rPr>
              <a:t>Vývoj majetku v špeciálnych OPF </a:t>
            </a:r>
            <a:br>
              <a:rPr sz="4000"/>
            </a:br>
            <a:r>
              <a:rPr b="0" i="1" lang="en-US" sz="4000" spc="-1" strike="noStrike" u="sng">
                <a:solidFill>
                  <a:srgbClr val="000066"/>
                </a:solidFill>
                <a:uFillTx/>
                <a:latin typeface="Arial Narrow"/>
              </a:rPr>
              <a:t>2008 – 2013 (mil. EU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2590920"/>
            <a:ext cx="1447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-228600" y="1219320"/>
          <a:ext cx="9524880" cy="563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1219320"/>
                    <a:ext cx="95248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Čisté predaje v špeciálnych OPF </a:t>
            </a:r>
            <a:br>
              <a:rPr sz="3600"/>
            </a:b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(EU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1676520"/>
          <a:ext cx="8915400" cy="3736800"/>
        </p:xfrm>
        <a:graphic>
          <a:graphicData uri="http://schemas.openxmlformats.org/drawingml/2006/table">
            <a:tbl>
              <a:tblPr/>
              <a:tblGrid>
                <a:gridCol w="3200400"/>
                <a:gridCol w="1828800"/>
                <a:gridCol w="1828800"/>
                <a:gridCol w="2057400"/>
              </a:tblGrid>
              <a:tr h="832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Kategória O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31.12.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31.12.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29.03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07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špeciálne fondy nehnute</a:t>
                      </a:r>
                      <a:r>
                        <a:rPr b="1" i="1" lang="en-US" sz="16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ľ</a:t>
                      </a: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nost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8 200 7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7 019 9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 916 8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špeciálne fond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cenných papier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4 638 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13 354 5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9 996 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Špeciálne fond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alternatívnych investíc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9 567 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645 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špeciálne fond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profesionálnych investor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0 865 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1 333 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7 107 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65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SPO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13 704 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91 275 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6 666 5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Čisté predaje špeciálnych OPF v SR v roku 2013 (mil. EU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2658960"/>
          <a:ext cx="4038480" cy="24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58960"/>
                    <a:ext cx="403848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-533520" y="838080"/>
          <a:ext cx="9677520" cy="6019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838080"/>
                    <a:ext cx="96775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Registrované špeciálne OPF členov SASS v SR</a:t>
            </a:r>
            <a:br>
              <a:rPr sz="3600"/>
            </a:b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 k 29.03.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52280" y="1066680"/>
          <a:ext cx="899172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066680"/>
                    <a:ext cx="89917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267080" y="1676520"/>
          <a:ext cx="3429000" cy="455400"/>
        </p:xfrm>
        <a:graphic>
          <a:graphicData uri="http://schemas.openxmlformats.org/drawingml/2006/table">
            <a:tbl>
              <a:tblPr/>
              <a:tblGrid>
                <a:gridCol w="866880"/>
                <a:gridCol w="851040"/>
                <a:gridCol w="857160"/>
                <a:gridCol w="85392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31.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993366"/>
                          </a:solidFill>
                          <a:latin typeface="Arial CE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993366"/>
                          </a:solidFill>
                          <a:latin typeface="Arial CE"/>
                          <a:ea typeface="Times New Roman"/>
                        </a:rPr>
                        <a:t>31.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993366"/>
                          </a:solidFill>
                          <a:latin typeface="Arial CE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00"/>
                          </a:solidFill>
                          <a:latin typeface="Arial CE"/>
                          <a:ea typeface="Times New Roman"/>
                        </a:rPr>
                        <a:t>31.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00"/>
                          </a:solidFill>
                          <a:latin typeface="Arial CE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02.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 Narrow"/>
              </a:rPr>
              <a:t>NAV v OPF v porovnaní s NAV v OPF podľa triedy aktí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1523880"/>
          <a:ext cx="8382240" cy="4272120"/>
        </p:xfrm>
        <a:graphic>
          <a:graphicData uri="http://schemas.openxmlformats.org/drawingml/2006/table">
            <a:tbl>
              <a:tblPr/>
              <a:tblGrid>
                <a:gridCol w="1679760"/>
                <a:gridCol w="1482840"/>
                <a:gridCol w="723600"/>
                <a:gridCol w="1411560"/>
                <a:gridCol w="711000"/>
                <a:gridCol w="1470240"/>
                <a:gridCol w="903240"/>
              </a:tblGrid>
              <a:tr h="699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Kategória O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NAV k 30.03.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NAV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NAV k 29.03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NA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NAV podľa tried aktí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NAV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Peňažn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843 442 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0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4 238 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74 865 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Dlhopisov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10 345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441 516 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445 269 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Akciov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59 166 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93 873 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94 097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Zmiešan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89 031 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30 707 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6 205 8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Fondy fond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23 785 6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4 293 7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4 293 7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n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6 593 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0 887 6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4 744 4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Špeciálne fond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nehnuteľnost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28 595 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23 850 6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23 850 6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Komoditn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 085 8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SPO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530 960 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609 368 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603 412 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 Narrow"/>
              </a:rPr>
              <a:t>Porovnanie čistých predajov v OPF podľa tried aktív  v roku 2012 +1Q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1600200"/>
          <a:ext cx="8458200" cy="4145040"/>
        </p:xfrm>
        <a:graphic>
          <a:graphicData uri="http://schemas.openxmlformats.org/drawingml/2006/table">
            <a:tbl>
              <a:tblPr/>
              <a:tblGrid>
                <a:gridCol w="4114800"/>
                <a:gridCol w="2209680"/>
                <a:gridCol w="2133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Kategória O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Podľa klasickej kategorizá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Podľa tried aktí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Peňažné fon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181 806 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73 326 4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Dlhopisové fon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92 604 4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89 204 4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Akciové fon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682 6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885 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Zmiešané fon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 378 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1 878 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Fondy fond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21 931 6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21 931 6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né fon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115 281 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111 725 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Špeciálne fondy nehnuteľnost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4 936 7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4 936 7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Komoditné fon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1 213 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45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SPO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240 625 5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52 379 3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SS - Michaela Bordováčová</cp:lastModifiedBy>
  <dcterms:modified xsi:type="dcterms:W3CDTF">2013-04-17T12:58:16Z</dcterms:modified>
  <cp:revision>9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