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B24-AA81-443B-8C18-4F7C9076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F9EA-8F2F-4F8E-A189-BF742AD68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many area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3891-BCA2-49BE-A53C-9BE15E20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EF93-0A0C-474F-9E6E-7342F2C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526E-F74D-4359-9CAE-5CB87C80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FA85-8C19-4943-9500-6CB73D65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2631-AB7E-4C9F-A558-9DDF4BAA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347-3D61-4248-A106-4C86580A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17F-2979-4E40-9B34-CD9178C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3B4B-97B4-4558-85E7-00932B0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6129-3A51-476F-8263-7DF821D8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8883-9AB3-426A-B6EF-73DAD87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3F3B-3D65-426E-A48B-9BA423F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1EBF-D32C-4308-9CA5-F7B72A40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B90D-777F-49B0-8F64-0F57407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B2C-077D-4BD1-BD3C-1C7B40A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09A9-4D9C-438A-A839-9E05A1BC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6D84-C2FC-40E5-A2F9-E9F7F52E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301-D4F3-4FD7-8FD3-1B896F51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4B64-C200-4A0B-A05A-71F39FC1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7777-381B-460C-A8E3-AB980DF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93FD-5C93-47B1-8A7A-F44EF7A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8738-F7BA-443B-A1E2-F664767B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2FEE-926E-429E-8D3F-BCF94A5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63DC-8781-4B0C-A54B-85C7AD67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B43F-9F69-4B41-A2B6-F010326C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B1C7-7FE8-4E6A-88DA-83C72F94D8A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02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1028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3" name="Freeform 1029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4" name="Freeform 1030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5" name="Freeform 1031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6" name="Freeform 1032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57" name="Freeform 1033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8880-B522-420D-BBF6-4561ED8AF7A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kapitalovy.trh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4000"/>
            </a:br>
            <a:r>
              <a:rPr b="1" lang="cs-CZ" sz="6000" spc="-1" strike="noStrike">
                <a:solidFill>
                  <a:srgbClr val="ffcc00"/>
                </a:solidFill>
                <a:latin typeface="Arial"/>
              </a:rPr>
              <a:t>PŘEMĚNY AKCIOVÉ SPOLEČNOSTI</a:t>
            </a:r>
            <a:br>
              <a:rPr sz="6000"/>
            </a:br>
            <a:r>
              <a:rPr b="1" lang="cs-CZ" sz="6000" spc="-1" strike="noStrike">
                <a:solidFill>
                  <a:srgbClr val="ffcc00"/>
                </a:solidFill>
                <a:latin typeface="Arial"/>
              </a:rPr>
              <a:t> S PROMĚNNÝM ZÁKLADNÍM KAPITÁLEM (SICAV)</a:t>
            </a:r>
            <a:br>
              <a:rPr sz="4000"/>
            </a:b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971640" y="5157720"/>
            <a:ext cx="712944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Footlight MT Light"/>
              </a:rPr>
              <a:t>Jan Šovar</a:t>
            </a:r>
            <a:endParaRPr b="0" lang="en-US" sz="3600" spc="-1" strike="noStrike">
              <a:solidFill>
                <a:srgbClr val="003399"/>
              </a:solidFill>
              <a:latin typeface="Footlight MT Ligh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Footlight MT Light"/>
              </a:rPr>
              <a:t>Praha 19. dubna 2013, hotel Sheraton</a:t>
            </a:r>
            <a:br>
              <a:rPr sz="2400"/>
            </a:br>
            <a:r>
              <a:rPr b="1" i="1" lang="pl-PL" sz="2400" spc="-1" strike="noStrike">
                <a:solidFill>
                  <a:srgbClr val="ffffff"/>
                </a:solidFill>
                <a:latin typeface="Footlight MT Light"/>
              </a:rPr>
              <a:t>Next Steps in Asset Management, AKAT ČR/SASS</a:t>
            </a: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kapitalovy.trh@mfcr.cz</a:t>
            </a:r>
            <a:r>
              <a:rPr b="1" lang="en-US" sz="4400" spc="-1" strike="noStrike">
                <a:solidFill>
                  <a:srgbClr val="e5e5f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112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ěkuj</a:t>
            </a:r>
            <a:r>
              <a:rPr b="1" lang="cs-CZ" sz="4400" spc="-1" strike="noStrike">
                <a:solidFill>
                  <a:srgbClr val="e5e5ff"/>
                </a:solidFill>
                <a:latin typeface="Times New Roman"/>
              </a:rPr>
              <a:t>i</a:t>
            </a: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 za pozornost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otazy</a:t>
            </a:r>
            <a:endParaRPr b="0" lang="en-US" sz="4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Výhrada prezent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	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Obsah zobrazený v této prezentaci, jakož i ústní projev, odráží výlučně individuální názory, hodnocení a přístup autora k dané problematice, jež se nemusí shodovat s názory či hodnoceními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	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Přestože autor připravil prezentaci </a:t>
            </a:r>
            <a:br>
              <a:rPr sz="3200"/>
            </a:b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s</a:t>
            </a:r>
            <a:r>
              <a:rPr b="0" i="1" lang="cs-CZ" sz="32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náležitou péčí, činí tak bez nároku na úplnost </a:t>
            </a:r>
            <a:br>
              <a:rPr sz="3200"/>
            </a:b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a přesnost obsažených inform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" y="1295280"/>
            <a:ext cx="813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Shrnutí prezent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Footlight MT Light"/>
              </a:rPr>
              <a:t>  </a:t>
            </a: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Poznámky do úvodu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Footlight MT Light"/>
              </a:rPr>
              <a:t>  </a:t>
            </a: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Typy přemě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Dotazy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Poznámky do úvo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pické omy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je nová právní for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má „proměnlivý“ kapit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vestiční akcie jsou zvláštním druhem ak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bude možno zřídit bezprostředně po účinnosti ZIS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vzniku SICAV je vždy třeba povolení ČN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 přeměně SICAV je vždy třeba povolení ČNB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Typy přemě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S -&gt; 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F -&gt; 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ávní formy -&gt; 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§ 154 odst. 1 ZISIF: SICAV 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kciov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polečnost, která vyd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kcie, s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miž je spojeno p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o akcio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e na jejich odkoup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ú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t společnosti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j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ž sys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 vnitř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truktury je monistický 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firma obsahuje označ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vestič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fond s proměnným z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 kapi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m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AS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 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441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měna stanov v souladu s požadavky na obsah stanov SICAV (§ 156 ZISI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zhodnut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val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hromady o změně druhu akci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kladatelsk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k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ý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 pod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u na z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 kapit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u = zapisovaný z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kapit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 SICA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ze akcie, jejichž emis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kurs byl zcela splacen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ouhlas v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ch akcio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ů, jejichž akcie se po přeměně stanou zakladatelskými akciem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r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 na jejich odkoupe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vestič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k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stat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akci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 na jejich odkoupe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volení CNB – jen FKI, žádost podává administrátor, účastnici : Přeměňovaný fond, obhospodařovatel, administ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r, depozi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PF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 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68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PF 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n na SICA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F 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S i SICA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přeměně rozhoduje obhospodařovat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chv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e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o projektu přeměny (vypracov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 administr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rem), 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ežitosti projektu § 416 ZIS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 na odkoupe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L 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2 měs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rozhodnu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obhospodařovatele PF o přeměně a souč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jektu přeměny je z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zek obhospodařovatele PF upsat zakladatelsk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kcie budouc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o SICAVu, a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 ve vý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 pod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 na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 kapi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, kter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bude odpov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t zapisova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u z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u kapi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PF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 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68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 PF -&gt; vlast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y investičních akcií dnem z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isu do 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rejstř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nelze zapsat do 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rejstř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 přede dnem naby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moci rozhodnu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NB o povol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řem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nelze zapsat do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rejstř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, nebyl-li zcela splacen emis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kurs zakladatelských akci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měna PL za IA: Administ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r do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ěs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ů ode dne 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ú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nnosti přeměny, možnost peněž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dorov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vol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NB – jen FKI, žádost podává administrátor, účastnici : obhospodařovatel, administ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r, depozi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11280" y="119700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Non AS nebo non PF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 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68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 krok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měna na AS podle z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a upravuj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 přeměny obchodn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 společnost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družste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měna AS na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611280" y="119700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06:21:23Z</dcterms:created>
  <dc:creator>J. Šovar</dc:creator>
  <dc:description/>
  <dc:language>en-US</dc:language>
  <cp:lastModifiedBy>Jana Michalíková - AKAT</cp:lastModifiedBy>
  <dcterms:modified xsi:type="dcterms:W3CDTF">2013-04-17T19:15:25Z</dcterms:modified>
  <cp:revision>226</cp:revision>
  <dc:subject/>
  <dc:title>AIFMD</dc:title>
</cp:coreProperties>
</file>