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move the slide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CA9-4123-4900-9A9E-BDDCEF01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31C2-FB4A-44F3-926E-C355CC0CF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FFDF-8811-4F28-BE9B-22AB86759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E75E-F6CA-4036-B5DD-CC44B03F8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4CF3-CB59-48DA-BA88-9AEB8504A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8E9A-1AB1-4313-B2E7-B2B7D2105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316F-232E-4DE7-A579-8535A9CDB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1604-1B3E-4D98-A5A1-472AC00E6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C6BB-FD44-42B7-84C4-41A061958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F7D1-C5A9-4D43-B1F6-9F0B3E67F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0B54-7C46-4C3D-B0C1-2E9E26480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2063-A0F8-4D1F-AFD6-D4FDCB6F9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4A3F-CE3F-4C90-933C-C86CC65C8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3D3C-74B1-41F9-8B11-A6C98F7D6B75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92160"/>
            <a:ext cx="59054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016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lena.sebestova@cnb.cz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92160"/>
            <a:ext cx="59054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79640" y="2924280"/>
            <a:ext cx="46796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f7c"/>
                </a:solidFill>
                <a:latin typeface="Arial Narrow"/>
              </a:rPr>
              <a:t>ZISIF - výzvy pro ČNB</a:t>
            </a:r>
            <a:endParaRPr b="0" lang="en-US" sz="40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Alena Šebestová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Next Steps in Asset Manage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měny v postavení národních bank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raha, 19. dubna 2013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ISIF - výzvy pro ČNB                              1/5</a:t>
            </a:r>
            <a:endParaRPr b="1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ěcné dopady ZISIF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Rekodifikace UCITS IV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Implementace AIFM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Národní novinky (centrální administrátor, nové soukromoprávní typy fondů)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římý krok k rekodifikaci soukromého práva v ČR (2014)  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opady do činností ČNB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Regulace 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Licencování a registrace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Dohl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Mezinárodní spolupráce - průřezově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F8FE-B483-40E1-889A-E92E5452D2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ISIF - výzvy pro ČNB                              2/5</a:t>
            </a:r>
            <a:endParaRPr b="1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ýzvy v oblasti regulac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Nařízení EK 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Nové vyhlášky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Interpretační materiály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Revize stanovisek a nová urgentní stanoviska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SMA guideline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SMA Q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&amp;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A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Uzavření MoU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AE00-02B2-483A-B587-C501E222F7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ISIF - výzvy pro ČNB                              3/5</a:t>
            </a:r>
            <a:endParaRPr b="1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ýzvy v oblasti licencování resp. vstupu na trh (1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oskytovatelé služeb (v ČR)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řevod dosavadních licencí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 Narrow"/>
              </a:rPr>
              <a:t>Vytvoření a naplnění nových seznamů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í poskytovatelé služeb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á povinnost registrace u dosavadních poskytovatelů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á povinnost registrace pro neregulované správc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řeshraniční přeměn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B8A9-1F82-474C-A220-763D59C209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ISIF - výzvy pro ČNB                              4/5</a:t>
            </a:r>
            <a:endParaRPr b="1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ýzvy v oblasti licencování resp. vstupu na trh (2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rodukty (v ČR)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Licencování nadále jen UCITS a samosprávné fondy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Registrace CZ nesamosprávných fondů (do 5 dnů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ě – zahraniční správci CZ produktů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řeshraniční přeměn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Vstup z/do zahraničí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U notifikace služeb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U notifikace produktů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B3A9-3C51-44FE-AF2E-78D492A8FF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ISIF - výzvy pro ČNB                              5/5</a:t>
            </a:r>
            <a:endParaRPr b="1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ýzvy v oblasti dohledu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Rizikově vážený přístup k dohledu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Rozšíření a modifikace předmětu dohledu 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é subjekt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á pravidla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řenos odpovědnosti za tvorbu produktů na správce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Zdroje informací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ravidelný reporting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Ad hoc informace - nově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3300"/>
                </a:solidFill>
                <a:latin typeface="Arial Narrow"/>
              </a:rPr>
              <a:t>(téma dalšího příspěvku)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EF33-072A-43F1-A622-2E4523CEEA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Děkujume za pozornos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70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ěkuji za pozornos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Alena Šebestová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právník odboru regulace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sekce regulace a mezinárodní spolupráce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alena.sebestova@cnb.cz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93A5-04D0-419D-9664-EF22B6224F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Alena Šebestová</cp:lastModifiedBy>
  <dcterms:modified xsi:type="dcterms:W3CDTF">2013-04-18T12:54:00Z</dcterms:modified>
  <cp:revision>61</cp:revision>
  <dc:subject/>
  <dc:title>Český název přednášky/akce</dc:title>
</cp:coreProperties>
</file>