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E226-3D9D-491E-8D7F-3C5E2C764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3B94-50CC-45DF-A1CF-4932B0155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0EDF-B5B2-4EE0-B391-0FCB99646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0FD9-D68A-4CC6-A8FC-6A8F43508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8053-D4F8-45C3-9DF1-076C93B8B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AD97-D107-41D9-BD59-1196CE607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0CC3-D1D9-45E2-BBD9-8C6AB2ED7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617E-8CE7-49CD-AA19-DA348120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D665-E978-46E2-B6B9-D71FE378D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1C4D-F03A-490C-BD58-B08BA3570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2441-8CDF-445B-BC58-D6F0449DE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B2AC-CFB7-48E4-B05B-02BE40F6C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logo_down"/>
          <p:cNvPicPr/>
          <p:nvPr/>
        </p:nvPicPr>
        <p:blipFill>
          <a:blip r:embed="rId3"/>
          <a:stretch/>
        </p:blipFill>
        <p:spPr>
          <a:xfrm>
            <a:off x="34920" y="6381720"/>
            <a:ext cx="7302600" cy="47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8EA-1C46-4DFF-9E85-CEEF8DDCCD0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logo_down"/>
          <p:cNvPicPr/>
          <p:nvPr/>
        </p:nvPicPr>
        <p:blipFill>
          <a:blip r:embed="rId3"/>
          <a:stretch/>
        </p:blipFill>
        <p:spPr>
          <a:xfrm>
            <a:off x="34920" y="6381720"/>
            <a:ext cx="7302600" cy="477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_ftn1" TargetMode="External"/><Relationship Id="rId2" Type="http://schemas.openxmlformats.org/officeDocument/2006/relationships/hyperlink" Target="_ftn1" TargetMode="External"/><Relationship Id="rId3" Type="http://schemas.openxmlformats.org/officeDocument/2006/relationships/hyperlink" Target="_ftnref1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_ftn1" TargetMode="External"/><Relationship Id="rId2" Type="http://schemas.openxmlformats.org/officeDocument/2006/relationships/hyperlink" Target="_ftn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79912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f7c"/>
                </a:solidFill>
                <a:latin typeface="Arial Narrow"/>
              </a:rPr>
              <a:t>Dohled ČNB</a:t>
            </a:r>
            <a:endParaRPr b="0" lang="en-US" sz="4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f7c"/>
                </a:solidFill>
                <a:latin typeface="Arial Narrow"/>
              </a:rPr>
              <a:t>po implementaci AIFMD / ZISIF</a:t>
            </a:r>
            <a:endParaRPr b="0" lang="en-US" sz="4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Konference Next Steps in Asset Management 201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19.4.2013, Praha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Václav Simon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Sekce dohledu nad finančním trhem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Česká národní banka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9670-97C2-4ED4-B9F6-74ACB6BE617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NOVÉ VYKAZOVACÍ POVINNOSTI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I</a:t>
            </a: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nformační povinnost</a:t>
            </a: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 bude rozšířena o výkazy, které budou prostřednictvím ČNB zasílané </a:t>
            </a: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ESMA</a:t>
            </a: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lvl="1" marL="1049400" indent="-5922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Nadlimitní obhospodařovatelé 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speciálního fondu nebo FKvI, kteří jej fakticky překračují, budou plnit IP ve lhůtách podle Nařízení Komise </a:t>
            </a:r>
            <a:r>
              <a:rPr b="0" lang="cs-CZ" sz="17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1"/>
              </a:rPr>
              <a:t>[2</a:t>
            </a:r>
            <a:r>
              <a:rPr b="0" lang="en-US" sz="17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2"/>
              </a:rPr>
              <a:t>]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 v závislosti na míře, ve které přesahuje rozhodný limit</a:t>
            </a:r>
            <a:endParaRPr b="0" lang="en-US" sz="17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e čtvrtlet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bhospodařovatelé speciálního fondu nebo fondu kvalifikovaných investorů s majetkem více než 1 mld. EUR nebo obhospodařovatelé speciálního fondu nebo fondu kvalifikovaných investorů s majetkem více než 500 mil EUR v případě využití finanční páky),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 pololet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bhospodařovatelé speciálního fondu nebo fondu kvalifikovaných investorů s majetkem více než 500 mil. EUR nebo obhospodařovatelé speciálního fondu kvalifikovaných majetkem více než 100 mil. EUR v případě využití finanční páky),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 roč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statní obhospodařovatelé speciálního fondu nebo fondu kvalifikovaných investorů).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lvl="1" marL="1049400" indent="-5922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Podlimitní obhospodařovatelé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 FKvI a osoby provádějící správcu obdobnou obhospodařování (§ 15/1) budou plnit informační povinnost podle čl. 3 (3) AIFMD v roční frekvenci a ve sníženém rozsahu. Toto vykazování se uplatní i pro </a:t>
            </a: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nadlimitní obhospodařovatelé kteří rozhodný limit fakticky nepřekročí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. </a:t>
            </a:r>
            <a:endParaRPr b="0" lang="en-US" sz="17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200" spc="-1" strike="noStrike" u="sng">
                <a:solidFill>
                  <a:srgbClr val="5f9bc8"/>
                </a:solidFill>
                <a:uFillTx/>
                <a:latin typeface="Arial Narrow"/>
                <a:hlinkClick r:id="rId3"/>
              </a:rPr>
              <a:t>[2]</a:t>
            </a:r>
            <a:r>
              <a:rPr b="0" lang="cs-CZ" sz="1200" spc="-1" strike="noStrike">
                <a:solidFill>
                  <a:srgbClr val="003f7c"/>
                </a:solidFill>
                <a:latin typeface="Arial Narrow"/>
              </a:rPr>
              <a:t> Nařízení Komise v přenesené pravomoci (EU) č. 231/2013 ze dne 19. prosince 2012 , kterým se doplňuje směrnice Evropského parlamentu a Rady 2011/61/EU, pokud jde o výjimky, obecné podmínky provozování činnosti, depozitáře, pákový efekt, transparentnost a dohled.</a:t>
            </a:r>
            <a:endParaRPr b="0" lang="en-US" sz="12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3280" y="193320"/>
            <a:ext cx="568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ěkuji za pozorno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1640" y="2060280"/>
            <a:ext cx="3887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áclav Sim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Sekce dohledu nad F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Česká národní banka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vaclav.simon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OBSAH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USPOŘÁDÁNÍ DOHLEDU V ČNB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SEKTOR FONDŮ KOLEKTIVNÍHO INVESTOVÁNÍ V Č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ROZSAH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OVÁ OPATŘENÍ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ZAMĚŘENÍ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YKAZOVACÍ POVINNOSTI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E74-F3CE-4018-952E-7C4D40471EB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Uspořádání dohledu v ČNB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I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85EC-2E3D-4395-AB9A-F2817A9C22F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8" name="Picture 78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Uspořádání dohledu v ČNB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II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Schéma uspořádání sekce dohledu nad F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        </a:t>
            </a: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Dohled na dálku        Dohled na místě</a:t>
            </a:r>
            <a:endParaRPr b="0" lang="en-US" sz="28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bezřetnostní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dborné péč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87A-E3F2-46EB-874F-6AE3D10B750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2" name="Obdélník 4"/>
          <p:cNvSpPr/>
          <p:nvPr/>
        </p:nvSpPr>
        <p:spPr>
          <a:xfrm>
            <a:off x="3780000" y="3068640"/>
            <a:ext cx="3887640" cy="30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f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dohledu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kontroly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bezřetnosti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bezřetnosti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dohledu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kontroly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né 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né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Péče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péče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3" name="Přímá spojnice 6"/>
          <p:cNvSpPr/>
          <p:nvPr/>
        </p:nvSpPr>
        <p:spPr>
          <a:xfrm>
            <a:off x="5724360" y="3068640"/>
            <a:ext cx="0" cy="30970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4" name="Přímá spojnice 9"/>
          <p:cNvSpPr/>
          <p:nvPr/>
        </p:nvSpPr>
        <p:spPr>
          <a:xfrm>
            <a:off x="3780000" y="4616280"/>
            <a:ext cx="388764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číslo snímku 4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FF8-C040-4AF3-912E-3E4DF661AE8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6840"/>
            <a:ext cx="8136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ndy kolektivního investování v ČR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9898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Vývoj počtu domácích fondů kolektivního investování v ČR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2276640"/>
          <a:ext cx="7989840" cy="3504960"/>
        </p:xfrm>
        <a:graphic>
          <a:graphicData uri="http://schemas.openxmlformats.org/drawingml/2006/table">
            <a:tbl>
              <a:tblPr/>
              <a:tblGrid>
                <a:gridCol w="820800"/>
                <a:gridCol w="2465280"/>
                <a:gridCol w="2536920"/>
                <a:gridCol w="2166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Rok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určené veřejnosti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kvalifikovaných investorů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7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7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8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CCB-9D12-4152-B68B-7FCDDB0BEDF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ndy kolektivního investování v ČR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I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700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Vývoj majetku v domácích fondech kolektivního investování v ČR (v mld. Kč)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3280" y="3141720"/>
            <a:ext cx="56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05000"/>
          <a:ext cx="7989840" cy="3697200"/>
        </p:xfrm>
        <a:graphic>
          <a:graphicData uri="http://schemas.openxmlformats.org/drawingml/2006/table">
            <a:tbl>
              <a:tblPr/>
              <a:tblGrid>
                <a:gridCol w="820800"/>
                <a:gridCol w="2465280"/>
                <a:gridCol w="2536920"/>
                <a:gridCol w="216684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Rok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určené veřejnosti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kvalifikovaných investorů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9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9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ROZSAH DOHLEDU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ÍŽENÉ OSOBY a ČINNOSTI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ově – hlavní administrátor, hlavní podpůrce, noví depozitáři, zahraniční obhospodařovatel, vznik nových produktů – nesamosprávných AIF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ĚCNÝ ROZSAH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vinnosti stanovené zákonem, na základě zákona, přímo použitelným předpisem E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dmínky určené v Rozhodnutí ČNB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01ED-1D14-4AA1-9195-DD58404D04E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DOHLEDOVÁ OPATŘENÍ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Změn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Dohlížený subjekt je povinen bez zbytečného odkladu oznámit ČNB způsob odstranění nedostatků a zjednání náprav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žadovat ověření oceňování majetku a dluhů IF jinou osobo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Určit podmínky pro využití pákového efekt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Omezit rozsah investiční strategi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řijmout opatření k účinnějšímu sledování možných zdrojů systémového rizika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9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7F5C-5918-4A2E-9E1A-DB15D926EC4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55C-1CBD-494C-A819-2DCFF251AD2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86840"/>
            <a:ext cx="806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ZAMĚŘENÍ DOHLEDU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§ 536 ZISIF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ČNB se při výkonu dohledu zaměří především na: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14240" indent="-19188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ochranu zájmů investorů fondů kolektivního investování </a:t>
            </a:r>
            <a:r>
              <a:rPr b="0" lang="cs-CZ" sz="26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1"/>
              </a:rPr>
              <a:t>[1</a:t>
            </a:r>
            <a:r>
              <a:rPr b="0" lang="en-US" sz="26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2"/>
              </a:rPr>
              <a:t>]</a:t>
            </a: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-19188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možné zdroje systémového rizika pro řádné fungování finančního trhu v České republice.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5f9bc8"/>
                </a:solidFill>
                <a:latin typeface="Arial Narrow"/>
              </a:rPr>
              <a:t>	</a:t>
            </a:r>
            <a:r>
              <a:rPr b="0" lang="en-US" sz="1400" spc="-1" strike="noStrike" baseline="30000">
                <a:solidFill>
                  <a:srgbClr val="5f9bc8"/>
                </a:solidFill>
                <a:latin typeface="Arial Narrow"/>
              </a:rPr>
              <a:t>[1]</a:t>
            </a:r>
            <a:r>
              <a:rPr b="0" lang="cs-CZ" sz="1400" spc="-1" strike="noStrike">
                <a:solidFill>
                  <a:srgbClr val="5f9bc8"/>
                </a:solidFill>
                <a:latin typeface="Arial Narrow"/>
              </a:rPr>
              <a:t> Ustanovení § 92 návrhu ZISIF rozděluje investiční fondy na fondy kolektivního investování a fondy kvalifikovaných investorů. Fondy kolektivního investování se dále rozdělují na standardní a speciální fondy.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27:11Z</dcterms:created>
  <dc:creator>Jan Škoda</dc:creator>
  <dc:description/>
  <dc:language>en-US</dc:language>
  <cp:lastModifiedBy>Václav Simon</cp:lastModifiedBy>
  <cp:lastPrinted>2013-04-18T12:30:57Z</cp:lastPrinted>
  <dcterms:modified xsi:type="dcterms:W3CDTF">2013-04-18T14:21:45Z</dcterms:modified>
  <cp:revision>39</cp:revision>
  <dc:subject/>
  <dc:title>Snímek 1</dc:title>
</cp:coreProperties>
</file>