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6352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28440" y="746280"/>
            <a:ext cx="49640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6352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3A93-7FDA-4EA7-81E8-43A70BB46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6388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7A0C-6CB5-4922-9D5B-DFD53B39736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6388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B46A-E11F-46F1-8A48-D4F35CC6CFC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6388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5E63-BBF3-4753-A0CA-A2997DF69C0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6388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E0A4-48FC-4AF5-BDFB-58E4C2864A7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6388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613C-7594-4679-8EF3-9075707D9FA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6388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ED93-7049-484D-B199-4404915A430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6388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11F2-97A3-4BA0-80EB-FF75D5E5B15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6388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74AF-61F4-4CF1-81CB-E8817BF2EF5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6388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4981-EC43-4EBA-AC0B-8D2C736286B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6388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7893-BA1F-4E5E-ABEA-1EC4D82F358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C37-755C-4D6C-857B-80932DEA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024-39FC-4304-A9D2-07388716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188-02FA-424A-ABCC-A9C7176F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C49-4D61-49AA-9906-03F9F117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7962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A69-474B-426F-B5BD-861E97B4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1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8916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1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8916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1A9-731B-4210-8598-50E5F348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624-94DB-4DB7-8C3A-1B29C35C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1151-69AE-4CA3-A703-15CC05B6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7962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870-6C92-4AE6-9106-224B8DFC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FD9-CEBF-4769-8618-0A17AB76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A4B-3D5C-44EB-9B44-A9E20D18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1765-C3F7-487A-A4BA-9B669F50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2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3571-1227-4758-8D77-52D8A43C4437}" type="slidenum">
              <a:rPr b="0" lang="en-US" sz="1400" spc="-1" strike="noStrike">
                <a:solidFill>
                  <a:srgbClr val="0732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1655280"/>
            <a:ext cx="7925040" cy="8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daj Non-UCITS fondov v SR –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aktické a technické otázky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609480" y="4800600"/>
            <a:ext cx="33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Martin Smre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Tatra Asset Managem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19. apríl 201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ŠPFPI – flexibilná schránka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8C13-6CC4-4231-9306-A31B6C2B4605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1219320" y="2209680"/>
            <a:ext cx="67816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rofesionálny investor aleb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investícia aspoň 50 000 e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individualizované stratégi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žiadne obmedzenia investične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straté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možnosť žiadať o povolenie aj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o vytvor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osobitný režim zverejňova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0160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 algn="ctr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Ďakujem za pozornosť </a:t>
            </a:r>
            <a:br>
              <a:rPr sz="3000"/>
            </a:br>
            <a:br>
              <a:rPr sz="3000"/>
            </a:b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905120" y="43434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Martin Smrek</a:t>
            </a:r>
            <a:br>
              <a:rPr sz="2400"/>
            </a:b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Tatra Asset Management</a:t>
            </a:r>
            <a:br>
              <a:rPr sz="2400"/>
            </a:b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e-mail: martin_smrek@tam.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Špeciálne podielové fondy v SR 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BB83-8CE3-423B-A142-2F964B06BD55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1219320" y="2209680"/>
            <a:ext cx="67816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Rounded Rectangle 5"/>
          <p:cNvSpPr/>
          <p:nvPr/>
        </p:nvSpPr>
        <p:spPr>
          <a:xfrm>
            <a:off x="971640" y="2205000"/>
            <a:ext cx="2808360" cy="1728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Rounded Rectangle 6"/>
          <p:cNvSpPr/>
          <p:nvPr/>
        </p:nvSpPr>
        <p:spPr>
          <a:xfrm>
            <a:off x="1187280" y="2276640"/>
            <a:ext cx="230508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Rizikový ŠPF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ounded Rectangle 7"/>
          <p:cNvSpPr/>
          <p:nvPr/>
        </p:nvSpPr>
        <p:spPr>
          <a:xfrm>
            <a:off x="1187280" y="2781360"/>
            <a:ext cx="230508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Diverzifikovaný ŠPF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ounded Rectangle 8"/>
          <p:cNvSpPr/>
          <p:nvPr/>
        </p:nvSpPr>
        <p:spPr>
          <a:xfrm>
            <a:off x="1187280" y="3357720"/>
            <a:ext cx="230508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ŠPF nehnuteľnost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1403280" y="1628640"/>
            <a:ext cx="2016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sk-SK" sz="2000" spc="-1" strike="noStrike">
                <a:solidFill>
                  <a:srgbClr val="002060"/>
                </a:solidFill>
                <a:latin typeface="Arial"/>
              </a:rPr>
              <a:t>Do 1.7.201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Flowchart: Punched Tape 13"/>
          <p:cNvSpPr/>
          <p:nvPr/>
        </p:nvSpPr>
        <p:spPr>
          <a:xfrm>
            <a:off x="179280" y="2276640"/>
            <a:ext cx="720720" cy="792000"/>
          </a:xfrm>
          <a:prstGeom prst="flowChartPunchedTape">
            <a:avLst/>
          </a:prstGeom>
          <a:solidFill>
            <a:srgbClr val="a6a6a6"/>
          </a:solidFill>
          <a:ln w="9360">
            <a:solidFill>
              <a:srgbClr val="fbfb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1933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Flowchart: Punched Tape 14"/>
          <p:cNvSpPr/>
          <p:nvPr/>
        </p:nvSpPr>
        <p:spPr>
          <a:xfrm>
            <a:off x="250920" y="3284640"/>
            <a:ext cx="649080" cy="649080"/>
          </a:xfrm>
          <a:prstGeom prst="flowChartPunchedTape">
            <a:avLst/>
          </a:prstGeom>
          <a:solidFill>
            <a:srgbClr val="a6a6a6"/>
          </a:solidFill>
          <a:ln w="9360">
            <a:solidFill>
              <a:srgbClr val="fbfb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1933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067280" y="2205000"/>
            <a:ext cx="47638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Špeciálne podielové fondy v SR 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86F0-EDDB-4B8D-BA7E-254AFDF9FAD8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33"/>
          <p:cNvSpPr/>
          <p:nvPr/>
        </p:nvSpPr>
        <p:spPr>
          <a:xfrm>
            <a:off x="1219320" y="2209680"/>
            <a:ext cx="67816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1187280" y="1628640"/>
            <a:ext cx="2016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2060"/>
                </a:solidFill>
                <a:latin typeface="Arial"/>
              </a:rPr>
              <a:t>Od 1.7.201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ounded Rectangle 16"/>
          <p:cNvSpPr/>
          <p:nvPr/>
        </p:nvSpPr>
        <p:spPr>
          <a:xfrm>
            <a:off x="539640" y="2205000"/>
            <a:ext cx="3095640" cy="194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ounded Rectangle 17"/>
          <p:cNvSpPr/>
          <p:nvPr/>
        </p:nvSpPr>
        <p:spPr>
          <a:xfrm>
            <a:off x="684360" y="2637000"/>
            <a:ext cx="280800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ŠPF cenných papierov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Box 19"/>
          <p:cNvSpPr/>
          <p:nvPr/>
        </p:nvSpPr>
        <p:spPr>
          <a:xfrm>
            <a:off x="1258920" y="22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66"/>
                </a:solidFill>
                <a:latin typeface="Arial"/>
              </a:rPr>
              <a:t>Verejné ŠP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ounded Rectangle 20"/>
          <p:cNvSpPr/>
          <p:nvPr/>
        </p:nvSpPr>
        <p:spPr>
          <a:xfrm>
            <a:off x="684360" y="3068640"/>
            <a:ext cx="280800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ŠPF alternatívnych investíci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ounded Rectangle 21"/>
          <p:cNvSpPr/>
          <p:nvPr/>
        </p:nvSpPr>
        <p:spPr>
          <a:xfrm>
            <a:off x="684360" y="3500280"/>
            <a:ext cx="2808000" cy="362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ŠPF nehnuteľnost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ounded Rectangle 22"/>
          <p:cNvSpPr/>
          <p:nvPr/>
        </p:nvSpPr>
        <p:spPr>
          <a:xfrm>
            <a:off x="539640" y="4508640"/>
            <a:ext cx="309564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ounded Rectangle 23"/>
          <p:cNvSpPr/>
          <p:nvPr/>
        </p:nvSpPr>
        <p:spPr>
          <a:xfrm>
            <a:off x="684360" y="4724280"/>
            <a:ext cx="2808000" cy="649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66"/>
                </a:solidFill>
                <a:latin typeface="Arial"/>
              </a:rPr>
              <a:t>ŠPF profesionálnych investoro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995640" y="2205000"/>
            <a:ext cx="40467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Špeciálne podielové fondy v SR 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A60B-3DB4-4E02-937D-4AC8A4C4ADD0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572000" y="3716280"/>
            <a:ext cx="4032360" cy="2449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403236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Špeciálne podielové fondy v SR 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40DA-2376-4200-A092-8FC0695EE73B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129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Verejné špeciálne podielové fon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8915-945F-48F7-9565-8D9CB49E57F0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1219320" y="2209680"/>
            <a:ext cx="67816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ytvorenie na dobu neurčit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oľnejšie lim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možnosť vytvoriť riešenie investujúce do nových tried aktí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redĺženie lehoty na výplatu prostriedko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Verejné špeciálne podielové fon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383B-4E4A-4D55-9F02-CE3928BF42C2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1219320" y="2209680"/>
            <a:ext cx="6781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ŠPF cenných papiero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„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depozitné fondy“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ysoká likvidit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nízke rizik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stabilný výn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230508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Verejné špeciálne podielové fon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ABE4-3F7A-4DEB-B213-939A32D1D1D7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1219320" y="1844640"/>
            <a:ext cx="67816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ŠPF alternatívnych investíci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komodity, reality, private equity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re investorov, ktorí chcú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diverzifikovať portfól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Komod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ýnosový potenciá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nízka korelácia voči tradičným druhom aktí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rotiinflačná ochra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6084720" y="1916280"/>
            <a:ext cx="2664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Verejné špeciálne podielové fon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C321-EA3D-40FB-85FD-AC9E07532634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1219320" y="220968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ŠPF nehnuteľnost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„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hmatateľnosť investície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ýnosový potenciá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diverzifikačný prv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rotiinflačná ochra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ravidelná výplata výnoso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23241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6:22:27Z</dcterms:created>
  <dc:creator>Martin Smrek</dc:creator>
  <dc:description/>
  <dc:language>en-US</dc:language>
  <cp:lastModifiedBy>Jana Michalíková - AKAT</cp:lastModifiedBy>
  <dcterms:modified xsi:type="dcterms:W3CDTF">2013-04-17T19:26:29Z</dcterms:modified>
  <cp:revision>244</cp:revision>
  <dc:subject/>
  <dc:title>Slide 1</dc:title>
</cp:coreProperties>
</file>