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531-F6A8-4A9D-B93E-F0140953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A7C-B41B-44DA-AAA2-027DC516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76A-5DCE-47D3-84DE-CFE845F6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D23-5F57-4839-AE22-8C39665B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1317-37A8-4E6D-AD0D-26BD1900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0E61-862B-4D0A-BC0F-41330B26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7508-C277-4D0F-9809-51C8FDDF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4DD7-9EFA-4A95-85B1-01223EB3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A7D4-0883-4EF5-A19E-4AD27DA6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8E2F-4A58-4616-A13B-FF4A9E11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47A-BB04-498B-B6A5-ECBF2689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C51-7371-4AAB-8A12-7F1B7101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5D5D-6BAF-4D32-821C-8962DC1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C0CD-40DD-4A72-94E9-C1BACFC4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7826-1F40-480C-94E9-05FD9D46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BDCF-1A0D-439B-9519-AC5360C6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1DF9-62D5-40FD-BB69-A59AFF71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320-CF2E-48E4-8746-52CEE683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F02-9E1F-4E26-9BE9-D1151565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DF4-B8F0-4013-A242-6726FEC6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40E-6FF4-4985-BE8E-18489403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BFC-452B-4B14-9DB7-DB70F449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581-EA91-47C1-9070-9663D2BF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698-5692-4DE2-AD2C-15DEF2E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2C26-FEB4-4B19-858A-EAF809BD2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7141-E068-4732-AF04-831C38ED16FB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Transformace stávajících povole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gr. Marie Zavoralová</a:t>
            </a:r>
            <a:br>
              <a:rPr sz="30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Steps in Asset Managemen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“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aha 19. dubna 2013, hotel Sherat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 1 roku ode dne, který MF oznámilo ve Sb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atí, že pro depozitáře standardního fondu se použije část uvedená v přechodných ustanov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kud ale IF bude mít výslovně ve statutu uvedeno, že depozitář postupuje dle obecné části zákona o depozitáři, pak se použije tato část a přechodná ustanovení se nepoužij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této době běží lhůta na přizpůsobení se nové právní úpravě v části o depozitář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d 1 roku ode dne, který MF oznámilo ve Sb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láška ČNB k povinnostem depozitáře standardního fondu se zrušu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prava depozitáře standardního fondu se řídí výhradně částí zákona o depozitáři, nikoliv přechodnými ustanovení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666699"/>
                </a:solidFill>
                <a:uFillTx/>
                <a:latin typeface="Arial"/>
              </a:rPr>
              <a:t>kapitalovy.trh@mfcr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Výhrada prezent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Obsah zobrazený v této prezentaci, jakož i ústní projev, odráží </a:t>
            </a:r>
            <a:r>
              <a:rPr b="0" i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výlučně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individuální názory, hodnocení a přístup autora k dané problematice, jež se nemusí shodovat s názory či hodnoceními Ministerstva financí ani nepředstavují jeho oficiální pozi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řestože autor připravil prezentaci s veškerou náležitou péčí, činí tak bez nároku na úplnost a přesnost obsažených informací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0. července 201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bude přelicencování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ontinuita udělených souhlasů zajiště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ransformace stávajících povolení IS a IF, který není obhospodařován na základě obhospodařovatelské smlouvy proběhne automaticky dle faktického sta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0. července 201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Investiční společ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S (StF) -&gt; IS (StF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S (SpF) -&gt; IS (SpF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S (SpKvI) -&gt; IS (FKvI) + oprávnění přesáhnout rozhodný lim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Investiční fo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F (SpF) -&gt; SIF (SpF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F (SpKvI) -&gt; SIF (FKvI) + oprávnění přesáhnout rozhodný lim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ČNB vydá na žádost osvědčení o rozsahu povole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0. července 201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kud IS (FKvI) nebo SIF(FKvI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Rozho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ý lim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ůže požádat o změnu povolení (národní reži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nětí povolení (je veden na seznamu entit, které plní některé oznamovací povinnosti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ISIF nestanoví lhůty do kdy je tak třeba uči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Nejpozději 30. září 201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dení seznamů podle ZIS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volení k vytvoření podílového fondu – zaniká (dle ZISIF se k tomuto povolení nedáv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volení IF, který má uzavřenou smlouvu o obhospodařování – zaniká (dle ZISIF se k tomuto povolení nedáv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2. července 201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IF s uzavřenou smlouvou o obhospodařo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Bude automaticky zapsán do seznamu nesamosprávných fondů - tímto je zajištěna kontinuita jeho činno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V OR musí být zapsaná IS, která jej obhospodařuje, jako statutární orgá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Možno zapsat PO (tedy IS) jako statutární orgán bude až od účinnosti NOZ (tedy od 1.1.2014) – čili efektivně je lhůta na zapsání statutárního orgánu od 1.1.2014 do 22.7.2014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inak bude IF zruš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2. července 201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S má povinnost uvést své poměry a poměry IF, které obhospodařuje, do souladu se ZISIF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IF má povinnost uvést své poměry do souladu se ZISIF (tzn. i úprava depozitářské smlouvy v souladu se ZIS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atut a KI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soby uvedené v § 15 odst. 1 se zapíší do seznamu ČN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Den, který MF oznámí ve Sb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o té doby se použijí pro depozitáře standardního fondu přechodná ustanovení, nikoliv část zákona o depozitář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áže se na uveřejnění UCITS V v Úředním věstníku E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ejvětší rozdíl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CP nemůže být do této doby depozitářem standardního fond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dlišná úprava odpovědnosti za ztrátu investičních nástroj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áška ČNB k povinnostem depozitář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4:07:17Z</dcterms:created>
  <dc:creator>14169</dc:creator>
  <dc:description/>
  <dc:language>en-US</dc:language>
  <cp:lastModifiedBy>Jana Michalíková - AKAT</cp:lastModifiedBy>
  <dcterms:modified xsi:type="dcterms:W3CDTF">2013-04-17T19:19:48Z</dcterms:modified>
  <cp:revision>16</cp:revision>
  <dc:subject/>
  <dc:title>Analýza přechodných ustanovení (ZISIF)</dc:title>
</cp:coreProperties>
</file>