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927E-2853-4922-8CC3-00322620E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60" y="431748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3D83-FAC3-46CD-9BD0-91E2BCB03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36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540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696E-7E40-4A30-AE63-F44402C3C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50800" y="20602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3240" y="20602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360" y="43174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50800" y="43174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3240" y="43174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2429-F406-45A0-9732-4D68D557E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11623-4AC6-4219-9F4B-DB2015887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99ACF-8888-43BC-94C5-0AD24EF87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B0439-6F8B-4DB8-8376-213377454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4A5CB-1F8F-4F7C-BC6B-A0F7AE795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89C2B-4B82-458C-ADF4-A83166514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1052640"/>
            <a:ext cx="8229600" cy="39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7936A-DA16-4143-A229-02769BA5D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36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EB5B1-2FBD-4268-9CD6-DC7302A1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8DB2-88F2-4693-A633-0006E0723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540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6A06A-B8E6-4DA4-B457-EC28F733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360" y="431748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CB054-2592-478F-99EE-DC0479318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360" y="431748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EFA9B-902B-490E-9386-5E1E4B5C1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836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540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8CB39-3AD1-4F88-8941-14772AF56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50800" y="20602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33240" y="20602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360" y="43174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50800" y="43174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33240" y="43174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8038B-2548-4A9B-9691-1356A8594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3DD8-2ABD-403B-8505-3D59D359B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308B-1CC2-42AD-973D-4C39DA2EE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318C-0FA1-4B33-8317-AD4E4C597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360" y="1052640"/>
            <a:ext cx="8229600" cy="39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9ADE-E10A-494B-9F86-959ACD28B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36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CC18-826A-4CCD-93B0-371ABDD7D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540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3642-8583-4910-9A0D-0AA79F977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360" y="431748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C60A-EC7A-42B2-B205-F2A353D4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500880"/>
            <a:ext cx="9144000" cy="357120"/>
          </a:xfrm>
          <a:prstGeom prst="rect">
            <a:avLst/>
          </a:prstGeom>
          <a:solidFill>
            <a:srgbClr val="0038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881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700"/>
              </a:spcBef>
              <a:buClr>
                <a:srgbClr val="9b003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7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700"/>
              </a:spcBef>
              <a:buClr>
                <a:srgbClr val="9b003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300360" y="6578640"/>
            <a:ext cx="141300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68360" y="6570720"/>
            <a:ext cx="568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884720" y="6578640"/>
            <a:ext cx="8636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A6DA8-41D9-4D25-BA24-499490256CF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NBS_podstranka_modra"/>
          <p:cNvPicPr/>
          <p:nvPr/>
        </p:nvPicPr>
        <p:blipFill>
          <a:blip r:embed="rId2"/>
          <a:stretch/>
        </p:blipFill>
        <p:spPr>
          <a:xfrm>
            <a:off x="0" y="0"/>
            <a:ext cx="9140760" cy="793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NBS_uvod_modra"/>
          <p:cNvPicPr/>
          <p:nvPr/>
        </p:nvPicPr>
        <p:blipFill>
          <a:blip r:embed="rId2"/>
          <a:stretch/>
        </p:blipFill>
        <p:spPr>
          <a:xfrm>
            <a:off x="0" y="0"/>
            <a:ext cx="9140760" cy="40338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881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700"/>
              </a:spcBef>
              <a:buClr>
                <a:srgbClr val="9b003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7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700"/>
              </a:spcBef>
              <a:buClr>
                <a:srgbClr val="9b003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092720" y="6237360"/>
            <a:ext cx="18730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50920" y="6244920"/>
            <a:ext cx="61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8028000" y="6453360"/>
            <a:ext cx="9367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494a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E4F8B-1CA6-47A2-AA43-775400E3B143}" type="slidenum">
              <a:rPr b="1" lang="en-US" sz="2400" spc="-1" strike="noStrike">
                <a:solidFill>
                  <a:srgbClr val="494a45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eva.svetlosakova@nbs.sk" TargetMode="External"/><Relationship Id="rId2" Type="http://schemas.openxmlformats.org/officeDocument/2006/relationships/hyperlink" Target="mailto:monika.imreczeova@nbs.sk" TargetMode="External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560" y="2707920"/>
            <a:ext cx="8708760" cy="2593800"/>
          </a:xfrm>
          <a:prstGeom prst="rect">
            <a:avLst/>
          </a:prstGeom>
          <a:noFill/>
          <a:ln w="0">
            <a:noFill/>
          </a:ln>
        </p:spPr>
        <p:txBody>
          <a:bodyPr rIns="0" t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5400" spc="-1" strike="noStrike">
                <a:solidFill>
                  <a:srgbClr val="dddddd"/>
                </a:solidFill>
                <a:latin typeface="Tahoma"/>
              </a:rPr>
              <a:t>AIFMD</a:t>
            </a:r>
            <a:br>
              <a:rPr sz="5400"/>
            </a:br>
            <a:br>
              <a:rPr sz="5400"/>
            </a:br>
            <a:r>
              <a:rPr b="1" lang="sk-SK" sz="3200" spc="-1" strike="noStrike">
                <a:solidFill>
                  <a:srgbClr val="003881"/>
                </a:solidFill>
                <a:latin typeface="Tahoma"/>
              </a:rPr>
              <a:t>Dohľad NBS po implementácii AIFMD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23640" y="5013360"/>
            <a:ext cx="8705880" cy="1728720"/>
          </a:xfrm>
          <a:prstGeom prst="rect">
            <a:avLst/>
          </a:prstGeom>
          <a:noFill/>
          <a:ln w="0">
            <a:noFill/>
          </a:ln>
        </p:spPr>
        <p:txBody>
          <a:bodyPr rIns="0" tIns="0"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494a45"/>
                </a:solidFill>
                <a:latin typeface="Tahoma"/>
                <a:ea typeface="Tahoma"/>
              </a:rPr>
              <a:t>Konferencia Next Steps In Asset Management, 19. apríla 201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494a45"/>
                </a:solidFill>
                <a:latin typeface="Tahoma"/>
                <a:ea typeface="Tahoma"/>
              </a:rPr>
              <a:t>Ing. Eva Svetlošáková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494a45"/>
                </a:solidFill>
                <a:latin typeface="Tahoma"/>
                <a:ea typeface="Tahoma"/>
              </a:rPr>
              <a:t>Ing. Monika Imreczeová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494a45"/>
                </a:solidFill>
                <a:latin typeface="Tahoma"/>
                <a:ea typeface="Tahoma"/>
              </a:rPr>
              <a:t>odbor dohľadu nad trhom cenných papierov,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494a45"/>
                </a:solidFill>
                <a:latin typeface="Tahoma"/>
                <a:ea typeface="Tahoma"/>
              </a:rPr>
              <a:t>poisťovníctvom a dôchodkovým sporení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494a45"/>
                </a:solidFill>
                <a:latin typeface="Tahoma"/>
                <a:ea typeface="Tahoma"/>
              </a:rPr>
              <a:t>Národná banka Slovensk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Dohliadané subjekty k 31.12.2012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826920" y="1844640"/>
          <a:ext cx="7632720" cy="4560840"/>
        </p:xfrm>
        <a:graphic>
          <a:graphicData uri="http://schemas.openxmlformats.org/drawingml/2006/table">
            <a:tbl>
              <a:tblPr/>
              <a:tblGrid>
                <a:gridCol w="6266160"/>
                <a:gridCol w="1366560"/>
              </a:tblGrid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ohliadaný subjek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8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č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881"/>
                    </a:solidFill>
                  </a:tcPr>
                </a:tc>
              </a:tr>
              <a:tr h="46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právcovská spoločnos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Štandardný podielový fo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Špeciálny podielový fond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alternatívnych investíci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cenných papiero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nehnuteľnost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profesionálnych investoro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yhlasovateľ verejnej ponuky majetkových hodnô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Object 39"/>
          <p:cNvGraphicFramePr/>
          <p:nvPr/>
        </p:nvGraphicFramePr>
        <p:xfrm>
          <a:off x="196920" y="2205000"/>
          <a:ext cx="8748720" cy="417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Object 3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920" y="2205000"/>
                    <a:ext cx="874872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3881"/>
                </a:solidFill>
                <a:latin typeface="Tahoma"/>
              </a:rPr>
              <a:t>Podiel správcovských spoločností </a:t>
            </a:r>
            <a:br>
              <a:rPr sz="3200"/>
            </a:br>
            <a:r>
              <a:rPr b="1" lang="sk-SK" sz="3200" spc="-1" strike="noStrike">
                <a:solidFill>
                  <a:srgbClr val="003881"/>
                </a:solidFill>
                <a:latin typeface="Tahoma"/>
              </a:rPr>
              <a:t>na NAV špeciálnych podielových fondov k 31.12.2012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3881"/>
                </a:solidFill>
                <a:latin typeface="Tahoma"/>
              </a:rPr>
              <a:t>Špeciálne podielové fondy </a:t>
            </a:r>
            <a:br>
              <a:rPr sz="3200"/>
            </a:br>
            <a:r>
              <a:rPr b="1" lang="sk-SK" sz="3200" spc="-1" strike="noStrike">
                <a:solidFill>
                  <a:srgbClr val="003881"/>
                </a:solidFill>
                <a:latin typeface="Tahoma"/>
              </a:rPr>
              <a:t>k 31.12.2012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graphicFrame>
        <p:nvGraphicFramePr>
          <p:cNvPr id="109" name="Object 3"/>
          <p:cNvGraphicFramePr/>
          <p:nvPr/>
        </p:nvGraphicFramePr>
        <p:xfrm>
          <a:off x="539640" y="2205000"/>
          <a:ext cx="8374320" cy="36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205000"/>
                    <a:ext cx="8374320" cy="36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250560" y="4869000"/>
            <a:ext cx="8705880" cy="1224000"/>
          </a:xfrm>
          <a:prstGeom prst="rect">
            <a:avLst/>
          </a:prstGeom>
          <a:noFill/>
          <a:ln w="0">
            <a:noFill/>
          </a:ln>
        </p:spPr>
        <p:txBody>
          <a:bodyPr rIns="0" t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 u="sng">
                <a:solidFill>
                  <a:srgbClr val="7f9bc0"/>
                </a:solidFill>
                <a:uFillTx/>
                <a:latin typeface="Tahoma"/>
                <a:ea typeface="Tahoma"/>
                <a:hlinkClick r:id="rId1"/>
              </a:rPr>
              <a:t>eva.svetlosakova@nbs.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 u="sng">
                <a:solidFill>
                  <a:srgbClr val="7f9bc0"/>
                </a:solidFill>
                <a:uFillTx/>
                <a:latin typeface="Tahoma"/>
                <a:ea typeface="Tahoma"/>
                <a:hlinkClick r:id="rId2"/>
              </a:rPr>
              <a:t>monika.imreczeova@nbs.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250560" y="4076280"/>
            <a:ext cx="8708760" cy="1800360"/>
          </a:xfrm>
          <a:prstGeom prst="rect">
            <a:avLst/>
          </a:prstGeom>
          <a:noFill/>
          <a:ln w="0">
            <a:noFill/>
          </a:ln>
        </p:spPr>
        <p:txBody>
          <a:bodyPr rIns="0" t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3881"/>
                </a:solidFill>
                <a:latin typeface="Tahoma"/>
              </a:rPr>
              <a:t>Ďakujeme za pozornosť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Obsah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Povoľovacia činnosť, resp. registrác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Cezhraničné pôsobenie správco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Distribúcia AI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AIFMD (smernica 2011/61/EU)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3080" indent="-25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Spôsob implementácie v SR: rozsiahla novela zákona  č. 203/2011 Z. z. o kolektívnom investovan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53080" indent="-25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Tuzemský AIF: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53080" indent="-25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špeciálne podielové fondy podľa doterajšieho ZKI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53080" indent="-25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subjekty KI s právnou subjektivitou ako obchodná spoločnosť a družstvo so sídlom na území SR</a:t>
            </a: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53080" indent="-25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Zahraničný AIF: 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zahraničný subjekt KI (PF, ZIS, iný), ktorý nespĺňa smernicu 2009/65/E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53080" indent="-25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Tuzemský správca AIF: 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akciová spoločnosť (správcovská spoločnosť) s povolením NBS na spravovanie AIF a zahraničných AIF</a:t>
            </a: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53080" indent="-25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Register správcov AIF 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(správca aj samosprávny AIF, ak hodnota spravovaných aktív je menej ako 100 mil. /500 mil. eur);</a:t>
            </a: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 výnimka sa nevzťahuje na spravovanie špeciálnych P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53080" indent="-25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ahoma"/>
              </a:rPr>
              <a:t>návrh elektonicky, zápis NBS do 10 dní od prijatia úplného návrh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Cezhraničné pôsobenie správcu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Správcovská spoločnosť 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s povolením plánuje</a:t>
            </a: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 spravovať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európske AIF (povolenie alebo sídlo v štáte EU) na území iného členského štátu - oznámenie (členský štát, program činnosti, ak cez pobočku aj jej organizačnú štruktúru, adresu a osoby zodpovedné za jej riadenie) NBS, ktorá spolu potvrdením o udelení povolenia do 1, resp. 2 mesiacov odovzdá príslušnému orgánu (CA) hostiteľského štátu a informuje správcovskú spoločnosť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neeurópske AIF, nedistribuované na území SR/štátu EU: dodržiava ZKI a uzavretá zmluva medzi NBS a CA nečlenského štá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Správca AIF so sídlom v členskom štáte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 s povolením AIFMD chce vytvárať a spravovať AIF v SR – prijatím informácie od CA domovského členského štátu o odovzdaní oznámenia NBS (dodržiavať ZKI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Distribúcia AIF z EU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Správcovská spoločnosť s povolením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: zámer distribuovať ňou spravovaný AIF alebo európsky AIF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na území SR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 – do pracovných 20 dní od doručenia oznámenia NBS  (program činnosti, štatút /zakladajúce dokumenty, depozitár, popis AIF, EAIF, iné); </a:t>
            </a: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neplatí pre verejné špeciálne fondy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 (osobitné povoleni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na území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iného členského štátu – oznámenie a informácie NBS, ktorá do 20 pracovných odovzdá oznámenie s potvrdením o povolení CA členského štátu a informuje správcovskú spoločnosť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Správca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 so sídlom v členskom štáte </a:t>
            </a: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s povolením AIFMD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:  zámer distribuovať ním spravovaný AIF alebo európsky AIF na území SR -  prijatím informácie CA domovského štátu o zaslaní oznámenia NB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Správcovská spoločnosť s povolením alebo správca so sídlom v členskom štáte s povolením AIFMD - distribuovať na území SR ním spravované zahraničné AIF </a:t>
            </a: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aj verejnou ponukou neprofesionálnym investorom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 len </a:t>
            </a: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na základe povolenia NB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3881"/>
                </a:solidFill>
                <a:latin typeface="Tahoma"/>
              </a:rPr>
              <a:t>Distribúcia AIF z tretích krajín (národný režim) 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Správcovská spoločnosť s povolením a správca s povolením AIFMD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 distribuovať na území SR spravovaný neeurópsky AIF - do pracovných 20 dní od doručenia oznámenia NBS (podmienky: ZKI pri správe, resp. primerane, MoU s CA tretej krajiny, zabezpečiť výkon činnosti depozitára, informácie a doklady v oznámení podľa ZKI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Správca z tretích krajín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 distribuovať ňou spravovaný zahraničný AIF na území SR -  do pracovných 20 dní od doručenia oznámenia NBS (podmienky: informácie investorom a NBS podľa ZKI, MoU s CA z tretích krajín, tretie krajiny nie je na zozname nespolupracujúcich krajín, informácie a doklady v oznámení podľa ZKI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Jednotný režim – po určení dátumu v osobitnom predpise E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Subjekty na zosúladenie 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351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Správcovské spoločnosti, podielové fondy k 31.3.201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Asset Management Slovenskej sporiteľne, správ. spol., a.s.: (8 štandardných PF, 2 verejné špeciálne PF), 3 PF profesionálnych investoro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IAD Invest, správ.spol.: (10 štandardných PF), 2 verejné špeciálne P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PRVÁ PENZIJNÁ SPRÁVCOVSKÁ SPOLOČNOSŤ POŠTOVEJ BANKY, správ. spol., a.s. : (5 štandardných PF), 2 verejné špeciálne PF, 1 PF profesionálnych investoro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Tatra Asset Management, správ. spol., a.s. : (9 štandardných PF), 3 verejné špeciálne PF, 2 PF profesionálnych investoro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VÚB Asset Management, správ. spol., a.s. (8 štandardných PF), 1 verejný špeciálny P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(Alico Funds Central Europe správ. spol., a.s.: 6 štandardných PF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Verejná ponuka majetkových hodnôt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: 3 prospekty investíci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Hedge fondy, privat equity, venture capital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: (v súčasnosti neregulované, privátna ponuka): 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3881"/>
                </a:solidFill>
                <a:latin typeface="Tahoma"/>
              </a:rPr>
              <a:t>Implementácia AIFMD/</a:t>
            </a:r>
            <a:br>
              <a:rPr sz="3200"/>
            </a:br>
            <a:r>
              <a:rPr b="1" lang="sk-SK" sz="3200" spc="-1" strike="noStrike">
                <a:solidFill>
                  <a:srgbClr val="003881"/>
                </a:solidFill>
                <a:latin typeface="Tahoma"/>
              </a:rPr>
              <a:t>účinnosť novely ZKI 22.7.2013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360" y="2060280"/>
            <a:ext cx="820872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Povinnosť zosúladiť sa so ZKI a </a:t>
            </a: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požiadať o povolenie /zápis do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registra do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22. júla 201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Pre uzavreté AIF zostávajú zachované práva vyplývajúce z prospektovej smern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Inštitút verejnej ponuky majetkových hodnôt zaniká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Do 22.7.2014 požiadať o povolenie správcu AIF/o zápis do registra alebo ukončiť činnosť a vyplatiť investoro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Vyhlasovateľ nemôže po 22.7.2013 verejne ponúkať MH, zmeniť podmienky VPM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AIFM nemusia mať povolenie, a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spravujú uzavreté AIF vytvorené pred 22. júlom 2013 a po tomto dátume nevykonávajú nové investície, nemusia mať povoleni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spravujú uzavreté AIF, ktorých upisovacie obdobie sa skončilo pred 22. júlom 2013 a nie sú vytvorené na dlhšie ako 3 rok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Výmena informácií s ESMA, ESRB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1360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NBS informuje ESM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o každom udelení povolenia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na spravovanie AIF a zahraničných AIF (povolenie), raz za štvrťrok o udelených, vrátených alebo odobratých povolenia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iné údaje o správcoch AIF, o sankciách v súvislosti s AIF a zmluvnými správcami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raz za štvrťrok údaje o tuzemských a zahraničných správcoch podľa AIFMD, ktoré spravujú alebo distribuujú AIF alebo EAIF, o zahraničných správcoch AIFMD a neeurópskych správcoch, ktorí distribuujú neeurópske A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MoU 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s tretími krajinami (prostredníctvom ESM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NBS informuje ESMA, ESR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potenciálne systémové dôsledky na stabilitu a fungovanie finančných trhov (aj príslušným CA), súhrnné informácie o činnosti správcovských spoločností alebo zahraničných správcov AIF (delegované nariadenie č. 231/2013/EU, ktoré dopĺňa AIFM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2T11:29:03Z</dcterms:created>
  <dc:creator>User</dc:creator>
  <dc:description/>
  <dc:language>en-US</dc:language>
  <cp:lastModifiedBy>Jana Michalíková - AKAT</cp:lastModifiedBy>
  <dcterms:modified xsi:type="dcterms:W3CDTF">2013-04-17T19:24:39Z</dcterms:modified>
  <cp:revision>69</cp:revision>
  <dc:subject/>
  <dc:title>Slide 1</dc:title>
</cp:coreProperties>
</file>