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C9B2-9CE2-41FE-8112-BE190464C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8064-62FB-4EBE-88A6-FC32E54FC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35600" cy="37008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AB2D-DD96-4121-8CC6-AD50EF350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A2A3-C695-4218-9D99-6672AA50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208B-969A-4197-AD71-44031D826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0018-08BA-430F-8746-001ACB125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589-44F9-407A-8DD8-A9F93BE9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780-5233-43CC-AFFC-D0F47DB7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EBB-7C19-464E-BE6A-DA4400BE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DF7-5D3C-485D-ABB2-56EA2A08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4D9-5D13-4E6D-B828-734AE117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01A-E7B9-4B81-A212-1207AF75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E41-4371-4627-B07D-ACDCDF99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FAB-AE25-4BBF-97F1-6FAB2939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55B-E3AC-4DAF-9FC6-ABCC3279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050-5135-4F9A-B879-416A45F2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5E1-D80D-4C34-A254-7AE878B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6D8-B589-4596-83F7-72C7933B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F522-DC8C-4C09-8641-9714A2262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102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752120"/>
            <a:ext cx="56386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ISIF – problematické otázk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1"/>
          <p:cNvSpPr/>
          <p:nvPr/>
        </p:nvSpPr>
        <p:spPr>
          <a:xfrm>
            <a:off x="533520" y="4054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k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áš Vá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32" descr="D:\Sales_Marketing\Corporate_Identity\QIIS\QIIS_logo.jpg"/>
          <p:cNvPicPr/>
          <p:nvPr/>
        </p:nvPicPr>
        <p:blipFill>
          <a:blip r:embed="rId3"/>
          <a:stretch/>
        </p:blipFill>
        <p:spPr>
          <a:xfrm>
            <a:off x="380880" y="5562720"/>
            <a:ext cx="19353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ké vnímáme sporné otázky?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0" y="1773360"/>
            <a:ext cx="67057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 bude přístup regulátora k obhospodařovatelům neoprávněným přesáhnout rozhodný lim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tenciálně reputační riziko pro fondový byznys jako takový, kdy pár „nepoctivců“ může zkazit reputaci celému odvětv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sí depozitář vykonávat kontrolní činnosti v plném rozsahu i u fondů kvalifikovaných investorů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ok zpět oproti aktuálnímu ZKI, kdy lze smluvně vyloučit kontrolu oceňování, rozdělování výnosů a nakládání s majetk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de snad upraveno pozměňovacím návr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kvalifikovaným investorem opravdu jen investor se 125 000 E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304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praveno o kompromis, že se jedná o souhrn splacených vkladů u jednoho obhospodařova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ké vnímáme sporné otázky?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86000" y="1739880"/>
            <a:ext cx="67057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rocesní stránka věci aneb kdy budou novinky fungovat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 implementací SICAV musí jít ruku v ruce komplexní úprava související legislativy (občanský zákoník, zákon o obchodních společnostech a prováděcí předpisy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Reálná účinnost se posouvá minimálně na počátek 201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ůsobnost statutárního orgánu fondu s právní subjektivitou bude nově vykonávat statutární orgán investiční společnost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dy bude uzpůsoben elektronický obchodní rejstřík a začne změnu reflektovat rejstříkový soud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ůjde ruku v ruce se ZISIF i smysluplné, a především dlouhodobě </a:t>
            </a:r>
            <a:r>
              <a:rPr b="1" lang="cs-CZ" sz="1900" spc="-1" strike="noStrike" u="sng">
                <a:solidFill>
                  <a:srgbClr val="000000"/>
                </a:solidFill>
                <a:uFillTx/>
                <a:latin typeface="Arial"/>
              </a:rPr>
              <a:t>udržitelný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daňový režim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ké pozitivní změny bude ZISIF znamenat pro FK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286000" y="1844640"/>
            <a:ext cx="67057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působnosti zákona se dostane de facto jakékoli shromažďování finančních prostředků za účelem jeho inve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ělení funkcí administrátora a depozitá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C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šíření okruhu osob, oprávněných vykonávat činnosti depozitá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rušení zákazu veřejné propag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pital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jednodušení povolovacího proce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ložení doby stanovování NAV u fondů investujících do nemovitostí až na 2 ro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 emise dluhopisů F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rušení maximálního počtu invest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nížení limitů na vlastní kapit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971800" y="19051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48120" y="3060720"/>
            <a:ext cx="406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ukáš Vá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QI investiční společnost, a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rzovní palá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ybná 682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0 05 Prah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.: +420 225 988 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cha@conseq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D:\Sales_Marketing\Corporate_Identity\QIIS\QIIS_logo.jpg"/>
          <p:cNvPicPr/>
          <p:nvPr/>
        </p:nvPicPr>
        <p:blipFill>
          <a:blip r:embed="rId1"/>
          <a:stretch/>
        </p:blipFill>
        <p:spPr>
          <a:xfrm>
            <a:off x="152280" y="2819520"/>
            <a:ext cx="19353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3:01:11Z</dcterms:created>
  <dc:creator>vacha</dc:creator>
  <dc:description/>
  <dc:language>en-US</dc:language>
  <cp:lastModifiedBy>Jana Michalíková - AKAT</cp:lastModifiedBy>
  <cp:lastPrinted>2013-01-17T13:21:28Z</cp:lastPrinted>
  <dcterms:modified xsi:type="dcterms:W3CDTF">2013-04-17T19:16:22Z</dcterms:modified>
  <cp:revision>100</cp:revision>
  <dc:subject/>
  <dc:title>Fondy kvalifikovaných investorů  - aktuální situace</dc:title>
</cp:coreProperties>
</file>