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4B2C5-6450-484E-93BE-98D272B9D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22090-5F01-4D0C-8ED1-70D0747F7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87FDB-0FAC-4AC1-A29A-16B4F9B72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861B6-05B5-44BB-9679-FF0C94FC4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03042-9451-4DA7-AB60-AFA1D0AD8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6C481-6A2C-4387-AF02-D0A43E2BE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24E94-415B-4D14-95DE-28A39B87B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1B4D4-0378-49ED-8A93-A4ECEDEE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3138F-C77D-4A38-97B7-4D864ED77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8B3FF-C39A-42B5-84F4-2DC7212AA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558A-0F59-48BE-B502-0763B39AB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609E-3A5D-46B2-8F03-E2B83114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EFC4A-EED7-4091-BB5D-8FD0C3B60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81096-14A1-4DC1-8953-F73231D52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2337D-B6A4-48FA-AE0D-3E3D2570A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4BEC0-530E-4B67-8E96-DC986FAAF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4AAB5-E9CE-444B-847F-6FB4992FD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31EC3-A44C-4840-B1CA-81A2640F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CD67-3A59-4D14-9157-9E326B9D6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2F89-5510-430E-813D-BCFCF734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0E6E-642B-42E4-A1CB-BCCDBDB9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5718-C6D2-4DF2-9D93-6398B8A0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BED1-5EBB-42AC-B265-ABB6B60EF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E079-35ED-4BB1-9893-6CC639F30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F3BA-2A5A-4B6E-8449-2E99B867CBDF}"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427C-D08A-41DE-A4CA-F4FEEE68D64B}"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DAŇ Z FINANČNÍCH TRANSAKCÍ</a:t>
            </a:r>
            <a:br>
              <a:rPr sz="2800"/>
            </a:br>
            <a:r>
              <a:rPr b="0" lang="cs-CZ" sz="2400" spc="-1" strike="noStrike">
                <a:solidFill>
                  <a:srgbClr val="000000"/>
                </a:solidFill>
                <a:latin typeface="Arial"/>
              </a:rPr>
              <a:t>POSÍLENÁ SPOLUPRÁCE</a:t>
            </a:r>
            <a:r>
              <a:rPr b="1" lang="cs-CZ" sz="2400" spc="-1" strike="noStrike">
                <a:solidFill>
                  <a:srgbClr val="000000"/>
                </a:solidFill>
                <a:latin typeface="Arial"/>
              </a:rPr>
              <a:t> </a:t>
            </a:r>
            <a:br>
              <a:rPr sz="2400"/>
            </a:br>
            <a:br>
              <a:rPr sz="2400"/>
            </a:br>
            <a:r>
              <a:rPr b="0" lang="cs-CZ" sz="1800" spc="-1" strike="noStrike">
                <a:solidFill>
                  <a:srgbClr val="000000"/>
                </a:solidFill>
                <a:latin typeface="Arial"/>
              </a:rPr>
              <a:t>= state of play, další směřování, přeshraniční aspekty</a:t>
            </a:r>
            <a:endParaRPr b="0" lang="en-US" sz="1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Konference</a:t>
            </a:r>
            <a:r>
              <a:rPr b="1" lang="cs-CZ" sz="1400" spc="-1" strike="noStrike">
                <a:solidFill>
                  <a:srgbClr val="000000"/>
                </a:solidFill>
                <a:latin typeface="Arial"/>
              </a:rPr>
              <a:t> </a:t>
            </a:r>
            <a:r>
              <a:rPr b="0" lang="cs-CZ" sz="1400" spc="-1" strike="noStrike">
                <a:solidFill>
                  <a:srgbClr val="000000"/>
                </a:solidFill>
                <a:latin typeface="Arial"/>
              </a:rPr>
              <a:t>Asociace pro kapitálový trh (AKAT):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Steps in Asset Managemen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raha, 19. 4. 2013</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ilém Tanzer,</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el.: +32 2 2139 149</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e-mail: vilem_tanzer@mzv.c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Další vývoj</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Arial"/>
              </a:rPr>
              <a:t>Rychlý přístup“: zavedení daně s omezenou působností po vzoru již zavedených daní (možnost rozšíření  v budoucn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Arial"/>
              </a:rPr>
              <a:t>Široký přístup“: zachování hlavních principů návrhu Komise a delší horizont implementa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Jak to vše začalo…</a:t>
            </a:r>
            <a:endParaRPr b="0" lang="en-US" sz="40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7. června 2010</a:t>
            </a:r>
            <a:r>
              <a:rPr b="0" lang="cs-CZ" sz="1600" spc="-1" strike="noStrike">
                <a:solidFill>
                  <a:srgbClr val="000000"/>
                </a:solidFill>
                <a:latin typeface="Arial"/>
              </a:rPr>
              <a:t> - Evropská Rada se dohodla, že ČS by měly zavést systémy odvodů a daní pro finanční instituce. ČR vyhradila právo tato opatření nezavést</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8. září 2011</a:t>
            </a:r>
            <a:r>
              <a:rPr b="0" lang="cs-CZ" sz="1600" spc="-1" strike="noStrike">
                <a:solidFill>
                  <a:srgbClr val="000000"/>
                </a:solidFill>
                <a:latin typeface="Arial"/>
              </a:rPr>
              <a:t> - předložení </a:t>
            </a:r>
            <a:r>
              <a:rPr b="1" lang="cs-CZ" sz="1600" spc="-1" strike="noStrike">
                <a:solidFill>
                  <a:srgbClr val="000000"/>
                </a:solidFill>
                <a:latin typeface="Arial"/>
              </a:rPr>
              <a:t>návrhu směrnice na zavedení společného systému daně z finančních transakcí (FTT).</a:t>
            </a:r>
            <a:r>
              <a:rPr b="0" lang="cs-CZ" sz="1600" spc="-1" strike="noStrike">
                <a:solidFill>
                  <a:srgbClr val="000000"/>
                </a:solidFill>
                <a:latin typeface="Arial"/>
              </a:rPr>
              <a:t> Právním základem byl článek 113 SFEU</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2. června 2012</a:t>
            </a:r>
            <a:r>
              <a:rPr b="0" lang="cs-CZ" sz="1600" spc="-1" strike="noStrike">
                <a:solidFill>
                  <a:srgbClr val="000000"/>
                </a:solidFill>
                <a:latin typeface="Arial"/>
              </a:rPr>
              <a:t> - Rada (ECOFIN) konstatoval, že návrh týkající se daně z finančních transakcí Rada v přiměřené době nepřijme.</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sledně 11 ČS (BE, DE, EE, EL, ES, FR, IT, AT, PT, SI, SK) zaslalo </a:t>
            </a:r>
            <a:r>
              <a:rPr b="1" lang="cs-CZ" sz="1600" spc="-1" strike="noStrike">
                <a:solidFill>
                  <a:srgbClr val="000000"/>
                </a:solidFill>
                <a:latin typeface="Arial"/>
              </a:rPr>
              <a:t>žádost o posílenou spolupráci</a:t>
            </a:r>
            <a:r>
              <a:rPr b="0" lang="cs-CZ"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2. ledna 2013</a:t>
            </a:r>
            <a:r>
              <a:rPr b="0" lang="cs-CZ" sz="1600" spc="-1" strike="noStrike">
                <a:solidFill>
                  <a:srgbClr val="000000"/>
                </a:solidFill>
                <a:latin typeface="Arial"/>
              </a:rPr>
              <a:t> - Rada (ECOFIN) </a:t>
            </a:r>
            <a:r>
              <a:rPr b="1" lang="cs-CZ" sz="1600" spc="-1" strike="noStrike">
                <a:solidFill>
                  <a:srgbClr val="000000"/>
                </a:solidFill>
                <a:latin typeface="Arial"/>
              </a:rPr>
              <a:t>schválila</a:t>
            </a:r>
            <a:r>
              <a:rPr b="0" lang="cs-CZ" sz="1600" spc="-1" strike="noStrike">
                <a:solidFill>
                  <a:srgbClr val="000000"/>
                </a:solidFill>
                <a:latin typeface="Arial"/>
              </a:rPr>
              <a:t> </a:t>
            </a:r>
            <a:r>
              <a:rPr b="1" lang="cs-CZ" sz="1600" spc="-1" strike="noStrike">
                <a:solidFill>
                  <a:srgbClr val="000000"/>
                </a:solidFill>
                <a:latin typeface="Arial"/>
              </a:rPr>
              <a:t>povolení</a:t>
            </a:r>
            <a:r>
              <a:rPr b="0" lang="cs-CZ" sz="1600" spc="-1" strike="noStrike">
                <a:solidFill>
                  <a:srgbClr val="000000"/>
                </a:solidFill>
                <a:latin typeface="Arial"/>
              </a:rPr>
              <a:t> 11 ČS pracovat na zavedení FTT v režimu posílené dle čl. 326 a násl. SFEU. ČR, MT, LU, UK se zdržely hlasování.</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4. února 2013 – EK předložila </a:t>
            </a:r>
            <a:r>
              <a:rPr b="1" lang="cs-CZ" sz="1600" spc="-1" strike="noStrike">
                <a:solidFill>
                  <a:srgbClr val="000000"/>
                </a:solidFill>
                <a:latin typeface="Arial"/>
              </a:rPr>
              <a:t>návrh směrnice, kterým se provádí posílená spolupráce na FTT</a:t>
            </a:r>
            <a:r>
              <a:rPr b="0" lang="cs-CZ"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91920"/>
            <a:ext cx="607248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osílená spolupráce</a:t>
            </a:r>
            <a:br>
              <a:rPr sz="3800"/>
            </a:br>
            <a:br>
              <a:rPr sz="1400"/>
            </a:br>
            <a:r>
              <a:rPr b="1" lang="cs-CZ" sz="2800" spc="-1" strike="noStrike">
                <a:solidFill>
                  <a:srgbClr val="000000"/>
                </a:solidFill>
                <a:latin typeface="Arial"/>
              </a:rPr>
              <a:t>EU 27</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1" lang="cs-CZ" sz="2800" spc="-1" strike="noStrike">
                <a:solidFill>
                  <a:srgbClr val="000000"/>
                </a:solidFill>
                <a:latin typeface="Arial"/>
              </a:rPr>
              <a:t>EU 11+</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9640" y="2349360"/>
            <a:ext cx="4176720" cy="3770280"/>
          </a:xfrm>
          <a:prstGeom prst="rect">
            <a:avLst/>
          </a:prstGeom>
          <a:ln w="0">
            <a:noFill/>
          </a:ln>
        </p:spPr>
      </p:pic>
      <p:pic>
        <p:nvPicPr>
          <p:cNvPr id="96" name="Picture 2" descr=""/>
          <p:cNvPicPr/>
          <p:nvPr/>
        </p:nvPicPr>
        <p:blipFill>
          <a:blip r:embed="rId2"/>
          <a:stretch/>
        </p:blipFill>
        <p:spPr>
          <a:xfrm>
            <a:off x="5292720" y="2421000"/>
            <a:ext cx="3997440" cy="3568680"/>
          </a:xfrm>
          <a:prstGeom prst="rect">
            <a:avLst/>
          </a:prstGeom>
          <a:ln w="0">
            <a:noFill/>
          </a:ln>
        </p:spPr>
      </p:pic>
      <p:sp>
        <p:nvSpPr>
          <p:cNvPr id="97" name="Right Arrow 1"/>
          <p:cNvSpPr/>
          <p:nvPr/>
        </p:nvSpPr>
        <p:spPr>
          <a:xfrm>
            <a:off x="3635280" y="3429000"/>
            <a:ext cx="1511280" cy="719280"/>
          </a:xfrm>
          <a:prstGeom prst="rightArrow">
            <a:avLst>
              <a:gd name="adj1" fmla="val 50000"/>
              <a:gd name="adj2" fmla="val 49989"/>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odmínky posílené spolupráce </a:t>
            </a:r>
            <a:br>
              <a:rPr sz="3800"/>
            </a:br>
            <a:r>
              <a:rPr b="0" lang="cs-CZ" sz="3800" spc="-1" strike="noStrike">
                <a:solidFill>
                  <a:srgbClr val="000000"/>
                </a:solidFill>
                <a:latin typeface="Arial"/>
              </a:rPr>
              <a:t>podle primárního práva EU </a:t>
            </a:r>
            <a:endParaRPr b="0" lang="en-US" sz="38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l. 20 Smlouvy o EU - Základní podmínky P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výlučná pravomoc, na základě žádosti 9 ČS, jako poslední prostředek, účast všech ČS na jednání</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l. 326 a násl. Smlouvy o fungování EU – Další podmínky</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ladu se Smlouvami a právem Unie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mí narušovat vnitřní trh ani hospodářskou, sociální a územní soudržnost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mí vytvářet překážku ani diskriminaci v obchodu mezi členskými státy, ani mezi nimi vyvolávat narušení hospodářské soutěže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chovávat pravomoci, práva a povinnosti členských států, které se jí neúčastní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áklady vyplývající z provádění posílené spolupráce, s výjimkou správních nákladů orgánů, hradí zúčastněné členské státy </a:t>
            </a:r>
            <a:endParaRPr b="0" lang="en-US" sz="1800" spc="-1" strike="noStrike">
              <a:solidFill>
                <a:srgbClr val="000000"/>
              </a:solidFill>
              <a:latin typeface="Arial"/>
            </a:endParaRPr>
          </a:p>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 spc="-1" strike="noStrike">
                <a:solidFill>
                  <a:srgbClr val="000000"/>
                </a:solidFill>
                <a:latin typeface="Arial"/>
              </a:rPr>
              <a:t>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cíle návrhu na FTT</a:t>
            </a:r>
            <a:endParaRPr b="0" lang="en-US" sz="3600" spc="-1" strike="noStrike">
              <a:solidFill>
                <a:srgbClr val="000000"/>
              </a:solidFill>
              <a:latin typeface="Arial"/>
            </a:endParaRPr>
          </a:p>
        </p:txBody>
      </p:sp>
      <p:sp>
        <p:nvSpPr>
          <p:cNvPr id="101" name="PlaceHolder 2"/>
          <p:cNvSpPr>
            <a:spLocks noGrp="1"/>
          </p:cNvSpPr>
          <p:nvPr>
            <p:ph/>
          </p:nvPr>
        </p:nvSpPr>
        <p:spPr>
          <a:xfrm>
            <a:off x="2133360" y="1905120"/>
            <a:ext cx="70102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va primární cí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Harmonizace legislativy nepřímých dan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ožnosti a hran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Spravedlivý a podstatný příspěvek finančního sektor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o skutečně ponese zátě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Jeden sekundární cí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Vytvořit odpovídající pobídku k odrazení od určitých transakc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incipy návrhu na FTT</a:t>
            </a:r>
            <a:endParaRPr b="0" lang="en-US" sz="36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ůsobnost - přistup 3A: </a:t>
            </a:r>
            <a:r>
              <a:rPr b="1" lang="cs-CZ" sz="1600" spc="-1" strike="noStrike">
                <a:solidFill>
                  <a:srgbClr val="000000"/>
                </a:solidFill>
                <a:latin typeface="Arial"/>
              </a:rPr>
              <a:t>All markets! All instruments! All actors!</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Organizované trhy i OTC </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Transakce s finančními instrumenty (koupě/prodej/půjčování/transfer vlastnictví/uzavírání/modifikace smluv)</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Finanční instituce, včetně kategorie „jiný podnik“: alespoň jedna strana je finanční institucí </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y zdanění </a:t>
            </a:r>
            <a:endParaRPr b="0" lang="en-US" sz="1600" spc="-1" strike="noStrike">
              <a:solidFill>
                <a:srgbClr val="000000"/>
              </a:solidFill>
              <a:latin typeface="Arial"/>
            </a:endParaRPr>
          </a:p>
          <a:p>
            <a:pPr marL="335880" indent="-3358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 usazení (rezidence):</a:t>
            </a:r>
            <a:r>
              <a:rPr b="0" lang="cs-CZ" sz="1600" spc="-1" strike="noStrike">
                <a:solidFill>
                  <a:srgbClr val="000000"/>
                </a:solidFill>
                <a:latin typeface="Arial"/>
              </a:rPr>
              <a:t> alespoň jedna strana transakce je usazena v zúčastněném ČS, druhá strana transakce se považuje za usazenou v zúčastněném ČS</a:t>
            </a:r>
            <a:endParaRPr b="0" lang="en-US" sz="1600" spc="-1" strike="noStrike">
              <a:solidFill>
                <a:srgbClr val="000000"/>
              </a:solidFill>
              <a:latin typeface="Arial"/>
            </a:endParaRPr>
          </a:p>
          <a:p>
            <a:pPr marL="335880" indent="-3358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 vydání (emise):</a:t>
            </a:r>
            <a:r>
              <a:rPr b="0" lang="cs-CZ" sz="1600" spc="-1" strike="noStrike">
                <a:solidFill>
                  <a:srgbClr val="000000"/>
                </a:solidFill>
                <a:latin typeface="Arial"/>
              </a:rPr>
              <a:t> finanční instrument vydán v zúčastněném ČS</a:t>
            </a: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klad a sazba</a:t>
            </a:r>
            <a:r>
              <a:rPr b="0" lang="cs-CZ" sz="1600" spc="-1" strike="noStrike">
                <a:solidFill>
                  <a:srgbClr val="000000"/>
                </a:solidFill>
                <a:latin typeface="Arial"/>
              </a:rPr>
              <a:t>: nejméně 0,1% za každou stranu transakce, 0,01% v případě derivát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 obavy většiny ČS</a:t>
            </a:r>
            <a:endParaRPr b="0" lang="en-US" sz="3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Harmonogram implementace: </a:t>
            </a:r>
            <a:r>
              <a:rPr b="0" lang="cs-CZ" sz="1800" spc="-1" strike="noStrike">
                <a:solidFill>
                  <a:srgbClr val="000000"/>
                </a:solidFill>
                <a:latin typeface="Arial"/>
              </a:rPr>
              <a:t>ITC systémy a synerg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ůsobnost:</a:t>
            </a:r>
            <a:r>
              <a:rPr b="0" lang="cs-CZ" sz="1800" spc="-1" strike="noStrike">
                <a:solidFill>
                  <a:srgbClr val="000000"/>
                </a:solidFill>
                <a:latin typeface="Arial"/>
              </a:rPr>
              <a:t> státní dluhopisy, repo-operace, penzijní institu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ecně deriváty, FX transakce a derivá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práva a vývěr daně</a:t>
            </a:r>
            <a:r>
              <a:rPr b="0" lang="cs-CZ" sz="1800" spc="-1" strike="noStrike">
                <a:solidFill>
                  <a:srgbClr val="000000"/>
                </a:solidFill>
                <a:latin typeface="Arial"/>
              </a:rPr>
              <a:t>: směrnice o administrativní spolupráci a vymáhání, anonymní protistrany, počet plateb a principy výběru D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 obavy nezúčastněných ČS</a:t>
            </a:r>
            <a:endParaRPr b="0" lang="en-US" sz="3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zv. extrateritoriální účinky</a:t>
            </a:r>
            <a:r>
              <a:rPr b="0" lang="cs-CZ" sz="1800" spc="-1" strike="noStrike">
                <a:solidFill>
                  <a:srgbClr val="000000"/>
                </a:solidFill>
                <a:latin typeface="Arial"/>
              </a:rPr>
              <a:t> závisí na:</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ých principech zdanění</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é působnosti</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ém modelu správy a výběru dan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oncept „fikce“ usazení</a:t>
            </a:r>
            <a:r>
              <a:rPr b="0" lang="cs-CZ" sz="1800" spc="-1" strike="noStrike">
                <a:solidFill>
                  <a:srgbClr val="000000"/>
                </a:solidFill>
                <a:latin typeface="Arial"/>
              </a:rPr>
              <a:t> - Zásah do tzv. taxing rights nezúčastněných Č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dministrativní zátěž</a:t>
            </a:r>
            <a:r>
              <a:rPr b="0" lang="cs-CZ" sz="1800" spc="-1" strike="noStrike">
                <a:solidFill>
                  <a:srgbClr val="000000"/>
                </a:solidFill>
                <a:latin typeface="Arial"/>
              </a:rPr>
              <a:t> orgánů i institucí z nezúčastněných Č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tí předpisů o administrativní spoluprác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olečná a nerozdílná odpovědnost a podobná rizik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zdělení výnosů daně</a:t>
            </a:r>
            <a:r>
              <a:rPr b="0" lang="cs-CZ" sz="1800" spc="-1" strike="noStrike">
                <a:solidFill>
                  <a:srgbClr val="000000"/>
                </a:solidFill>
                <a:latin typeface="Arial"/>
              </a:rPr>
              <a:t> a úhrada nákladů na správu a výběr této dan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549000"/>
            <a:ext cx="7010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 příklady</a:t>
            </a:r>
            <a:endParaRPr b="0" lang="en-US" sz="2400" spc="-1" strike="noStrike">
              <a:solidFill>
                <a:srgbClr val="000000"/>
              </a:solidFill>
              <a:latin typeface="Arial"/>
            </a:endParaRPr>
          </a:p>
        </p:txBody>
      </p:sp>
      <p:sp>
        <p:nvSpPr>
          <p:cNvPr id="109" name="PlaceHolder 2"/>
          <p:cNvSpPr>
            <a:spLocks noGrp="1"/>
          </p:cNvSpPr>
          <p:nvPr>
            <p:ph/>
          </p:nvPr>
        </p:nvSpPr>
        <p:spPr>
          <a:xfrm>
            <a:off x="1523880" y="1268280"/>
            <a:ext cx="7010640" cy="5113440"/>
          </a:xfrm>
          <a:prstGeom prst="rect">
            <a:avLst/>
          </a:prstGeom>
          <a:noFill/>
          <a:ln w="0">
            <a:noFill/>
          </a:ln>
        </p:spPr>
        <p:txBody>
          <a:bodyPr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1) </a:t>
            </a:r>
            <a:r>
              <a:rPr b="0" i="1" lang="cs-CZ" sz="1800" spc="-1" strike="noStrike">
                <a:solidFill>
                  <a:srgbClr val="000000"/>
                </a:solidFill>
                <a:latin typeface="Arial"/>
              </a:rPr>
              <a:t>CZ banka prodá DE dluhopisy CZ fondu. </a:t>
            </a:r>
            <a:endParaRPr b="0" lang="en-US" sz="18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čl. 4(1)g budou obě CZ instituce považovány za usazené v DE a FTT bude za obě strany odváděna v DE. Jak to proběhne v praxi?</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2) </a:t>
            </a:r>
            <a:r>
              <a:rPr b="0" i="1" lang="cs-CZ" sz="1800" spc="-1" strike="noStrike">
                <a:solidFill>
                  <a:srgbClr val="000000"/>
                </a:solidFill>
                <a:latin typeface="Arial"/>
              </a:rPr>
              <a:t>FR společnost vydá akcie. Na primárním trhu je koupí FRA banka. Následně jsou akcie převedeny na další FRB banku, která je převede na CZ banku. Ta je převede klientovi, kterou je CZ domácnost.</a:t>
            </a:r>
            <a:r>
              <a:rPr b="0" lang="cs-CZ" sz="1800" spc="-1" strike="noStrike">
                <a:solidFill>
                  <a:srgbClr val="000000"/>
                </a:solidFill>
                <a:latin typeface="Arial"/>
              </a:rPr>
              <a:t> </a:t>
            </a:r>
            <a:endParaRPr b="0" lang="en-US" sz="18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bízí se několik scénářů, lze zvážit aplikaci různých ustanovení:</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čl. 3(4) není vydání akcii zdaňováno, jakožto primární trh.</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FRA a FRB bankou zdaněna dle čl. 4(1) = 2xFF FTT</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FRB a CZ bankou zdaněna dle čl. 4(1)f = 2xFR FTT</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CZ bankou a CZ domácností bude zdaněna dle čl. 4(1)g, pouze prodejce uhradí 1x FR daň.</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určitých podmínek může být relevantní také aplikace čl. 10(2):  </a:t>
            </a:r>
            <a:r>
              <a:rPr b="0" i="1" lang="cs-CZ" sz="1600" spc="-1" strike="noStrike">
                <a:solidFill>
                  <a:srgbClr val="000000"/>
                </a:solidFill>
                <a:latin typeface="Arial"/>
              </a:rPr>
              <a:t>jestliže finanční instituce jedná jménem nebo na účet jiné finanční instituce, pak povinnost uhradit dań vzniká pouze této jiné finanční instituci</a:t>
            </a:r>
            <a:r>
              <a:rPr b="0" lang="cs-CZ"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8:28:24Z</dcterms:created>
  <dc:creator>tanzer</dc:creator>
  <dc:description/>
  <dc:language>en-US</dc:language>
  <cp:lastModifiedBy>Jana Michalíková - AKAT</cp:lastModifiedBy>
  <dcterms:modified xsi:type="dcterms:W3CDTF">2013-04-17T19:23:08Z</dcterms:modified>
  <cp:revision>7</cp:revision>
  <dc:subject/>
  <dc:title>DAŇ Z FINANČNÍCH TRANSAKCÍ POSÍLENÁ SPOLUPRÁCE = STATE OF PLAY =</dc:title>
</cp:coreProperties>
</file>