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1B8D-683E-49C7-A338-73789BC6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784F-034B-4C35-9401-44932BBF9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3E8-98DF-4F9C-9466-DC03FEE3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E55-87DF-4BF5-9C62-155CCCF8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2E83-8DB8-47D4-9DDF-38E44233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BE4B-1D56-45C1-B543-14057F91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29EF-C4FB-4DCE-9163-0793335CA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many area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E0E3-2DB7-4ED4-9DB8-5AA1D55A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1246-1650-457D-8CD4-3B682775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D3AD-A713-4A0D-8DE1-CDB31A34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E5A5-3BC1-440A-B001-A8D945B7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05BD-F47E-4901-9F9C-2ECBCFF1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83A-C030-421F-A156-0809D80C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C32-2E51-487E-B2FA-6752A78B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6CBE-001C-4976-B0E0-AEFD47C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B30-8079-4E98-B87A-3DC73818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A206-8E20-48EB-8C7C-4BBFFC58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C07C-1B2C-4334-8C29-2324042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60EF-E430-4FF5-96E9-CA622B23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02FA-ABE2-42F0-A01E-C305CE8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DC33-79F3-4118-A4A8-FACC0D9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7C17-83D7-40FF-9E94-2FBDD40C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4251-0A75-4DCF-AE14-8A5537D9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0C22-1E7D-4BDD-A558-9882D68B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135D-AC33-41A8-97EE-7250C6F9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11AB-52D7-42A2-9437-534469C4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6C8B-246A-4159-95D0-AB064EA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84C9-1E80-4508-801E-04B7AEB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8C71-3C05-4631-A39C-91A43F8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3178-BC54-434D-97E3-3AD492C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1CE2-0C48-49FB-A96E-B0E4F18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005-E31A-40D0-8260-13EB685032B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02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1028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3" name="Freeform 1029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4" name="Freeform 1030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5" name="Freeform 1031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6" name="Freeform 1032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57" name="Freeform 1033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1D6D-80B0-4A5A-B210-D6C4F5CABB2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kapitalovy.trh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4400" spc="-1" strike="noStrike">
                <a:solidFill>
                  <a:srgbClr val="d7d200"/>
                </a:solidFill>
                <a:latin typeface="Garamond"/>
              </a:rPr>
              <a:t>NABÍZENÍ ZAHRANIČNÍCH INVESTIČNÍCH FONDŮ ZE „TŘETÍCH“ ZEMÍ V ČR</a:t>
            </a:r>
            <a:br>
              <a:rPr sz="4400"/>
            </a:br>
            <a:br>
              <a:rPr sz="4400"/>
            </a:b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Garamond"/>
              </a:rPr>
              <a:t>Mgr. Bc. Aleš Králík, LL.M.</a:t>
            </a:r>
            <a:br>
              <a:rPr sz="4000"/>
            </a:br>
            <a:r>
              <a:rPr b="1" i="1" lang="pl-PL" sz="2400" spc="-1" strike="noStrike">
                <a:solidFill>
                  <a:srgbClr val="ffffff"/>
                </a:solidFill>
                <a:latin typeface="Garamond"/>
              </a:rPr>
              <a:t>Praha 19. dubna 2013, hotel Sheraton</a:t>
            </a:r>
            <a:br>
              <a:rPr sz="2400"/>
            </a:br>
            <a:r>
              <a:rPr b="1" i="1" lang="pl-PL" sz="2400" spc="-1" strike="noStrike">
                <a:solidFill>
                  <a:srgbClr val="ffffff"/>
                </a:solidFill>
                <a:latin typeface="Garamond"/>
              </a:rPr>
              <a:t>Next Steps in Asset Management, AKAT ČR/SA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914400" y="4191120"/>
            <a:ext cx="78487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isclaim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Obsah zobrazený v této prezentaci, jakož i ústní projev, odráží výlučně individuální názory, hodnocení a přístup autora k dané problematice, jež se nemusí shodovat s názory či hodnoceními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Přestože autor připravil prezentaci s veškerou náležitou péčí, činí tak bez nároku na úplnost a přesnost obsažených informac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" y="1295280"/>
            <a:ext cx="813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Úvod do problemat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48428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o je to „třetí“ země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é nabízení vs. private placement vs. iniciativa investo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aniční fond kvalifikovaných investorů vs. zahraniční speciální fo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ČNB o srovnatelnosti na žád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znam zahraničních investičních fondů, které lze v ČR veřejně nabízet (vedený ČNB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Nabízení s „pasem“</a:t>
            </a:r>
            <a:br>
              <a:rPr sz="3600"/>
            </a:br>
            <a:r>
              <a:rPr b="1" lang="pl-PL" sz="2800" spc="-1" strike="noStrike">
                <a:solidFill>
                  <a:srgbClr val="e5e5ff"/>
                </a:solidFill>
                <a:latin typeface="Garamond"/>
              </a:rPr>
              <a:t>§ 320, 321, 322, 325 a 326 ZISIF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09480" y="155736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bízení s „pasem“ vs. nabízení bez „pasu“ (tzv. národní reži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s“ se uplatní až od data stanoveného 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uální režim (s „pasem“ i bez „pasu“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ecifikum: nařízení o EuVECA/EuSEF (§ 29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Nabízení bez „pasu“</a:t>
            </a:r>
            <a:br>
              <a:rPr sz="3600"/>
            </a:br>
            <a:r>
              <a:rPr b="1" lang="pl-PL" sz="2800" spc="-1" strike="noStrike">
                <a:solidFill>
                  <a:srgbClr val="e5e5ff"/>
                </a:solidFill>
                <a:latin typeface="Garamond"/>
              </a:rPr>
              <a:t>§ 318, 319 a 324 ZISIF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09480" y="155736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U AIFM (z ČR vs. z EU) vs. non-EU AIM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ack list“ FATF OECD – aktuálně 17 zem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http://www.fatf-gafi.org/topics/high-riskandnon-cooperativejurisdictions/documents/fatfpublicstatement22february2013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oUs – aktuálně v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http://www.cnb.cz/cs/dohled_financni_trh/vykon_dohledu/dohody_o_spolupraci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aňové smlouvy – aktuálně 80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http://www.mfcr.cz/cps/rde/xchg/mfcr/xsl/prehled_smluv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Nabízení mimo AIFMD</a:t>
            </a:r>
            <a:br>
              <a:rPr sz="3600"/>
            </a:br>
            <a:r>
              <a:rPr b="1" lang="pl-PL" sz="2800" spc="-1" strike="noStrike">
                <a:solidFill>
                  <a:srgbClr val="e5e5ff"/>
                </a:solidFill>
                <a:latin typeface="Garamond"/>
              </a:rPr>
              <a:t>§ 296, § 297 odst. 2 a § 323 ZISIF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609480" y="155736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ě lze nabízet, pokud je obhospodařovatelem česká „podlimitní“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imo AIFMD a tuto možnost není možné v ČR veřejně nabízet zahraniční investiční fondy ze „třetích“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ivate placement možný je, investorem se však může stát jen kvalifikovaný inves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kapitalovy.trh@mfcr.cz</a:t>
            </a:r>
            <a:r>
              <a:rPr b="1" lang="en-US" sz="4400" spc="-1" strike="noStrike">
                <a:solidFill>
                  <a:srgbClr val="e5e5ff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ěkuj</a:t>
            </a:r>
            <a:r>
              <a:rPr b="1" lang="cs-CZ" sz="4400" spc="-1" strike="noStrike">
                <a:solidFill>
                  <a:srgbClr val="e5e5ff"/>
                </a:solidFill>
                <a:latin typeface="Times New Roman"/>
              </a:rPr>
              <a:t>i</a:t>
            </a: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 za pozornost</a:t>
            </a: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otazy</a:t>
            </a:r>
            <a:endParaRPr b="0" lang="en-US" sz="4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06:21:23Z</dcterms:created>
  <dc:creator>J. Šovar</dc:creator>
  <dc:description/>
  <dc:language>en-US</dc:language>
  <cp:lastModifiedBy>Jana Michalíková - AKAT</cp:lastModifiedBy>
  <dcterms:modified xsi:type="dcterms:W3CDTF">2013-04-17T19:17:55Z</dcterms:modified>
  <cp:revision>224</cp:revision>
  <dc:subject/>
  <dc:title>AIFMD</dc:title>
</cp:coreProperties>
</file>