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A4057-E862-4378-BC0F-0836F829F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FDBD6-77A1-4BFE-B56E-56DDF2359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100A8-20AC-40A3-87C4-D411C2C5D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B68F1-EFB9-4C6D-9BAD-05461107A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730A9-63A3-4AC6-B999-DE4CD732B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F8C27-6A3D-4044-9386-4DE033910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71E28-51F8-4F56-AE8D-17963746A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0749B-AF58-4452-95F8-38CDF2FC7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932CA-59A7-4330-9F19-E465AB130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3E7B4-CD86-4AA7-96D9-9D9EEDD1D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5AD6B-C029-43D9-9603-7E6C115E5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DD9F7-B3BA-4CFD-8276-07D059C26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BE8A5-CDFE-485B-91C1-58827B976885}" type="slidenum">
              <a:rPr b="0" lang="sk-SK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Problematika distribúcie a predaja podielových</a:t>
            </a:r>
            <a:br>
              <a:rPr sz="3200"/>
            </a:b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fondov – plusy a mínusy súčasného stav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Obrázok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000000"/>
                </a:solidFill>
                <a:latin typeface="Calibri"/>
              </a:rPr>
              <a:t>Realit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sk-SK" sz="4400" spc="-1" strike="noStrike">
                <a:solidFill>
                  <a:srgbClr val="000000"/>
                </a:solidFill>
                <a:latin typeface="Calibri"/>
              </a:rPr>
              <a:t>é fond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Obrázok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000000"/>
                </a:solidFill>
                <a:latin typeface="Calibri"/>
              </a:rPr>
              <a:t>Prečo je to tak? ...ke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Obrázok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000000"/>
                </a:solidFill>
                <a:latin typeface="Calibri"/>
              </a:rPr>
              <a:t>Ďakujem za pozornosť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Obrázok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000000"/>
                </a:solidFill>
                <a:latin typeface="Calibri"/>
              </a:rPr>
              <a:t>Čo vplýva na predajnosť fondov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Obrázok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Obrázok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Vývoj čistých predajov tuzemských PF v jednotlivých kategóriá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Obrázok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Vplyv volatility na finančných trhoch na predajnosť P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Obrázok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Obrázok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Obrázok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000000"/>
                </a:solidFill>
                <a:latin typeface="Calibri"/>
              </a:rPr>
              <a:t>Úroková politika bá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Obrázok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Obrázok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7T12:03:22Z</dcterms:created>
  <dc:creator>Dimová, Martina</dc:creator>
  <dc:description/>
  <dc:language>en-US</dc:language>
  <cp:lastModifiedBy>SASS - Michaela Bordováčová</cp:lastModifiedBy>
  <dcterms:modified xsi:type="dcterms:W3CDTF">2011-11-09T08:49:21Z</dcterms:modified>
  <cp:revision>1</cp:revision>
  <dc:subject/>
  <dc:title>Problematika distribúcie a predaja podielových fondov – plusy a mínusy súčasného stavu</dc:title>
</cp:coreProperties>
</file>