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7326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EFD7-7BB4-4DA8-B26C-0654348AB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2711-C53B-4654-A625-8E8422DC2F67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štatút sa zostavuje za strešný fond ako celok (všeobecná časť – spol. pre všetky podfondy; osobitná – týkajúca sa osobitostí jednotl. podfond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v názve strešného fondu musí byť „strešný“ – v názve podfondu musí byť názov strešného, bez „strešný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účtovníctvo sa nevedie za strešný fond, ani účtovná závierka – vedie sa osobitne za každý podfond, aj účtovná závier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E82E-C58A-4659-B946-E3F2ED690AD3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07DD-4AF7-4587-B59F-DCBC61B75DBF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- Štatút určí či sa vo fonde vydávajú viaceré tranže, aj ich o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B604-0C9B-4ABF-AD02-C3B06712AE11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možno premeniť uzavretý na otvorený, na základe PS, požiadať najneskôr 6M, premeniť 3M pred uplynutím doby na ktorú bol vytvorený (max 10 roko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uzavr – spol musí do 6M od zač.vydáv. Podať žiadosť o prijatie PL na regul trh alebo do zoznamu mnohostranného obchodného systém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E28D-63D8-4CD8-A15C-61CA5F518476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možno premeniť uzavretý na otvorený, na základe PS, požiadať najneskôr 6M, premeniť 3M pred uplynutím doby na ktorú bol vytvorený (max 10 roko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uzavr – spol musí do 6M od zač.vydáv. Podať žiadosť o prijatie PL na regul trh alebo do zoznamu mnohostranného obchodného systém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A22B-7B48-46D4-9243-86CE410815BC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- prečo prichádza rekodifikácia, rekodifikačný proces, pripomienkovanie cez asociáciu, vyjednávanie s N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54A5-6B24-4042-9384-DDF8A2782923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1F92-7809-4FCA-A74E-38808A147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224600"/>
            <a:ext cx="77724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20A6-2153-4A22-B21D-8C9FCB4A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B362-D0B6-46E2-B2CC-B72FAAD15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213336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213336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22460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22460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22460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4A9D-EB00-43E0-9947-C29B28017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42720" y="304560"/>
            <a:ext cx="7962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E933-6368-4694-ADD2-FB5C930D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1620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224600"/>
            <a:ext cx="77724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224600"/>
            <a:ext cx="77724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1620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61520" y="213336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789160" y="213336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22460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61520" y="422460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789160" y="422460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4252-C4FE-4F03-B4A1-44A14D77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5F65-20B1-4E75-A75B-0A5D924E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F0FC-80A6-43C4-AC4F-811D393A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04560"/>
            <a:ext cx="7962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12C9-3437-42FE-A954-85BBF377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6E95-18D6-4A60-A26B-32E79529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8A66-D103-4AFE-A105-06F6AEC4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224600"/>
            <a:ext cx="77724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C7A2-D2F2-42B9-B745-CDE9B9E3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7326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1" marL="190440" indent="266760">
              <a:spcBef>
                <a:spcPts val="550"/>
              </a:spcBef>
              <a:buClr>
                <a:srgbClr val="0732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2" marL="380880" indent="533520">
              <a:spcBef>
                <a:spcPts val="550"/>
              </a:spcBef>
              <a:buClr>
                <a:srgbClr val="0732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3" marL="1601640" indent="-228600">
              <a:spcBef>
                <a:spcPts val="550"/>
              </a:spcBef>
              <a:buClr>
                <a:srgbClr val="0732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732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7326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9D4D-D54F-4894-A813-12AF5F82E546}" type="slidenum">
              <a:rPr b="0" lang="en-US" sz="1400" spc="-1" strike="noStrike">
                <a:solidFill>
                  <a:srgbClr val="0732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7326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7326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1" marL="190440" indent="266760">
              <a:spcBef>
                <a:spcPts val="550"/>
              </a:spcBef>
              <a:buClr>
                <a:srgbClr val="0732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2" marL="380880" indent="533520">
              <a:spcBef>
                <a:spcPts val="550"/>
              </a:spcBef>
              <a:buClr>
                <a:srgbClr val="0732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3" marL="1601640" indent="-228600">
              <a:spcBef>
                <a:spcPts val="550"/>
              </a:spcBef>
              <a:buClr>
                <a:srgbClr val="0732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732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7326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09480" y="1655280"/>
            <a:ext cx="7925040" cy="8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Nové produktové možnosti podľa nového zákona o kolektívnom investovaní</a:t>
            </a:r>
            <a:endParaRPr b="0" lang="en-US" sz="28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609480" y="4800600"/>
            <a:ext cx="331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Peter Žilinek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ff"/>
                </a:solidFill>
                <a:latin typeface="Arial"/>
              </a:rPr>
              <a:t>Tatra Asset Managemen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ff"/>
                </a:solidFill>
                <a:latin typeface="Arial"/>
              </a:rPr>
              <a:t>04.11.201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0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Produktové novinky podľa nového ZKI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380880" indent="533520">
              <a:spcBef>
                <a:spcPts val="499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Strešné fondy/podfondy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 lvl="2" marL="380880" indent="533520">
              <a:spcBef>
                <a:spcPts val="499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Fondy peňažného trhu a krátkodobého peňažného trhu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 lvl="2" marL="380880" indent="533520">
              <a:spcBef>
                <a:spcPts val="499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Hlavné/zberné fondy (Master-feeder štruktúry)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 lvl="2" marL="380880" indent="533520">
              <a:spcBef>
                <a:spcPts val="499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Emisie podielových listov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 lvl="2" marL="380880" indent="533520">
              <a:spcBef>
                <a:spcPts val="499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Nové produkty pre slovenský trh - Non UCITS legislatíva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 lvl="2" marL="380880" indent="533520">
              <a:spcBef>
                <a:spcPts val="499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Uzavreté fondy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 lvl="2"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143000" y="1560600"/>
            <a:ext cx="7162920" cy="12952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Strešné podielové fondy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65C9-801C-4907-AC7D-3AA0F091ADCB}" type="slidenum">
              <a:rPr b="0" lang="en-US" sz="1400" spc="-1" strike="noStrike">
                <a:solidFill>
                  <a:srgbClr val="0732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609480" y="3124080"/>
            <a:ext cx="80773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732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Aplikovateľné na štandardné UCITS aj národné non-UCITS fond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732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732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Hlavné výhody – úspora nákladov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  <a:ea typeface="Arial"/>
              </a:rPr>
              <a:t>pri administrácii </a:t>
            </a: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a dokumentácii </a:t>
            </a:r>
            <a:r>
              <a:rPr b="0" lang="sk-SK" sz="2000" spc="-1" strike="noStrike">
                <a:solidFill>
                  <a:srgbClr val="073260"/>
                </a:solidFill>
                <a:latin typeface="Arial"/>
                <a:ea typeface="Arial"/>
              </a:rPr>
              <a:t>fond</a:t>
            </a: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ov</a:t>
            </a:r>
            <a:r>
              <a:rPr b="0" lang="sk-SK" sz="2000" spc="-1" strike="noStrike">
                <a:solidFill>
                  <a:srgbClr val="07326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  <a:ea typeface="Arial"/>
              </a:rPr>
              <a:t>pri spustení nového produktu (zmen</a:t>
            </a: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a</a:t>
            </a:r>
            <a:r>
              <a:rPr b="0" lang="sk-SK" sz="2000" spc="-1" strike="noStrike">
                <a:solidFill>
                  <a:srgbClr val="073260"/>
                </a:solidFill>
                <a:latin typeface="Arial"/>
                <a:ea typeface="Arial"/>
              </a:rPr>
              <a:t> štatútu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732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Potencionálne využitie - zastrešenie fondov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podľa investičnej stratégi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podľa obsluhovaného segment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33920" y="209376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Podfond 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19920" y="209376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Podfond 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209376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Podfond 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163656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Strešný fond AB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Fondy peňažného trhu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557B-3D7E-4BF6-B673-95741D2A5050}" type="slidenum">
              <a:rPr b="0" lang="en-US" sz="1400" spc="-1" strike="noStrike">
                <a:solidFill>
                  <a:srgbClr val="0732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228600" y="1828800"/>
            <a:ext cx="4648320" cy="1580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Nová </a:t>
            </a:r>
            <a:r>
              <a:rPr b="0" lang="sk-SK" sz="1800" spc="-1" strike="noStrike">
                <a:solidFill>
                  <a:srgbClr val="073260"/>
                </a:solidFill>
                <a:latin typeface="Arial"/>
                <a:ea typeface="Arial"/>
              </a:rPr>
              <a:t>klasifikáci</a:t>
            </a: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á</a:t>
            </a:r>
            <a:r>
              <a:rPr b="0" lang="sk-SK" sz="1800" spc="-1" strike="noStrike">
                <a:solidFill>
                  <a:srgbClr val="073260"/>
                </a:solidFill>
                <a:latin typeface="Arial"/>
                <a:ea typeface="Arial"/>
              </a:rPr>
              <a:t> peňažných fondov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732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73260"/>
                </a:solidFill>
                <a:latin typeface="Arial"/>
                <a:ea typeface="Arial"/>
              </a:rPr>
              <a:t>krátkodobý fond peňažného trhu /</a:t>
            </a:r>
            <a:br>
              <a:rPr sz="1800"/>
            </a:br>
            <a:r>
              <a:rPr b="1" i="1" lang="sk-SK" sz="1800" spc="-1" strike="noStrike">
                <a:solidFill>
                  <a:srgbClr val="073260"/>
                </a:solidFill>
                <a:latin typeface="Arial"/>
                <a:ea typeface="Arial"/>
              </a:rPr>
              <a:t>fond peňažného trhu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732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Arial"/>
                <a:ea typeface="Arial"/>
              </a:rPr>
              <a:t>presné kritériá a limity</a:t>
            </a: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, ak nesplní, nesmie sa označovať ako peňažný fon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5029200" y="1828800"/>
            <a:ext cx="3849840" cy="16002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6"/>
          <p:cNvSpPr/>
          <p:nvPr/>
        </p:nvSpPr>
        <p:spPr>
          <a:xfrm>
            <a:off x="609480" y="3657600"/>
            <a:ext cx="80773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732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Aplikovateľné na štandardné UCITS aj národné non-UCITS fond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732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732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Potencionálne dôsledk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Úbytok klasických fondov peňažného trhu – zánik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Zmena názvov súčasných peňažných fondov a únik do mierne rizikovejších UCITS fondov – krátke dlhopisové riešeni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Nástup non-UCITS fondov – menej prísne limity, iné názvy ako peňažné fondy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648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Hlavný/Zberný fond (Master/Feeder štruktúry)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6C24-79FD-4E1C-92DE-33C9E13C07C1}" type="slidenum">
              <a:rPr b="0" lang="en-US" sz="1400" spc="-1" strike="noStrike">
                <a:solidFill>
                  <a:srgbClr val="0732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609480" y="3048120"/>
            <a:ext cx="7620120" cy="27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732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Aplikovateľné len na štandardné UCITS, vnútroštátne aj cezhraničné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732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732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Možné využiti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Predovšetkým cezhraničné štruktú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Rozdielny daňový režim pre slovenské a zahraničné UCITS fond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Iné poplatkové štruktúry oproti zahraniči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38680" y="1751040"/>
            <a:ext cx="2133720" cy="6858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Zberný fo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1598760"/>
            <a:ext cx="2057400" cy="9903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Hlavný fo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37" idx="1"/>
            <a:endCxn id="138" idx="6"/>
          </p:cNvCxnSpPr>
          <p:nvPr/>
        </p:nvCxnSpPr>
        <p:spPr>
          <a:xfrm rot="10800000">
            <a:off x="3656880" y="2093040"/>
            <a:ext cx="1981800" cy="1080"/>
          </a:xfrm>
          <a:prstGeom prst="curved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3733920" y="1757520"/>
            <a:ext cx="19047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3366"/>
                </a:solidFill>
                <a:latin typeface="Arial"/>
              </a:rPr>
              <a:t>85% podiel HF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3366"/>
                </a:solidFill>
                <a:latin typeface="Arial"/>
              </a:rPr>
              <a:t>15% likvidný majetok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Emisie podielových listov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BEF0-2401-4F8E-8D13-B7171187E83A}" type="slidenum">
              <a:rPr b="0" lang="en-US" sz="1400" spc="-1" strike="noStrike">
                <a:solidFill>
                  <a:srgbClr val="0732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609480" y="3124080"/>
            <a:ext cx="83059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732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Aplikovateľné na štandardné UCITS aj národné non-UCITS fondy</a:t>
            </a:r>
            <a:r>
              <a:rPr b="0" lang="sk-SK" sz="1800" spc="-1" strike="noStrike">
                <a:solidFill>
                  <a:srgbClr val="07326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732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Odlíšenie emisií podľa nasledovných parametrov alebo ich kombinácií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88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D</a:t>
            </a:r>
            <a:r>
              <a:rPr b="0" lang="sk-SK" sz="1800" spc="-1" strike="noStrike">
                <a:solidFill>
                  <a:srgbClr val="073260"/>
                </a:solidFill>
                <a:latin typeface="Arial"/>
                <a:ea typeface="Arial"/>
              </a:rPr>
              <a:t>ruh investorov</a:t>
            </a: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 (segmenty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88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Arial"/>
                <a:ea typeface="Arial"/>
              </a:rPr>
              <a:t>Poplatkov</a:t>
            </a: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 (vstupné, výstupné, za správu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88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M</a:t>
            </a:r>
            <a:r>
              <a:rPr b="0" lang="sk-SK" sz="1800" spc="-1" strike="noStrike">
                <a:solidFill>
                  <a:srgbClr val="073260"/>
                </a:solidFill>
                <a:latin typeface="Arial"/>
                <a:ea typeface="Arial"/>
              </a:rPr>
              <a:t>inim</a:t>
            </a: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álna</a:t>
            </a:r>
            <a:r>
              <a:rPr b="0" lang="sk-SK" sz="1800" spc="-1" strike="noStrike">
                <a:solidFill>
                  <a:srgbClr val="073260"/>
                </a:solidFill>
                <a:latin typeface="Arial"/>
                <a:ea typeface="Arial"/>
              </a:rPr>
              <a:t> invest</a:t>
            </a: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ovaná</a:t>
            </a:r>
            <a:r>
              <a:rPr b="0" lang="sk-SK" sz="1800" spc="-1" strike="noStrike">
                <a:solidFill>
                  <a:srgbClr val="073260"/>
                </a:solidFill>
                <a:latin typeface="Arial"/>
                <a:ea typeface="Arial"/>
              </a:rPr>
              <a:t> sum</a:t>
            </a: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a a d</a:t>
            </a:r>
            <a:r>
              <a:rPr b="0" lang="sk-SK" sz="1800" spc="-1" strike="noStrike">
                <a:solidFill>
                  <a:srgbClr val="073260"/>
                </a:solidFill>
                <a:latin typeface="Arial"/>
                <a:ea typeface="Arial"/>
              </a:rPr>
              <a:t>enominačn</a:t>
            </a: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á</a:t>
            </a:r>
            <a:r>
              <a:rPr b="0" lang="sk-SK" sz="1800" spc="-1" strike="noStrike">
                <a:solidFill>
                  <a:srgbClr val="073260"/>
                </a:solidFill>
                <a:latin typeface="Arial"/>
                <a:ea typeface="Arial"/>
              </a:rPr>
              <a:t> men</a:t>
            </a: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88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S</a:t>
            </a:r>
            <a:r>
              <a:rPr b="0" lang="sk-SK" sz="1800" spc="-1" strike="noStrike">
                <a:solidFill>
                  <a:srgbClr val="073260"/>
                </a:solidFill>
                <a:latin typeface="Arial"/>
                <a:ea typeface="Arial"/>
              </a:rPr>
              <a:t>pôsobu vyplatenia výnosov</a:t>
            </a: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 (reinvestícia, dividenda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732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Možnosti použiti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Predovšetkým pre </a:t>
            </a:r>
            <a:r>
              <a:rPr b="0" lang="sk-SK" sz="1800" spc="-1" strike="noStrike">
                <a:solidFill>
                  <a:srgbClr val="073260"/>
                </a:solidFill>
                <a:latin typeface="Arial"/>
                <a:ea typeface="Arial"/>
              </a:rPr>
              <a:t>rôzn</a:t>
            </a: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e</a:t>
            </a:r>
            <a:r>
              <a:rPr b="0" lang="sk-SK" sz="1800" spc="-1" strike="noStrike">
                <a:solidFill>
                  <a:srgbClr val="073260"/>
                </a:solidFill>
                <a:latin typeface="Arial"/>
                <a:ea typeface="Arial"/>
              </a:rPr>
              <a:t> segment</a:t>
            </a: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y (retail, privátne bankovníctvo, inštitúcie a pod.)</a:t>
            </a:r>
            <a:r>
              <a:rPr b="0" lang="sk-SK" sz="1800" spc="-1" strike="noStrike">
                <a:solidFill>
                  <a:srgbClr val="07326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Pre dividendové politiky (Reinvestícia vs. Výplata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Menšie využitie pre rôzne men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AutoShape 9"/>
          <p:cNvSpPr/>
          <p:nvPr/>
        </p:nvSpPr>
        <p:spPr>
          <a:xfrm>
            <a:off x="684360" y="5445000"/>
            <a:ext cx="2303280" cy="72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1600200"/>
            <a:ext cx="7162920" cy="12952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2093760"/>
            <a:ext cx="1600200" cy="4208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3366"/>
                </a:solidFill>
                <a:latin typeface="Arial"/>
              </a:rPr>
              <a:t>Retailová emisi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163656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Akciový podielový fond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2438280"/>
            <a:ext cx="1600200" cy="4208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3366"/>
                </a:solidFill>
                <a:latin typeface="Arial"/>
              </a:rPr>
              <a:t>Privátna emisi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657600" y="2093760"/>
            <a:ext cx="1600200" cy="4208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3366"/>
                </a:solidFill>
                <a:latin typeface="Arial"/>
              </a:rPr>
              <a:t>Emisia EU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2438280"/>
            <a:ext cx="1600200" cy="4208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3366"/>
                </a:solidFill>
                <a:latin typeface="Arial"/>
              </a:rPr>
              <a:t>Emisia US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67280" y="2093760"/>
            <a:ext cx="1981440" cy="4208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3366"/>
                </a:solidFill>
                <a:latin typeface="Arial"/>
              </a:rPr>
              <a:t>Reinvestičná emisi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438280"/>
            <a:ext cx="1981080" cy="4208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3366"/>
                </a:solidFill>
                <a:latin typeface="Arial"/>
              </a:rPr>
              <a:t>Dividendová emisi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DA81-80E5-4922-AD85-6719AC97BA86}" type="slidenum">
              <a:rPr b="0" lang="en-US" sz="1400" spc="-1" strike="noStrike">
                <a:solidFill>
                  <a:srgbClr val="0732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Nové produkty pre slovenský trh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609480" y="1697040"/>
            <a:ext cx="800100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3366"/>
                </a:solidFill>
                <a:latin typeface="Arial"/>
              </a:rPr>
              <a:t>non-UCITS produk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09480" y="2093760"/>
          <a:ext cx="8001000" cy="2352960"/>
        </p:xfrm>
        <a:graphic>
          <a:graphicData uri="http://schemas.openxmlformats.org/drawingml/2006/table">
            <a:tbl>
              <a:tblPr/>
              <a:tblGrid>
                <a:gridCol w="3581640"/>
                <a:gridCol w="4419360"/>
              </a:tblGrid>
              <a:tr h="12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Verejné špeciálne podielové fond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73260"/>
                        </a:buClr>
                        <a:buSzPct val="11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Verejný ŠPF cenných papierov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73260"/>
                        </a:buClr>
                        <a:buSzPct val="11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Verejný ŠPF alternatívnych investícií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73260"/>
                        </a:buClr>
                        <a:buSzPct val="11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Verejný ŠPF nehnuteľností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Retailové fondy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73260"/>
                        </a:buClr>
                        <a:buSzPct val="11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verejná ponuka, povolenie pred vytvorením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73260"/>
                        </a:buClr>
                        <a:buSzPct val="11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zákonné limity investovani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73260"/>
                        </a:buClr>
                        <a:buSzPct val="11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zverejňovanie informácií, dokumentácie a reporting dohľadu ako pri UCITS fondoch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Špeciálne podielové fondy profesionálnych investorov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Profesionálne fondy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73260"/>
                        </a:buClr>
                        <a:buSzPct val="11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privátna  ponuka, dodatočné povoleni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73260"/>
                        </a:buClr>
                        <a:buSzPct val="11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štatutárne limity investovani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73260"/>
                        </a:buClr>
                        <a:buSzPct val="11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obmedzená dokumentácia a reporting dohľadu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57" name="Rectangle 3"/>
          <p:cNvSpPr/>
          <p:nvPr/>
        </p:nvSpPr>
        <p:spPr>
          <a:xfrm>
            <a:off x="609480" y="4648320"/>
            <a:ext cx="8305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732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Možnosti použiti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Pokračovanie Realitných fondov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Nové investičné stratégie pre retail – verejné ŠPF – náhrada štandardných peňažných fondov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Privátne a inštitucionálne fondy – pre profesionálnych investorov, namieru šité riešeni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1C8F-752F-4F7A-B3B1-CE7677FB5718}" type="slidenum">
              <a:rPr b="0" lang="en-US" sz="1400" spc="-1" strike="noStrike">
                <a:solidFill>
                  <a:srgbClr val="0732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Uzavreté fondy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609480" y="1697040"/>
            <a:ext cx="800100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3366"/>
                </a:solidFill>
                <a:latin typeface="Arial"/>
              </a:rPr>
              <a:t>Uzavreté fond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609480" y="2093760"/>
          <a:ext cx="8001000" cy="1411560"/>
        </p:xfrm>
        <a:graphic>
          <a:graphicData uri="http://schemas.openxmlformats.org/drawingml/2006/table">
            <a:tbl>
              <a:tblPr/>
              <a:tblGrid>
                <a:gridCol w="3581640"/>
                <a:gridCol w="4419360"/>
              </a:tblGrid>
              <a:tr h="1079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Non UCITS fond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Podmienky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73260"/>
                        </a:buClr>
                        <a:buSzPct val="11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bez práva na vyplateni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73260"/>
                        </a:buClr>
                        <a:buSzPct val="11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obchodovaný na trhu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73260"/>
                        </a:buClr>
                        <a:buSzPct val="11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najdlhšie na 10 rokov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Verejné špeciálne podielové fond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73260"/>
                        </a:buClr>
                        <a:buSzPct val="11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Verejný ŠPF cenných papierov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73260"/>
                        </a:buClr>
                        <a:buSzPct val="11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Verejný ŠPF alternatívnych investícií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73260"/>
                        </a:buClr>
                        <a:buSzPct val="11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Verejný ŠPF nehnuteľností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33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Špeciálne podielové fondy profesionálnych investorov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62" name="Rectangle 3"/>
          <p:cNvSpPr/>
          <p:nvPr/>
        </p:nvSpPr>
        <p:spPr>
          <a:xfrm>
            <a:off x="609480" y="3962520"/>
            <a:ext cx="8305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732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Novinky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Zadarenie do Mnostranného obchodného systému okrem Burzy C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Vedenie samostatnej evidencie P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732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732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Možnosti použiti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Účelovo zamerané stratégie na veľké projekty, infraštruktúru a pod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826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Zmena v dokumentácii - úprava štatútu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892A-C2EC-4034-AFAA-04891D2AE3EF}" type="slidenum">
              <a:rPr b="0" lang="en-US" sz="1400" spc="-1" strike="noStrike">
                <a:solidFill>
                  <a:srgbClr val="0732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09120" y="1752120"/>
            <a:ext cx="8153640" cy="13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Plusy a mínusy novej úpravy štatútu podielového fondu: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73260"/>
                </a:solidFill>
                <a:latin typeface="Arial"/>
              </a:rPr>
              <a:t>+ horná hranica </a:t>
            </a: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výšky depozitárskeho a správcovského poplatku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73260"/>
                </a:solidFill>
                <a:latin typeface="Arial"/>
              </a:rPr>
              <a:t>+ flexibilný režim pri dividende </a:t>
            </a: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– či, v akej lehote, výške a rozsahu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73260"/>
                </a:solidFill>
                <a:latin typeface="Arial"/>
              </a:rPr>
              <a:t>- obrovský a neúmerný nárast regulácie</a:t>
            </a: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 – nové opatrenie NBS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7326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7326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762120" y="3200400"/>
          <a:ext cx="7467480" cy="1886040"/>
        </p:xfrm>
        <a:graphic>
          <a:graphicData uri="http://schemas.openxmlformats.org/drawingml/2006/table">
            <a:tbl>
              <a:tblPr/>
              <a:tblGrid>
                <a:gridCol w="3036600"/>
                <a:gridCol w="2246400"/>
                <a:gridCol w="2184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ZKI č. 594/2003 Z.z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ec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ZKI č. 203/2011 Z.z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1 paragraf (§ 39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5 odsekov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381 slov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2 721 písmen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ZKI: 1 § (§ 7), 10 ods., 713 slov, 4 304 písme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Opatrenie NBS: 23 §§, 74 ods., 5 596 slov, </a:t>
                      </a:r>
                      <a:br>
                        <a:rPr sz="1400"/>
                      </a:br>
                      <a:r>
                        <a:rPr b="0" lang="sk-SK" sz="1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33 877 písme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7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24 paragrafov, 84 odsekov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6309 slov, 38 181 písme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5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2057400" y="5486400"/>
            <a:ext cx="4876920" cy="459720"/>
          </a:xfrm>
          <a:prstGeom prst="rect">
            <a:avLst/>
          </a:prstGeom>
          <a:solidFill>
            <a:srgbClr val="ff505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3366"/>
                </a:solidFill>
                <a:latin typeface="Arial"/>
              </a:rPr>
              <a:t>NÁRAST REGULÁCIE O 1300%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0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Zmena v dokumentácii - Kľúčové informácie pre investorov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1CF1-CA4C-4555-903D-BE6CF9F2131A}" type="slidenum">
              <a:rPr b="0" lang="en-US" sz="1400" spc="-1" strike="noStrike">
                <a:solidFill>
                  <a:srgbClr val="0732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09120" y="1828800"/>
            <a:ext cx="81536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73260"/>
                </a:solidFill>
                <a:latin typeface="Arial"/>
              </a:rPr>
              <a:t>Kľúčové informácie pre investora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7326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73260"/>
                </a:solidFill>
                <a:latin typeface="Arial"/>
              </a:rPr>
              <a:t> </a:t>
            </a:r>
            <a:r>
              <a:rPr b="0" lang="sk-SK" sz="2200" spc="-1" strike="noStrike">
                <a:solidFill>
                  <a:srgbClr val="073260"/>
                </a:solidFill>
                <a:latin typeface="Arial"/>
              </a:rPr>
              <a:t>krátky predzmluvný dokument, </a:t>
            </a:r>
            <a:r>
              <a:rPr b="1" lang="sk-SK" sz="2200" spc="-1" strike="noStrike">
                <a:solidFill>
                  <a:srgbClr val="073260"/>
                </a:solidFill>
                <a:latin typeface="Arial"/>
              </a:rPr>
              <a:t>nahrádza ZPP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7326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73260"/>
                </a:solidFill>
                <a:latin typeface="Arial"/>
              </a:rPr>
              <a:t> </a:t>
            </a:r>
            <a:r>
              <a:rPr b="0" lang="sk-SK" sz="2200" spc="-1" strike="noStrike">
                <a:solidFill>
                  <a:srgbClr val="073260"/>
                </a:solidFill>
                <a:latin typeface="Arial"/>
              </a:rPr>
              <a:t>cieľ: umožniť investorom prijať informované investičné rozhodnutie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73260"/>
                </a:solidFill>
                <a:latin typeface="Arial"/>
              </a:rPr>
              <a:t>Požiadavky na KID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73260"/>
                </a:solidFill>
                <a:latin typeface="Arial"/>
              </a:rPr>
              <a:t>*stručnosť *zrozumiteľnosť *porovnateľnosť *prístup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7326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73260"/>
                </a:solidFill>
                <a:latin typeface="Arial"/>
              </a:rPr>
              <a:t>Výsledok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1" marL="190440" indent="266760">
              <a:lnSpc>
                <a:spcPct val="90000"/>
              </a:lnSpc>
              <a:spcBef>
                <a:spcPts val="499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Šedá uniformita, žiadna odlíšiteľnosť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 lvl="1" marL="190440" indent="266760">
              <a:lnSpc>
                <a:spcPct val="90000"/>
              </a:lnSpc>
              <a:spcBef>
                <a:spcPts val="499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Narušená kontinuita – otázka zrozumiteľnosti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115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Zhrnutie a závery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2093760"/>
            <a:ext cx="5791320" cy="4060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Viac využívané produktové charakteristiky, najmä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3366"/>
                </a:solidFill>
                <a:latin typeface="Arial"/>
              </a:rPr>
              <a:t>non-UCITS fond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3366"/>
                </a:solidFill>
                <a:latin typeface="Arial"/>
              </a:rPr>
              <a:t>emisie podielových listov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3366"/>
                </a:solidFill>
                <a:latin typeface="Arial"/>
              </a:rPr>
              <a:t>strešné fond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Vyššia ponuka, vyššia variabilita, efektívnejšie spravované fondové produk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Výrazne zvýšená regulác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781680" y="2666880"/>
            <a:ext cx="19353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Agenda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7326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73260"/>
                </a:solidFill>
                <a:latin typeface="Arial"/>
              </a:rPr>
              <a:t>Produktové features na slovenskom trhu kolektívneho investovania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7326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73260"/>
                </a:solidFill>
                <a:latin typeface="Arial"/>
              </a:rPr>
              <a:t>Produktové novinky podľa nového ZKI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7326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73260"/>
                </a:solidFill>
                <a:latin typeface="Arial"/>
              </a:rPr>
              <a:t>Zmena v dokumentácii PF (štatút, KII)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7326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73260"/>
                </a:solidFill>
                <a:latin typeface="Arial"/>
              </a:rPr>
              <a:t>Zhrnutie a záver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600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-185760" algn="ctr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Ďakujem za pozornosť </a:t>
            </a:r>
            <a:br>
              <a:rPr sz="3000"/>
            </a:br>
            <a:br>
              <a:rPr sz="3000"/>
            </a:br>
            <a:r>
              <a:rPr b="0" lang="sk-SK" sz="3000" spc="-1" strike="noStrike">
                <a:solidFill>
                  <a:srgbClr val="073260"/>
                </a:solidFill>
                <a:latin typeface="Arial"/>
              </a:rPr>
              <a:t>Prajem neregulovaný príjemný deň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05120" y="434340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3366"/>
                </a:solidFill>
                <a:latin typeface="Arial"/>
              </a:rPr>
              <a:t>Peter Žilinek</a:t>
            </a:r>
            <a:br>
              <a:rPr sz="2400"/>
            </a:b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Tatra Asset Management</a:t>
            </a:r>
            <a:br>
              <a:rPr sz="2400"/>
            </a:b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e-mail: peter_zilinek@tam.s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0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Produktové feautures na slovenskom trhu kolektívneho investovania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F1D1-A136-43DB-AFA2-A4F889057844}" type="slidenum">
              <a:rPr b="0" lang="en-US" sz="1400" spc="-1" strike="noStrike">
                <a:solidFill>
                  <a:srgbClr val="0732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1700280"/>
            <a:ext cx="82296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7326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380880" indent="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2093760"/>
            <a:ext cx="7543800" cy="26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73260"/>
                </a:solidFill>
                <a:latin typeface="Arial"/>
              </a:rPr>
              <a:t>Základné produktové charakteristiky na slovenskom trhu kolektívneho investovania: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UCITS vs. Non-UCI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Reinvestícia výnosov vs. Vyplácanie divide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Segmentové produkty – Retail vs. Privátne bankovníctv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Formy a štruktúry (uzavreté fondy, štruktúry, emisi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73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Investičná stratégi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Produktové features na slovenskom trhu kolektívneho investovania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523880" y="2743200"/>
          <a:ext cx="6096240" cy="30751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75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8</a:t>
                      </a:r>
                      <a:r>
                        <a:rPr b="0" lang="sk-SK" sz="2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</a:t>
                      </a:r>
                      <a:br>
                        <a:rPr sz="2400"/>
                      </a:b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domácich správcov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5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78</a:t>
                      </a:r>
                      <a:br>
                        <a:rPr sz="2400"/>
                      </a:b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otvorených podielových fondov v správe domácich správcov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6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72</a:t>
                      </a:r>
                      <a:r>
                        <a:rPr b="0" lang="sk-SK" sz="20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UCITS fondov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6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Non-UCITS fondov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5 realitných fondov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1 inštitucionálny fond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1523880" y="1833480"/>
            <a:ext cx="609624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366"/>
                </a:solidFill>
                <a:latin typeface="Arial"/>
              </a:rPr>
              <a:t>UCITS vs. Non-UCI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624852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3366"/>
                </a:solidFill>
                <a:latin typeface="Arial"/>
              </a:rPr>
              <a:t>Stav k 30.06.2011 podľa štatistiky SASS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Produktové features na slovenskom trhu kolektívneho investovania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3880" y="2743200"/>
          <a:ext cx="6096240" cy="30751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75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8</a:t>
                      </a:r>
                      <a:r>
                        <a:rPr b="0" lang="sk-SK" sz="2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</a:t>
                      </a:r>
                      <a:br>
                        <a:rPr sz="2400"/>
                      </a:b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domácich správcov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5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78</a:t>
                      </a:r>
                      <a:br>
                        <a:rPr sz="2400"/>
                      </a:b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otvorených podielových fondov v správe domácich správcov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6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77</a:t>
                      </a:r>
                      <a:r>
                        <a:rPr b="0" lang="sk-SK" sz="20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Reinvestičných fondov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1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Dividendový fond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(realitný fond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1523880" y="1833480"/>
            <a:ext cx="609624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366"/>
                </a:solidFill>
                <a:latin typeface="Arial"/>
              </a:rPr>
              <a:t>Reinvestícia vs. Dividen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624852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3366"/>
                </a:solidFill>
                <a:latin typeface="Arial"/>
              </a:rPr>
              <a:t>Stav k 30.06.2011 podľa štatistiky SASS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Produktové features na slovenskom trhu kolektívneho investovania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523880" y="2743200"/>
          <a:ext cx="6096240" cy="30146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75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8</a:t>
                      </a:r>
                      <a:r>
                        <a:rPr b="0" lang="sk-SK" sz="2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</a:t>
                      </a:r>
                      <a:br>
                        <a:rPr sz="2400"/>
                      </a:b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domácich správcov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6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78</a:t>
                      </a:r>
                      <a:br>
                        <a:rPr sz="2400"/>
                      </a:b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otvorených podielových fondov v správe domácich správcov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0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64</a:t>
                      </a:r>
                      <a:r>
                        <a:rPr b="0" lang="sk-SK" sz="20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Retailových fondov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14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Fondov pre Privátne bankovníctv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1523880" y="1833480"/>
            <a:ext cx="609624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366"/>
                </a:solidFill>
                <a:latin typeface="Arial"/>
              </a:rPr>
              <a:t>Retail vs. Privátne bankovníctv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624852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3366"/>
                </a:solidFill>
                <a:latin typeface="Arial"/>
              </a:rPr>
              <a:t>Stav k 30.06.2011 podľa štatistiky SASS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Produktové features na slovenskom trhu kolektívneho investovania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23880" y="2743200"/>
          <a:ext cx="6096240" cy="307512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8</a:t>
                      </a:r>
                      <a:r>
                        <a:rPr b="0" lang="sk-SK" sz="2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</a:t>
                      </a:r>
                      <a:br>
                        <a:rPr sz="2400"/>
                      </a:b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domácich správcov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78</a:t>
                      </a:r>
                      <a:br>
                        <a:rPr sz="2400"/>
                      </a:b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otvorených podielových fondov v správe domácich správcov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56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0</a:t>
                      </a:r>
                      <a:r>
                        <a:rPr b="0" lang="sk-SK" sz="20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Uzavreté fondy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Emisie podielových listov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Štruktúrované fondy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1523880" y="1833480"/>
            <a:ext cx="609624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366"/>
                </a:solidFill>
                <a:latin typeface="Arial"/>
              </a:rPr>
              <a:t>Rôzne štruktú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624852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3366"/>
                </a:solidFill>
                <a:latin typeface="Arial"/>
              </a:rPr>
              <a:t>Stav k 30.06.2011 podľa štatistiky SASS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Produktové features na slovenskom trhu kolektívneho investovania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600200" y="2819520"/>
          <a:ext cx="6019920" cy="3106440"/>
        </p:xfrm>
        <a:graphic>
          <a:graphicData uri="http://schemas.openxmlformats.org/drawingml/2006/table">
            <a:tbl>
              <a:tblPr/>
              <a:tblGrid>
                <a:gridCol w="2644200"/>
                <a:gridCol w="3375720"/>
              </a:tblGrid>
              <a:tr h="745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8</a:t>
                      </a:r>
                      <a:r>
                        <a:rPr b="0" lang="sk-SK" sz="2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</a:t>
                      </a:r>
                      <a:br>
                        <a:rPr sz="2400"/>
                      </a:b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domácich správcov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78</a:t>
                      </a:r>
                      <a:br>
                        <a:rPr sz="2400"/>
                      </a:b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otvorených podielových fondov v správe domácich správcov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13 </a:t>
                      </a: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Fondov Peňažného trhu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 </a:t>
                      </a:r>
                      <a:r>
                        <a:rPr b="1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9 </a:t>
                      </a: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dlhopisových fondov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 </a:t>
                      </a:r>
                      <a:r>
                        <a:rPr b="1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8</a:t>
                      </a: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Akciových fondov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21 </a:t>
                      </a: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Zmiešaných fondov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11 </a:t>
                      </a: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Fondov fondov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10 </a:t>
                      </a: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Iných (zaistených) fondov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 </a:t>
                      </a:r>
                      <a:r>
                        <a:rPr b="1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6 </a:t>
                      </a: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Špeciálnych fondov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1523880" y="1833480"/>
            <a:ext cx="609624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366"/>
                </a:solidFill>
                <a:latin typeface="Arial"/>
              </a:rPr>
              <a:t>Investičná stratég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6248520"/>
            <a:ext cx="32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3366"/>
                </a:solidFill>
                <a:latin typeface="Arial"/>
              </a:rPr>
              <a:t>Stav k 30.06.2011 podľa štatistiky a klasifikácie SASS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Produktové features na slovenskom trhu kolektívneho investovania - závery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624852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3366"/>
                </a:solidFill>
                <a:latin typeface="Arial"/>
              </a:rPr>
              <a:t>Stav k 30.06.2011 podľa štatistiky SASS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2666880"/>
            <a:ext cx="6019920" cy="1937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Málo využívan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Univerzálnosť - rovnaká ponuka, nízka variabili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Legislatívne obmedzen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06:22:27Z</dcterms:created>
  <dc:creator>Peter Žilinek</dc:creator>
  <dc:description/>
  <dc:language>en-US</dc:language>
  <cp:lastModifiedBy>Peter Zilinek (TB10402)</cp:lastModifiedBy>
  <dcterms:modified xsi:type="dcterms:W3CDTF">2011-11-04T07:16:25Z</dcterms:modified>
  <cp:revision>91</cp:revision>
  <dc:subject/>
  <dc:title>Slide 1</dc:title>
</cp:coreProperties>
</file>