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60A-AF05-4883-990B-93CD64C4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EE3-9804-4D77-A8D2-8B9FB6C2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D6E-2B4A-428E-AE96-2DB3D0C4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0A3-35EE-493B-B77E-E94441D7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925F-46E9-4DDB-9D91-25256FFA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164-270E-414E-9249-EB36AFE3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93EB-F1AF-4800-BA34-7521BF37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DB9F-9AB0-4BA6-BA2C-01F26BBB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2CBB-2737-4C0A-857B-3DA34C3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E137-F25D-407E-8A71-94E4553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F300-78FC-4F96-8518-F0E6D2E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777-3A36-4CA0-9CB0-16371647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92C7-3E55-4D3E-A468-C0A37FB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426A-ADD7-44A0-90BD-9D7AE0D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C5E7-1DD5-4E2F-BA8C-CE3B8305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C691-8700-4171-8263-D44CD4CE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CFE0-EAC5-4D73-8471-D4397F8B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F94-3152-4E3D-A9BF-DCFF740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5E6-F719-490C-9969-8E43CB8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3B5-032D-4CB6-A6C4-BD6B3C9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84E-EB5B-4419-B308-FAEBD25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205-0804-4EB4-99F3-1A09342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8BD-02EE-401E-B1DC-CDCD578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07B-F184-47A5-A327-F90E739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4A6C-6E87-4EAC-AF7D-617099F64C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05C-A97F-444E-8161-D6FE58D98977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oman.fusek@nbs.s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Nové produktové možnosti po rekodifikácii zákona o kolektívnom investovaní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720" y="5300280"/>
            <a:ext cx="3880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Roman Fusek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526716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HĽAD REGULÁ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verejné špeciálne fondy alternatívnych investícii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vestovanie do nelistovaných spoločností, do obchodných podiel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vestovanie do drahých kovov a komodí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druhy investičného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vate equ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onkurencia verejnej ponuke majetkový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86A-BEB5-4AA8-8709-238C26E12F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Aké hrozby možno zmeniť na príležitosti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IFM Smernica – non-UCITS sa otvorí zahraničným správ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PS – princípy z KIID-u sa dostanú do iných sek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B5D-DB43-4F30-89CA-11014DFA0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8760" y="5654520"/>
            <a:ext cx="253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sk-SK" sz="1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roman.fusek@nbs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Tel. 02/5787 33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615-595D-4DCB-8918-B1F0DA26D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UCITS IV ako povin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ovenská republika bola povinná implementovať Smernicu Európskeho parlamentu a Rady 2009/65/ES z 13. júla 2009 o koordinácii zákonov, iných právnych predpisov a správnych opatrení týkajúcich sa podnikov kolektívneho investovania do prevoditeľných cenných papierov (PKIPCP) (Ú.v. EÚ L 302, 17. 11. 2009) UCITS 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: 30. jún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290-7A3E-4444-A16D-69B2410D2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UCITS IV ako hrozba a príležit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3672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HROZ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jednodušenie cezhraničného pred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ezhraničné zlučovanie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lavný – zberný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nagement Company Pass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133720"/>
            <a:ext cx="367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ÍLEŽIT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odernizovať inštitúty kolektívneho investo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ytvoriť národné produktové mo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0B5-E3CB-44D6-BA36-8D07124D8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ieľ rekodifikác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ytvoriť slovenským správcom priestor na konkurencieschop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120" y="51577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á finančná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89600" y="5157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hraničné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65A-234D-4C4F-B676-155D2B860E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...priestor v štandardných (UCITS) podielových fondoc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šný podielový fond a pod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o povolenie, jedna notifikácia, viac investičných stratég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Emisie (tranže) podielových list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en fond pre rôzne skupiny investorov a pre rôzne kraj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níženie národnej (nie európskej) administratívnej záťa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Zrušenie zbytočných oznamovacích povinností, skrátenie lehôt na rozhodnu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F46-1893-41F7-BB15-3595A88F9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UCITS fondoch</a:t>
            </a:r>
            <a:br>
              <a:rPr sz="3200"/>
            </a:br>
            <a:r>
              <a:rPr b="1" lang="sk-SK" sz="2000" spc="-1" strike="noStrike">
                <a:solidFill>
                  <a:srgbClr val="003881"/>
                </a:solidFill>
                <a:latin typeface="Tahoma"/>
              </a:rPr>
              <a:t>fondy peňažného trhu</a:t>
            </a:r>
            <a:endParaRPr b="1" lang="en-US" sz="20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šírujúci výklad usmernenia ESMA (CESR/ 10-04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nadobúdať dlhové papiere so zostatkovou životnosťou viac ako 397 dní, ak sú zabezpečené voči úrokovému riz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naha o uvoľnenie limitov – diskusia na 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jmä uvoľnenie požiadaviek na kreditný rating emit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D19-1DB6-4471-B6A8-52509E63B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uzavreté podielové fondy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ostatná evidencia cenných papie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ť obchodovať aj mimo burzy (v M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lhodobé sporiace produkty (napr. 4. dôchodkový pili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! Daňová politika štá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DE2-40CE-446B-9ACC-C7F8026AB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špeciálny fond profesionálnych investorov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čné zmen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tvorenie tohto inštitú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átna ponuka pre profesionál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ť vytvorenia bez povolenia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ah štatútu na dohode s klien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átne bankovníctvo, alternatíva riadeniu individuálneho portfó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928-2ED5-42C9-95A2-A4F5B0EA4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...priestor v non-UCITS fondoch</a:t>
            </a:r>
            <a:br>
              <a:rPr sz="3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verejné špeciálne fondy cenných papierov</a:t>
            </a: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Regulačná z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voľnenie limitov oproti UCITS fo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Marketingová príležitosť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epšia možnosť nastavenia stratégii pre slovenských klient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pr. „kvázipeňažný fond“ s významnou expozíciou do vnútra finančnej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885-BB8D-4CB7-A3AB-603ECFAF4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1-10-26T09:32:47Z</dcterms:modified>
  <cp:revision>19</cp:revision>
  <dc:subject/>
  <dc:title>Slide 1</dc:title>
</cp:coreProperties>
</file>