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3.wmf" ContentType="image/x-wmf"/>
  <Override PartName="/ppt/media/image6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2600" y="743040"/>
            <a:ext cx="49482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6D11-76B1-453D-88DE-BB65AB505A0A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ástupný symbol čísla snímky 3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426D-07E4-4EBE-8294-A695EF60AB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EE6-6345-453A-9072-F2F4FCD5D06C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EF15336-C6F0-4723-97F9-C48BEF77599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40B1-C59D-408A-A235-068671DDBC38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2263C20-4AC6-41CB-9103-82B74F6C52D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</a:t>
            </a:r>
            <a:br>
              <a:rPr sz="3200"/>
            </a:b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lhová kríza suverénnych štátov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3680" y="386064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5.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1F2E7480-E968-47BF-BED9-D39B4845212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A9EB57F-25E9-40D7-94BD-00540646593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entrálne banky – silne expanzívna menová poli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6720" y="1486080"/>
            <a:ext cx="36720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storicky veľmi nízke hlavné úrokové sadzby vo svete (FED, ECB, BOE, BO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labý hospodársky rast vo svete nedovoľuje centrálnym bankám radikálnu zmenu nastavenia hlavných úroko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ces ukončovania silne expanzívnej menovej politiky FEDu je nateraz v nedohľad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k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ý FED zavádza nové opatrenie na podporu ekonomiky, tzv. „twist“- predaj krátkych dlhopisov a nákup dlhších splatností v rámci svojho portfó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sadzby zatiaľ nemení, aj keď v hre je opäť aj možné zníženie hlavnej sadzb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-177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chce dodávať likviditu do medzibankového sektora v dlhších splatnostiach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spcBef>
                <a:spcPts val="400"/>
              </a:spcBef>
              <a:buNone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480" indent="0">
              <a:spcBef>
                <a:spcPts val="400"/>
              </a:spcBef>
              <a:buNone/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53708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Obdĺžnik 7"/>
          <p:cNvSpPr/>
          <p:nvPr/>
        </p:nvSpPr>
        <p:spPr>
          <a:xfrm>
            <a:off x="542520" y="4437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CD4338BE-6C9F-42C0-A4D5-4990914EFFC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C3F6F22-A9FA-4267-B5DF-BE55FF2205F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368280"/>
            <a:ext cx="84358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stupný nárast peňažnej zásoby – USA, Eurozó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39607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ynamika rastu peňažnej zásoby M3 v Eurozóne sa zvyš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 období takmer nulového rastu začiatkom roku 2010 opäť vidíme vyššie medziročné zme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tále však hlboko pod dlhodobým priemerom (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BloombergSam\Desktop\m3 EUR.gif"/>
          <p:cNvPicPr/>
          <p:nvPr/>
        </p:nvPicPr>
        <p:blipFill>
          <a:blip r:embed="rId1"/>
          <a:stretch/>
        </p:blipFill>
        <p:spPr>
          <a:xfrm>
            <a:off x="395280" y="1268280"/>
            <a:ext cx="4392720" cy="252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BloombergSam\Desktop\m2 USD.gif"/>
          <p:cNvPicPr/>
          <p:nvPr/>
        </p:nvPicPr>
        <p:blipFill>
          <a:blip r:embed="rId2"/>
          <a:stretch/>
        </p:blipFill>
        <p:spPr>
          <a:xfrm>
            <a:off x="395280" y="3573360"/>
            <a:ext cx="4392720" cy="25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4788000" y="3789360"/>
            <a:ext cx="38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edziročný nárast stavu peňažnej zásoby M2 v USA opäť na vysokých úrovni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vyšujú sa obavy z „pasce likvidity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odatočné opatrenia expanzívnej menovej politiky nemusia vytvoriť želané stimuly pre ekonomi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dĺžnik 7"/>
          <p:cNvSpPr/>
          <p:nvPr/>
        </p:nvSpPr>
        <p:spPr>
          <a:xfrm>
            <a:off x="3711240" y="6093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A1A06DAF-D301-474A-A574-AFE9FC2672D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6392661-D382-4A36-A202-82B1DF603A3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364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enová politika CB drží medzibankové úroky nízk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2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akmer nulové úrokové sadzby FEDu  a veľmi nízke medzibankové sadz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mena menovej politiky FEDu nie je na programe a teda ani USD medzibankové sadzby by nemali výraznejšie zmeniť svoju úrove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ĺžnik 7"/>
          <p:cNvSpPr/>
          <p:nvPr/>
        </p:nvSpPr>
        <p:spPr>
          <a:xfrm>
            <a:off x="338580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818160" cy="237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816360" cy="2374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4572000" y="3573360"/>
            <a:ext cx="4124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zvýšila tento rok dvakrát hlavnú úrokovú sadzbu a medzibankové úrokové sadzby na to tiež reagovali miernym ra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lavná sadzba rovnako ako medzibankové sadzby by mali ostať nateraz stabilne níz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CB bude v prípade problémov s likviditou medzibankového trhu vystupovať ako tzv. „veriteľ poslednej inštanci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ABECA3D-A4A3-433A-8FC2-309EE01D967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9E7DB39-3F35-4C4C-AFD7-64C54337890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404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nímanie kreditnej prirážky na USD trhu – zatiaľ bez známok problém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921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TED spreadu na USD medzibankovom trhu 2001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:\USERS\BloombergSam\Desktop\ted us.gif"/>
          <p:cNvPicPr/>
          <p:nvPr/>
        </p:nvPicPr>
        <p:blipFill>
          <a:blip r:embed="rId1"/>
          <a:stretch/>
        </p:blipFill>
        <p:spPr>
          <a:xfrm>
            <a:off x="684360" y="1512720"/>
            <a:ext cx="6408720" cy="4508640"/>
          </a:xfrm>
          <a:prstGeom prst="rect">
            <a:avLst/>
          </a:prstGeom>
          <a:ln w="0">
            <a:noFill/>
          </a:ln>
        </p:spPr>
      </p:pic>
      <p:sp>
        <p:nvSpPr>
          <p:cNvPr id="194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Rovná spojovacia šípka 7"/>
          <p:cNvCxnSpPr/>
          <p:nvPr/>
        </p:nvCxnSpPr>
        <p:spPr>
          <a:xfrm>
            <a:off x="4140360" y="5013000"/>
            <a:ext cx="7927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5EF1482D-EFF2-4EA6-9599-E5075B263CA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53EE34B-99B9-432B-B98B-72001D0559B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3120" y="404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nímanie kreditnej prirážky na EUR trhu – rastúce obav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USERS\BloombergSam\Desktop\ted2.gif"/>
          <p:cNvPicPr/>
          <p:nvPr/>
        </p:nvPicPr>
        <p:blipFill>
          <a:blip r:embed="rId1"/>
          <a:stretch/>
        </p:blipFill>
        <p:spPr>
          <a:xfrm>
            <a:off x="611280" y="1557360"/>
            <a:ext cx="6480000" cy="4486320"/>
          </a:xfrm>
          <a:prstGeom prst="rect">
            <a:avLst/>
          </a:prstGeom>
          <a:ln w="0">
            <a:noFill/>
          </a:ln>
        </p:spPr>
      </p:pic>
      <p:sp>
        <p:nvSpPr>
          <p:cNvPr id="199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11280" y="1268280"/>
            <a:ext cx="792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TED spreadu na EUR medzibankovom trhu 2001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Rovná spojovacia šípka 10"/>
          <p:cNvCxnSpPr/>
          <p:nvPr/>
        </p:nvCxnSpPr>
        <p:spPr>
          <a:xfrm flipV="1">
            <a:off x="4140360" y="4507920"/>
            <a:ext cx="792720" cy="4338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49B7835-ED29-40AD-855E-E12760F3958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61D4277-164C-4EE3-8A89-98EF4926B80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oblémy finančného sekto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991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11960" indent="-11196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voj EURIBOR – OIS spread 3M (2010-201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blémy bánk s likviditou a znižujúcim sa kapitálovým vybave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BloombergSam\Desktop\TED EUR.gif"/>
          <p:cNvPicPr/>
          <p:nvPr/>
        </p:nvPicPr>
        <p:blipFill>
          <a:blip r:embed="rId1"/>
          <a:stretch/>
        </p:blipFill>
        <p:spPr>
          <a:xfrm>
            <a:off x="611280" y="1844640"/>
            <a:ext cx="6848280" cy="4176720"/>
          </a:xfrm>
          <a:prstGeom prst="rect">
            <a:avLst/>
          </a:prstGeom>
          <a:ln w="0">
            <a:noFill/>
          </a:ln>
        </p:spPr>
      </p:pic>
      <p:sp>
        <p:nvSpPr>
          <p:cNvPr id="206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ABEFAC73-DDFC-43B3-97CE-16D41F57666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FF10E5C-9B46-4978-9DB1-672454DE7E1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UR peňažný tr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35640" y="1412640"/>
            <a:ext cx="324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Úrokové sadzby peňažného trhu – EURIBOR zaznamenali stabilný vývoj počas posledného kvartálu, napriek tomu od začiatku roka sú vyššie o približne 50 b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brat rétoriky ECB a zastavenie procesu zvyšovania úrokových sadzieb z dôvodu nastúpenej dlhovej krízy vplývali na medzibankový tr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blémy bánk najviac exponovaných na trhoch, ktoré majú najväčšie problémy dlhového financovania sa prejavujú na znižovaní likvidity a plynulého chodu trhu s medzibankovými pôžička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buNone/>
              <a:tabLst>
                <a:tab algn="l" pos="0"/>
                <a:tab algn="l" pos="7986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3880" indent="-173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ivka peňažného trhu je aj naďalej veľmi strmá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spcBef>
                <a:spcPts val="349"/>
              </a:spcBef>
              <a:buNone/>
              <a:tabLst>
                <a:tab algn="l" pos="0"/>
                <a:tab algn="l" pos="7986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566640" y="1484280"/>
            <a:ext cx="4869000" cy="3168720"/>
          </a:xfrm>
          <a:prstGeom prst="rect">
            <a:avLst/>
          </a:prstGeom>
          <a:ln w="0">
            <a:noFill/>
          </a:ln>
        </p:spPr>
      </p:pic>
      <p:sp>
        <p:nvSpPr>
          <p:cNvPr id="211" name="Obdĺžnik 7"/>
          <p:cNvSpPr/>
          <p:nvPr/>
        </p:nvSpPr>
        <p:spPr>
          <a:xfrm>
            <a:off x="519120" y="4653000"/>
            <a:ext cx="131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www.euribor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ývoj a perspektívy dlhopisového trh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DAF9A054-5411-490B-8718-4EC507DBA78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513A0A2-BD54-4553-93ED-7535418F27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49D453F1-2B7D-4AAE-9CD7-BA777F7FC14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40B55F9-4CA7-4123-AD26-CA06FA1B864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ezpečné dlhopisové trhy sa tešili záujm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merické a nemecké výnosy 10-ročných štátnych dlhopisov na absolútnych historických minimách – prejav rizikovej averzie a neistoty na finančných trho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bavy z recesie globálnej ekonomiky a dopady dlhovej krízy vytvárali dopyt po bezrizikových aktívach - útek ku kva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8600" indent="-1386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priek nízkemu výnosu a zhoršeniu ratingu USA pretrvával silný dopyt aj po 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636480" y="2495520"/>
            <a:ext cx="6527880" cy="3525840"/>
          </a:xfrm>
          <a:prstGeom prst="rect">
            <a:avLst/>
          </a:prstGeom>
          <a:ln w="0">
            <a:noFill/>
          </a:ln>
        </p:spPr>
      </p:pic>
      <p:sp>
        <p:nvSpPr>
          <p:cNvPr id="218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4FF09591-0E2C-478F-A976-C359D3528B7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657A82D-EB12-4E08-96BA-E4F169730E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výšená riziková averzia ovplyvňuje dlhopisové tr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677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mpozitný index rizikovej averzie odzrkadľuje vývoj postupne rastúcej averzie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ilné krátkodobé výkyvy sú ovplyvnené najmä negatívnymi správami z trhu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USERS\BloombergSam\Desktop\wrai.gif"/>
          <p:cNvPicPr/>
          <p:nvPr/>
        </p:nvPicPr>
        <p:blipFill>
          <a:blip r:embed="rId1"/>
          <a:stretch/>
        </p:blipFill>
        <p:spPr>
          <a:xfrm>
            <a:off x="539640" y="2008080"/>
            <a:ext cx="6696360" cy="4013280"/>
          </a:xfrm>
          <a:prstGeom prst="rect">
            <a:avLst/>
          </a:prstGeom>
          <a:ln w="0">
            <a:noFill/>
          </a:ln>
        </p:spPr>
      </p:pic>
      <p:sp>
        <p:nvSpPr>
          <p:cNvPr id="223" name="Obdĺžnik 7"/>
          <p:cNvSpPr/>
          <p:nvPr/>
        </p:nvSpPr>
        <p:spPr>
          <a:xfrm>
            <a:off x="338580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11280" y="1989000"/>
            <a:ext cx="792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Vývoj Westpac risk aversion indexu 2010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Rovná spojovacia šípka 8"/>
          <p:cNvCxnSpPr/>
          <p:nvPr/>
        </p:nvCxnSpPr>
        <p:spPr>
          <a:xfrm flipV="1">
            <a:off x="610920" y="4149360"/>
            <a:ext cx="6265080" cy="1224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Ovál 12"/>
          <p:cNvSpPr/>
          <p:nvPr/>
        </p:nvSpPr>
        <p:spPr>
          <a:xfrm>
            <a:off x="3564000" y="3357720"/>
            <a:ext cx="216000" cy="13665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ál 13"/>
          <p:cNvSpPr/>
          <p:nvPr/>
        </p:nvSpPr>
        <p:spPr>
          <a:xfrm>
            <a:off x="5948280" y="2997360"/>
            <a:ext cx="208080" cy="1295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ál 14"/>
          <p:cNvSpPr/>
          <p:nvPr/>
        </p:nvSpPr>
        <p:spPr>
          <a:xfrm>
            <a:off x="4427640" y="3284640"/>
            <a:ext cx="360360" cy="1296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D1F56BE1-906F-4507-813B-3AABD1981F1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D3B0945-D5D5-40E2-ADDC-A2EC928FCB2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Dlhová kríza suverénnych štá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Vývoj a perspektívy peňažnéh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Vývoj a perspektívy dlhopisovéh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EEDF3B67-5916-49A9-A4DB-09B1CF83FD1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70F95F4-64B8-497E-9FA7-F07CCE9D0B6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rovnanie dlhopisového trhu USA, NEM, 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63640" y="1267920"/>
            <a:ext cx="331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mecké a americké výnosy sú historicky veľmi nízke – silný dopyt po týchto dlhopiso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y slovenských štátnych dlhopisov sa obchodujú s významnou kreditnou prirážkou voči benchmarku Eurozóny – Nemeckým bun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editná prirážka medzi domácimi a nemeckými dlhopismi sa významne rozšírila ako prejav rizikovej averzie investorov na trh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rátkodobé oslabenie záujmu investorov o dodatočný výnos a obavy o vývoj fiškálneho deficitu európskych krajín môžu znamenať volatilný vývoj kreditnej priráž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pre vývoj domácich dlhopisov je neistota ohľadom budúceho politického vývoja (predčasné voľby) a dopad na fiškálnu politiku kraj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USERS\BloombergSam\Desktop\iyc.gif"/>
          <p:cNvPicPr/>
          <p:nvPr/>
        </p:nvPicPr>
        <p:blipFill>
          <a:blip r:embed="rId1"/>
          <a:stretch/>
        </p:blipFill>
        <p:spPr>
          <a:xfrm>
            <a:off x="468360" y="1341360"/>
            <a:ext cx="4951440" cy="3483000"/>
          </a:xfrm>
          <a:prstGeom prst="rect">
            <a:avLst/>
          </a:prstGeom>
          <a:ln w="0">
            <a:noFill/>
          </a:ln>
        </p:spPr>
      </p:pic>
      <p:sp>
        <p:nvSpPr>
          <p:cNvPr id="233" name="Obdĺžnik 7"/>
          <p:cNvSpPr/>
          <p:nvPr/>
        </p:nvSpPr>
        <p:spPr>
          <a:xfrm>
            <a:off x="542520" y="4797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962F3659-031C-4CA3-A21C-79169DD73BA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2451496-0323-4658-8671-2DFFBC2917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3120" y="368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astúce ceny protekcie voči riziku defaultu krajín – W.E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ny CDS 5-ročných kontraktov krajín západnej Európy postupne rastú spolu so zvyšujúcou sa nervozitou investorov - dlhová krí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BloombergSam\Desktop\we.gif"/>
          <p:cNvPicPr/>
          <p:nvPr/>
        </p:nvPicPr>
        <p:blipFill>
          <a:blip r:embed="rId1"/>
          <a:stretch/>
        </p:blipFill>
        <p:spPr>
          <a:xfrm>
            <a:off x="611280" y="1844640"/>
            <a:ext cx="6913440" cy="4145040"/>
          </a:xfrm>
          <a:prstGeom prst="rect">
            <a:avLst/>
          </a:prstGeom>
          <a:ln w="0">
            <a:noFill/>
          </a:ln>
        </p:spPr>
      </p:pic>
      <p:sp>
        <p:nvSpPr>
          <p:cNvPr id="238" name="Obdĺžnik 7"/>
          <p:cNvSpPr/>
          <p:nvPr/>
        </p:nvSpPr>
        <p:spPr>
          <a:xfrm>
            <a:off x="371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629ADAC2-A7BF-4371-8BD5-DD4D14D8A5A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38099F2-2404-4E30-904B-B25FE05673D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árast cien CDS aj v regióne C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USERS\BloombergSam\Desktop\cee.gif"/>
          <p:cNvPicPr/>
          <p:nvPr/>
        </p:nvPicPr>
        <p:blipFill>
          <a:blip r:embed="rId1"/>
          <a:stretch/>
        </p:blipFill>
        <p:spPr>
          <a:xfrm>
            <a:off x="611280" y="1833480"/>
            <a:ext cx="6985080" cy="4187880"/>
          </a:xfrm>
          <a:prstGeom prst="rect">
            <a:avLst/>
          </a:prstGeom>
          <a:ln w="0">
            <a:noFill/>
          </a:ln>
        </p:spPr>
      </p:pic>
      <p:sp>
        <p:nvSpPr>
          <p:cNvPr id="242" name="Obdĺžnik 7"/>
          <p:cNvSpPr/>
          <p:nvPr/>
        </p:nvSpPr>
        <p:spPr>
          <a:xfrm>
            <a:off x="371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39640" y="1268280"/>
            <a:ext cx="799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raniteľnosť ekonomík CEE v nadväznosti na očakávané spomalenie rastu západnej Európy (exportné trhy) vytvára tlak aj na ceny CDS kontraktov týchto kraj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83960804-C185-40BB-9E64-DC748321F45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87A0DF5-862E-41B3-ADAB-9069063456E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rporátne dlhopisy (IG, HY) tiež pod tlak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63640" y="1412640"/>
            <a:ext cx="352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konomické zotavovanie na vyspelých trhoch je slabé, nerovnomerné a nestabil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ankový sektor ostáva aj naďalej reštriktívny v úverovaní sub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recesie sa zvýšilo a teda požadovaná prémia za podstúpené investičné riziko sa tiež zvyš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rporátne dlhopisy momentálne trpia na nedôveru a obavy investo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iaceré segmenty a subsegmenty korporátnych emitentov (IG/HY) zaznamenali rozšírenie kreditných priráž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Finančný sektor bol jeden z najviac postihnut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však za predpokladu, že ekonomiky vyspelých krajín neupadnú do recesie, korporátne dlhopisy sú atraktívne ocen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61960" y="1484280"/>
            <a:ext cx="4802040" cy="3110040"/>
          </a:xfrm>
          <a:prstGeom prst="rect">
            <a:avLst/>
          </a:prstGeom>
          <a:ln w="0">
            <a:noFill/>
          </a:ln>
        </p:spPr>
      </p:pic>
      <p:sp>
        <p:nvSpPr>
          <p:cNvPr id="248" name="Obdĺžnik 7"/>
          <p:cNvSpPr/>
          <p:nvPr/>
        </p:nvSpPr>
        <p:spPr>
          <a:xfrm>
            <a:off x="542520" y="458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2AA2090-DE73-43B4-AE09-E2516F342B8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7554C15-EE42-4AFF-81A0-9B34D6B01F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57280" y="1484280"/>
            <a:ext cx="480672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Obdĺžnik 7"/>
          <p:cNvSpPr/>
          <p:nvPr/>
        </p:nvSpPr>
        <p:spPr>
          <a:xfrm>
            <a:off x="471240" y="43657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2840" y="368280"/>
            <a:ext cx="8146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pisy emerging markets aj naďalej atraktív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5364000" y="1413000"/>
            <a:ext cx="35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ospodársky rast rozvíjajúcich sa krajín sa nachádza na podstatne vyššej úrovni ako rast vyspelých kraj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však dynamika rastu spomaľuje aj na týchto trho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yšší hospodársky rast a nižšia miera zadĺženia ekonomík emerging regiónu zvyšujú úverovú schopnosť týchto emiten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 rozdiel od vyspelých trhov, EM môžu bojovať s pravdepodobným ekonomickým spomalením prostredníctvom znižovania úrokov a čiastočne aj expanzívnou fiškálnou politi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: prepojenosť na vyspelé trhy (slabšie exporty, riziková averzia-nižšie investície, oslabovanie mi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3A9E9B8E-2653-4C1E-BE3C-6E59DBCFD3F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5ACA7B1-6EB1-439A-894E-CA50154C0AD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860CB85E-7003-43EB-AA37-02C8DCD96C8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E3A53DE-A351-447A-8D42-590559BE8A1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912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95280" y="119700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labý, nerovnomerný a nestabilný hospodársky rast vyspelých kraj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ýšená neistota a riziková averzia inves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blémy s likviditou a podkapitalizovaním finančného s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ilný dopyt po bezpečných a bezrizikových aktív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úca požadovaná prémia za podstúpené riz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treba zodpovednej fiškálnej politiky vlády mnohých vyspelých kraj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asný a dlhodobo udržateľný mechanizmus riešenia súčasných problémov v Eurozó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4FF5E5C3-62B0-4CE7-8CF1-B1758B2297D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AA0A256-2625-4DE1-8E41-16FB5AD9974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23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äty 2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B6CFC51D-44AB-4CB7-81AB-9F21040DDA4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8F9C645-239D-4803-A357-EC6C727724C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82B33385-32C6-4111-ABDE-B7F456843CD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17D1A89-334D-49BD-A080-F1784A2C185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íčiny vzniku dlhovej krízy štát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lhodobo vysoké tempá rastu vládneho dlhu vo vyspelých krajinách – zadlžovanie sa vlá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istoricky nízke úrokové sadzby v rokoch 2002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 eurozóny bol politickým rozhodnutím, nie ekonomickým – vplyv na posudzovanie kandidátov na vstup do menovej únie (porušenie kritérií 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blémy hypotekárneho trhu a pokles trhu nehnuteľností v USA z rokov 2007-2008 sa prejavil v spomalení úverového procesu finančného s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ospodárska kríza z roku 2009 – zásahy a stimuly jednotlivých vlád na podporu ekonomického ra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lema a neefektívnosť politických rozhodnutí v oblasti fiškálnej pol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äty 3"/>
          <p:cNvSpPr/>
          <p:nvPr/>
        </p:nvSpPr>
        <p:spPr>
          <a:xfrm>
            <a:off x="468360" y="630864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ECD56809-009C-42B7-9F55-42EAECAB11A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78A402B-A686-46B7-A9B7-B1D126A4CE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 Eurozóny – časová analýza výnos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783560" cy="3862440"/>
          </a:xfrm>
          <a:prstGeom prst="rect">
            <a:avLst/>
          </a:prstGeom>
          <a:ln w="0">
            <a:noFill/>
          </a:ln>
        </p:spPr>
      </p:pic>
      <p:sp>
        <p:nvSpPr>
          <p:cNvPr id="148" name="Obdĺžnik 7"/>
          <p:cNvSpPr/>
          <p:nvPr/>
        </p:nvSpPr>
        <p:spPr>
          <a:xfrm>
            <a:off x="61416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ál 6"/>
          <p:cNvSpPr/>
          <p:nvPr/>
        </p:nvSpPr>
        <p:spPr>
          <a:xfrm>
            <a:off x="4500720" y="4365720"/>
            <a:ext cx="2374920" cy="57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Rovná spojovacia šípka 8"/>
          <p:cNvCxnSpPr/>
          <p:nvPr/>
        </p:nvCxnSpPr>
        <p:spPr>
          <a:xfrm>
            <a:off x="2195280" y="3068280"/>
            <a:ext cx="2592720" cy="13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Rovná spojovacia šípka 9"/>
          <p:cNvCxnSpPr/>
          <p:nvPr/>
        </p:nvCxnSpPr>
        <p:spPr>
          <a:xfrm flipV="1">
            <a:off x="6875280" y="2276280"/>
            <a:ext cx="1369080" cy="22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Rovná spojovacia šípka 16"/>
          <p:cNvCxnSpPr/>
          <p:nvPr/>
        </p:nvCxnSpPr>
        <p:spPr>
          <a:xfrm>
            <a:off x="1116000" y="4437000"/>
            <a:ext cx="3528000" cy="4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Rovná spojovacia šípka 19"/>
          <p:cNvCxnSpPr/>
          <p:nvPr/>
        </p:nvCxnSpPr>
        <p:spPr>
          <a:xfrm>
            <a:off x="6732720" y="4869000"/>
            <a:ext cx="1224720" cy="28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191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14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ývoj dlhopisových výnosov vybraných krajín EMÚ, 5Y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39640" y="126828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Konvergencia dlhopisových výnosov v rámci krajín vstupujúcich do Eurozóny v rokoch 1995-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bdobie nereálnej predstavy o homogénnosti kreditnej kvality členských krajín EMÚ (roky 1998-200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Prečo by kreditná kvalita Nemecka mala byť porovnateľná so Španielskom, Talianskom, či Grécko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42E20C95-C4B1-4EB9-BCE6-16B2BDEC22F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40DC183-2198-4814-9E30-56EFBCD03D5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 silnom raste prichádza vynútené  uťahovanie opaskov – pokles H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79640" y="1413000"/>
            <a:ext cx="302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ilný hospodársky rast menej rozvinutých a menej efektívnych ekonomík EMÚ v rokoch 2000-2007 bol hnaný lacnými úverovými zdroj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ízke úrokové sadzby a deformované kreditné prirážk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pomalenie dynamiky rastu globálnej ekonomiky v rokoch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jviac postihnuté sú najslabšie články EMÚ (Grécko, Írsk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ynútené šetrenie a vládne úspory vedú k silnému poklesu H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 zároveň tento hospodársky pokles vedie k ďalším problémom pri konsolidácii verejných financií (nižšie daňové príjm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501984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Obdĺžnik 7"/>
          <p:cNvSpPr/>
          <p:nvPr/>
        </p:nvSpPr>
        <p:spPr>
          <a:xfrm>
            <a:off x="542520" y="4869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2613DA4-99A0-4BC4-BF21-DEC60AC994C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E3440C4-D952-4DB9-B4FD-F18B5E3C672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lhová kríza suverénnych štátov EM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Rast vládneho dlhu najsilnejší práve u problémových krajín EMÚ (Grécko, Írsko, Portugalsk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 reakcii na zhoršenie hospodárskeho vývoja v rokoch 2008-2009 rastie celkové aj realtívne zadĺženie krajín v EM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6912000" cy="3903840"/>
          </a:xfrm>
          <a:prstGeom prst="rect">
            <a:avLst/>
          </a:prstGeom>
          <a:ln w="0">
            <a:noFill/>
          </a:ln>
        </p:spPr>
      </p:pic>
      <p:sp>
        <p:nvSpPr>
          <p:cNvPr id="165" name="Obdĺžnik 7"/>
          <p:cNvSpPr/>
          <p:nvPr/>
        </p:nvSpPr>
        <p:spPr>
          <a:xfrm>
            <a:off x="39816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968769E5-58FE-482E-891A-7E5B454BFA6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2E04C11-1661-4FA6-9B03-86A1B204644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čakávaný vývoj a východiská riešenia dlhovej kríz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rhoví účastníci potrebujú vidieť jasný a dlhodobo udržateľný mechanizmus na riešenie súčasných problém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ýšenie odpisu gréckeho dlhu (haircut z 21% na 50-60%) v zmysle prebiehajúcich rokova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kračovanie nastúpeného trendu fiškálnej konsolidácie a procesu odlžovania vlád (Portugalsko, Írsko, Talian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sciplinovaný a obozretný systém poskytovania záchranného mechanizmu (problém morálneho hazar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treba jednotného a centralizovaného riadenia vládnych výdavkov (fiškálna ú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ekapitalizácia bánk najviac postihnutých dlhovou krízou – systémové banky pre fungovanie ekonom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ývoj a perspektívy peňažného trh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F6F8C4B1-BD2C-4267-A283-3C2D5C9DF50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CB44D95-50C2-4755-BAB7-C9549471FC1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413675</cp:lastModifiedBy>
  <cp:lastPrinted>2009-09-01T07:59:28Z</cp:lastPrinted>
  <dcterms:modified xsi:type="dcterms:W3CDTF">2011-10-26T07:41:50Z</dcterms:modified>
  <cp:revision>162</cp:revision>
  <dc:subject/>
  <dc:title>Titel der Präsentation</dc:title>
</cp:coreProperties>
</file>