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E33-A854-4F23-9AEC-64955CC1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EA33-3F49-4EDB-A4E0-597ACF7C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1F15-A517-4081-9A5C-F33C68A8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77DB-3064-4A8C-A92E-7FD76085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86F-7633-4D36-9B7B-D1A91960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4FD-4BCB-4924-ABA5-49CCA284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0AF7-34F5-484C-9FF0-964E6B50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6146-DF47-42FE-A73C-6015166C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9E5-5CF1-4C7E-990F-851971B6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E89-D3E5-4A10-B03E-56235326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855E-9549-4AAF-ACA6-2343FD47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6B4-94E3-4198-8AE2-E2DC8337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DF00-7B31-49C5-BB08-A391CEAEBA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SS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2209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hp_ass_logo"/>
          <p:cNvPicPr/>
          <p:nvPr/>
        </p:nvPicPr>
        <p:blipFill>
          <a:blip r:embed="rId2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905120" y="47242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66"/>
                </a:solidFill>
                <a:latin typeface="Arial"/>
              </a:rPr>
              <a:t>Roman Vlček, predseda Predstavenstva S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6000" spc="-1" strike="noStrike">
                <a:solidFill>
                  <a:srgbClr val="000099"/>
                </a:solidFill>
                <a:latin typeface="Arial Narrow"/>
              </a:rPr>
              <a:t>Ďakujeme za pozornos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SASS"/>
          <p:cNvPicPr/>
          <p:nvPr/>
        </p:nvPicPr>
        <p:blipFill>
          <a:blip r:embed="rId1"/>
          <a:stretch/>
        </p:blipFill>
        <p:spPr>
          <a:xfrm>
            <a:off x="457200" y="2739960"/>
            <a:ext cx="8229600" cy="2244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hp_ass_logo"/>
          <p:cNvPicPr/>
          <p:nvPr/>
        </p:nvPicPr>
        <p:blipFill>
          <a:blip r:embed="rId2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 u="sng">
                <a:solidFill>
                  <a:srgbClr val="000066"/>
                </a:solidFill>
                <a:uFillTx/>
                <a:latin typeface="Arial Narrow"/>
              </a:rPr>
              <a:t>AuM vo svete v rokoch 2007 -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Bil. 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hp_ass_logo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6"/>
          <p:cNvGraphicFramePr/>
          <p:nvPr/>
        </p:nvGraphicFramePr>
        <p:xfrm>
          <a:off x="-380880" y="838080"/>
          <a:ext cx="9905760" cy="5334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0880" y="838080"/>
                    <a:ext cx="99057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8"/>
          <p:cNvSpPr/>
          <p:nvPr/>
        </p:nvSpPr>
        <p:spPr>
          <a:xfrm>
            <a:off x="381960" y="594036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66"/>
                </a:solidFill>
                <a:latin typeface="Arial"/>
              </a:rPr>
              <a:t>Zdroj: EF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 u="sng">
                <a:solidFill>
                  <a:srgbClr val="000066"/>
                </a:solidFill>
                <a:uFillTx/>
                <a:latin typeface="Arial Narrow"/>
              </a:rPr>
              <a:t>AuM v Európe v rokoch 2007 -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Bil. 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p_ass_logo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Object 6"/>
          <p:cNvGraphicFramePr/>
          <p:nvPr/>
        </p:nvGraphicFramePr>
        <p:xfrm>
          <a:off x="-457200" y="762120"/>
          <a:ext cx="9906120" cy="5486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57200" y="762120"/>
                    <a:ext cx="9906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8"/>
          <p:cNvSpPr/>
          <p:nvPr/>
        </p:nvSpPr>
        <p:spPr>
          <a:xfrm>
            <a:off x="610560" y="60166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66"/>
                </a:solidFill>
                <a:latin typeface="Arial"/>
              </a:rPr>
              <a:t>Zdroj: EF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66"/>
                </a:solidFill>
                <a:uFillTx/>
                <a:latin typeface="Arial"/>
              </a:rPr>
              <a:t>Čisté predaje v investičných fond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Mld. 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p_ass_logo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89"/>
          <p:cNvSpPr/>
          <p:nvPr/>
        </p:nvSpPr>
        <p:spPr>
          <a:xfrm>
            <a:off x="3336840" y="2451240"/>
            <a:ext cx="0" cy="0"/>
          </a:xfrm>
          <a:prstGeom prst="line">
            <a:avLst/>
          </a:prstGeom>
          <a:ln cap="rnd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579"/>
          <p:cNvSpPr/>
          <p:nvPr/>
        </p:nvSpPr>
        <p:spPr>
          <a:xfrm>
            <a:off x="3360600" y="2216160"/>
            <a:ext cx="0" cy="0"/>
          </a:xfrm>
          <a:prstGeom prst="line">
            <a:avLst/>
          </a:prstGeom>
          <a:ln cap="rnd"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280" y="1523880"/>
          <a:ext cx="8763120" cy="4114800"/>
        </p:xfrm>
        <a:graphic>
          <a:graphicData uri="http://schemas.openxmlformats.org/drawingml/2006/table">
            <a:tbl>
              <a:tblPr/>
              <a:tblGrid>
                <a:gridCol w="2217960"/>
                <a:gridCol w="530280"/>
                <a:gridCol w="531720"/>
                <a:gridCol w="473040"/>
                <a:gridCol w="492120"/>
                <a:gridCol w="512640"/>
                <a:gridCol w="530280"/>
                <a:gridCol w="585720"/>
                <a:gridCol w="587520"/>
                <a:gridCol w="574560"/>
                <a:gridCol w="576360"/>
                <a:gridCol w="574560"/>
                <a:gridCol w="576360"/>
              </a:tblGrid>
              <a:tr h="4129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Kategória fon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uró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Sv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Q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Akciové fo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Dlhopisové fo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Fondy peňažného trh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2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Zmiešané fo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Iné fo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Dlhodobé fo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Spo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224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2099"/>
          <p:cNvSpPr/>
          <p:nvPr/>
        </p:nvSpPr>
        <p:spPr>
          <a:xfrm>
            <a:off x="381960" y="594036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66"/>
                </a:solidFill>
                <a:latin typeface="Arial"/>
              </a:rPr>
              <a:t>Zdroj: EF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66"/>
                </a:solidFill>
                <a:uFillTx/>
                <a:latin typeface="Arial Narrow"/>
              </a:rPr>
              <a:t>AuM vo svete v akciových, dlhopisových, peňažných a zmiešaných fond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Bil. 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hp_ass_logo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6"/>
          <p:cNvGraphicFramePr/>
          <p:nvPr/>
        </p:nvGraphicFramePr>
        <p:xfrm>
          <a:off x="0" y="762120"/>
          <a:ext cx="9144000" cy="5486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62120"/>
                    <a:ext cx="9144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8"/>
          <p:cNvSpPr/>
          <p:nvPr/>
        </p:nvSpPr>
        <p:spPr>
          <a:xfrm>
            <a:off x="458280" y="60166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66"/>
                </a:solidFill>
                <a:latin typeface="Arial"/>
              </a:rPr>
              <a:t>Zdroj: EF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 u="sng">
                <a:solidFill>
                  <a:srgbClr val="000066"/>
                </a:solidFill>
                <a:uFillTx/>
                <a:latin typeface="Arial Narrow"/>
              </a:rPr>
              <a:t>Porovnanie AuM v UCITS fondoch vo svete a v Európe v 2Q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52532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0099"/>
                </a:solidFill>
                <a:latin typeface="Arial"/>
              </a:rPr>
              <a:t>S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6022080" y="5715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0099"/>
                </a:solidFill>
                <a:latin typeface="Arial"/>
              </a:rPr>
              <a:t>EURÓ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hp_ass_logo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0"/>
          <p:cNvGraphicFramePr/>
          <p:nvPr/>
        </p:nvGraphicFramePr>
        <p:xfrm>
          <a:off x="2819520" y="990720"/>
          <a:ext cx="8305560" cy="586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990720"/>
                    <a:ext cx="83055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2"/>
          <p:cNvGraphicFramePr/>
          <p:nvPr/>
        </p:nvGraphicFramePr>
        <p:xfrm>
          <a:off x="-1676520" y="838080"/>
          <a:ext cx="8610840" cy="60199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1676520" y="838080"/>
                    <a:ext cx="861084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Rectangle 14"/>
          <p:cNvSpPr/>
          <p:nvPr/>
        </p:nvSpPr>
        <p:spPr>
          <a:xfrm>
            <a:off x="153360" y="594360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66"/>
                </a:solidFill>
                <a:latin typeface="Arial"/>
              </a:rPr>
              <a:t>Zdroj: EF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 u="sng">
                <a:solidFill>
                  <a:srgbClr val="000066"/>
                </a:solidFill>
                <a:uFillTx/>
                <a:latin typeface="Arial Narrow"/>
              </a:rPr>
              <a:t>AuM a čisté predaje UCITS fondov v Euró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hp_ass_logo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41"/>
          <p:cNvSpPr/>
          <p:nvPr/>
        </p:nvSpPr>
        <p:spPr>
          <a:xfrm>
            <a:off x="7468560" y="63244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66"/>
                </a:solidFill>
                <a:latin typeface="Arial"/>
              </a:rPr>
              <a:t>Zdroj: EF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720"/>
          <p:cNvSpPr/>
          <p:nvPr/>
        </p:nvSpPr>
        <p:spPr>
          <a:xfrm>
            <a:off x="1080" y="76212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99"/>
                </a:solidFill>
                <a:latin typeface="Arial"/>
              </a:rPr>
              <a:t>mil. 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14400" y="762120"/>
          <a:ext cx="7924680" cy="5425920"/>
        </p:xfrm>
        <a:graphic>
          <a:graphicData uri="http://schemas.openxmlformats.org/drawingml/2006/table">
            <a:tbl>
              <a:tblPr/>
              <a:tblGrid>
                <a:gridCol w="1911240"/>
                <a:gridCol w="1441440"/>
                <a:gridCol w="1143000"/>
                <a:gridCol w="1371600"/>
                <a:gridCol w="20574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Kraj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AuM 2Q 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AuM 4Q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Zmena AuM v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Čisté predaje 2Q 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Luxembur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 857 6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 880 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1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31 6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Francúz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 172 9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 210 2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3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37 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Ír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769 9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758 9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39 1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Spojené kráľovst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673 0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675 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0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2 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Nemec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247 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249 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0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5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Švajčiar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207 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207 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0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1 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Španiel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62 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64 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1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3 2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Talian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61 9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75 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7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12 7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Švéd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57 4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62 4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3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2 5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Rakú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80 3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84 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5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2 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Nór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67 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63 8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6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4 9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Dán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66 9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67 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0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2 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Fín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52 4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53 2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1,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Poľ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9 0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9 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1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Turec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2 5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5 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20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2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Maďar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9 6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9 3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3,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4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Portugal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7 8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8 7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10,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Gréc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6 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7 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12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Če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4 8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4 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0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Sloven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3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3 5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3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-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Rumunsk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 5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1 2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23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3366"/>
                          </a:solidFill>
                          <a:latin typeface="Arial CE"/>
                        </a:rPr>
                        <a:t>2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b2c8ec"/>
                        </a:gs>
                        <a:gs pos="50000">
                          <a:srgbClr val="ffffff"/>
                        </a:gs>
                        <a:gs pos="100000">
                          <a:srgbClr val="b2c8e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600" spc="-1" strike="noStrike" u="sng">
                <a:solidFill>
                  <a:srgbClr val="000066"/>
                </a:solidFill>
                <a:uFillTx/>
                <a:latin typeface="Arial Narrow"/>
              </a:rPr>
              <a:t>Relatívna zmena NAV v priebehu krízy v niektorých krajinách EFAMA v (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hp_ass_logo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6"/>
          <p:cNvGraphicFramePr/>
          <p:nvPr/>
        </p:nvGraphicFramePr>
        <p:xfrm>
          <a:off x="-457200" y="838080"/>
          <a:ext cx="9601200" cy="5791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57200" y="838080"/>
                    <a:ext cx="96012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8"/>
          <p:cNvSpPr/>
          <p:nvPr/>
        </p:nvSpPr>
        <p:spPr>
          <a:xfrm>
            <a:off x="7849440" y="58672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66"/>
                </a:solidFill>
                <a:latin typeface="Arial"/>
              </a:rPr>
              <a:t>Zdroj: EF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200" spc="-1" strike="noStrike" u="sng">
                <a:solidFill>
                  <a:srgbClr val="000066"/>
                </a:solidFill>
                <a:uFillTx/>
                <a:latin typeface="Arial Narrow"/>
              </a:rPr>
              <a:t>Podiel celkového AuM v domácich podielových fondoch a HDP v polroku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-609480" y="1143000"/>
          <a:ext cx="97534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143000"/>
                    <a:ext cx="97534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Picture 5" descr="hp_ass_logo"/>
          <p:cNvPicPr/>
          <p:nvPr/>
        </p:nvPicPr>
        <p:blipFill>
          <a:blip r:embed="rId3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8003520" y="594360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66"/>
                </a:solidFill>
                <a:latin typeface="Arial"/>
              </a:rPr>
              <a:t>Zdroj: EF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nasik</dc:creator>
  <dc:description/>
  <dc:language>en-US</dc:language>
  <cp:lastModifiedBy>Znasik</cp:lastModifiedBy>
  <dcterms:modified xsi:type="dcterms:W3CDTF">2011-11-04T09:06:08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