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F51-0553-45D9-B344-AC0A304C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560-972B-4278-858D-C3FF5B7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235-288D-4E82-AEFD-E1FEDB63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DB6-8219-47C9-9B9E-1B0B773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B58-5365-4E9A-A704-F869732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A9A-F6C4-4DB8-9235-43D9311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959-BDC5-4E1A-98F7-CDAA6C0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6E27-34D0-4DD9-8830-CA3F8B8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D49-5AD3-4BF2-91BB-413989E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6977-3D39-4A49-94F9-951F9EFC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FC79-3052-43D5-AB92-4BFF8EB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A3C-400F-4942-80F2-B906D51A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29D-5B9D-4095-A89A-D98C0A5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304-F191-4D1A-BC44-AC28D4A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378-3C26-454A-949E-265F1137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E70-AA0C-4E2F-9C62-56DE3188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D89-D2CE-4BE4-883F-C4FD8621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D5A-88A4-4452-9423-563B838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B83-E5C6-4337-B8FD-C413E85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283-7A5C-44FA-A718-1D09E9E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A05-5E74-4F01-9045-6338A67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321-D4D7-4DB0-8306-445B0AB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38D-A5DC-4BD2-8D95-BD5AF06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94C-0860-45F6-B5B2-288B123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A78F-CD53-4487-9E54-9A1C0B67FC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BAE0-AC2C-4C0F-9536-20DDC769C075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KIID – aká bude prax nového dokumentu?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720" y="5300280"/>
            <a:ext cx="3880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212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Aká bude prax KIID 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Otvorené otáz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ú investori KIID používať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e pre investorov KIID zrozumiteľný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e KIID znova len formálne predkladaný investorom s ďalšou dokumentáciou fond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ý bude mať význam KIID pre správcov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ý bude postup regulátor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Dokument kľúčových informácií pre investorov - KIID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vý (predkontraktuálny) informačný dokument pre investorov do podielových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hradí zjednodušený predajný prospekt (ZP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ho zavedenie vyplýva z implementácie smernice UCITS 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 Slovensku sa bude používať nielen pre slovenské UCITS fondy, ale aj pre retailové 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n-UCITS 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 zavedenia: do 30. júna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Zjednodušený predajný prospek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 považovaný z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eúspe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to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formálny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nezrozumiteľný pre bežných investor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ol príliš zložitý a veľmi obsiahl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umožňoval porovnávať rôzne fond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 každom členskom štáte podliehal iným pravidlá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KIID – Harmonizovaný dokument pre fondy v EÚ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ID harmonizu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át a podo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užívanie netechnického jazy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oló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výpočtu ukazovateľa na prezentáciu rizík (SRR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výpočtu ukazovateľa na prezentáciu nákladovosti fon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ôsob prezentácie minulej výkonnosti fon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ĺžku dokumen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Zodpovednosť správcovskej spoloč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é spoločnosti sú zodpovedné za obsah KI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IID nezakladá zodpovednosť správcovskej spoločnosti alebo inej osoby za spôsobenie škody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neplatí, ak je KIID zavádzajúci, nepresný alebo nezlučiteľný s prospektom fon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Prístup investorov ku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á spoločnosť je povinná poskytnúť KIID pred vstupom do zmluvného vzťa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kým spôsobom sa má KIID investorovi poskytnúť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skytuje sa KIID investorom pred každým (opakovaným) investovaním do fondu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oskytovanie KIID rôznymi distribučnými kanálm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Priama distribúc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 poskytnutie KIID investorovi zodpovedá správcovská spoloč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Externé distribučné kaná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ávcovská spoločnosť zodpovedá za včasné poskytnutie KIID distribúto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 poskytnutie KIID investorovi zodpovedá distribú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Formát a podoba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30574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0783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Prechod na KI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hodné obdobie na zavedenie KI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30. júna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í p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šetky slovenské fondy vytvorené pred 1. júlom 20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hraničné fondy, ak to ich vlastná legislatíva umožňuj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Špeciálne prípady (zlúčenia, master-feeder štruktú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šetky nové slovenské fondy vytvorené od 1. júla 2011 musia mať KI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1-10-26T15:31:44Z</dcterms:modified>
  <cp:revision>19</cp:revision>
  <dc:subject/>
  <dc:title>Slide 1</dc:title>
</cp:coreProperties>
</file>