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27A-3176-4F66-83B9-08F032BE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35C-4FBA-48FB-A026-C9F54CAE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0E28B-876F-4DD7-9958-794FD8E1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BC6C1-B530-402A-9CF3-6A6151E5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8003E-5B7B-4A2A-9141-51938A7C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372A9-FE65-4387-9874-7ACB264A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C0BD8-A6AC-481D-B023-FF2EBE3C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0E423-CC70-4862-8C12-EFD4F6C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02B0A-C4F3-4DEB-AFF0-DE3B3B1B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51727-9F14-4685-BF94-2395A7CB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00241-E30C-4B2F-8E24-E4F66613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713B6-80C9-4246-95A5-7D8453C9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DEA-0DAC-4402-A43C-3EC653EF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E835E-80F1-4D95-9E58-C8079081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E8434-2526-4BBD-B9DA-C3ED3393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7882F-B57E-49E4-84BA-84EB7917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F64DD-810A-48C6-8231-F2237F3F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6F639-E52C-4230-887B-3E48DE4A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DF95E-5A51-4684-AD42-BD9718D7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F2581-9DED-4363-8891-B5709644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91156-539D-4D91-8ACF-8335EC6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5AA4A-FB8F-41AF-B460-4297681C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31228-EABE-43EF-ABA7-EA5150F0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140-669B-49A9-B48D-13328628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C9B69-EC55-451D-9374-8FD0A90A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F7950-1427-45EA-BD06-10DF3579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8D5D4-FBF6-4BED-96FF-A3488503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C64DC-5A65-4E43-8EAD-33310B1D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6D634-AF13-4118-A6D4-B490999F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62DFA-51C1-4CA9-ABB7-356ED0C8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DA9DD-66F4-49CB-9F2C-D89EB789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35C12-56FF-4042-B586-B0263D75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C29B9-F0E7-45B0-9D89-CDDA051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6723F-B8B2-4E1F-B5EC-33D93944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14CD-EB2A-462D-AC39-DA7F8746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C51D8-F629-497E-8749-87F9F133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BF443-9887-4E24-BAE6-AE87213B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3356D-EF56-4DF8-BDD3-CD5F6BB7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184CC-82F2-4B34-8327-6B139AF7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36DD6-2BDA-4668-AE48-419EE5C9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7A4B6-7ADD-4A77-9884-0D92DEE8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6FAC3-B14A-4074-AA15-2B7FE0B5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36F51-668F-4BC9-83AF-FB0E6C8A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CB7AB-993A-40A0-8528-866708AF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95640-A2D5-4542-8FBA-C916BE58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FCA0-7A3A-4D2A-9E78-D6E07C22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E002F-78B4-44F2-8FB0-43B0061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3C7C0-4100-46BD-B45B-482077A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D9AC1-A09F-475C-86B6-00A193B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6A13F-740D-4A13-9CBF-7FCBB10F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41E5D-EE4E-45AD-B154-C8778984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8ED2-ED42-4571-A64D-DE5BE07C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B038-1E25-4C30-BC6A-EC610B5D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9249-A7A8-44EF-9EEC-42534151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AA33-E664-4561-8E0A-8BAC39AB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831C-DB9C-4750-B400-C0FBD1B0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38A-84DB-492A-9D6C-E5AC0496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2296-2886-4E49-BE72-D797CF6F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E08C-644C-41FF-A556-470A662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2574-B95E-4998-966B-E3F9B93B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28DD-456C-4886-8214-23590F34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B803-7190-4D3A-9D5A-B0D9B5D2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3028-F0E4-4055-A869-D580BEF9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811A-9437-4A5F-A8E3-14F6FDC4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3D8D-7FCC-4F25-8627-8CBA5A28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DED1-18EF-48E6-953B-4C54381E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8C7A-9F41-441F-A6AF-0FA9885C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984-1853-4E62-BF15-22A59437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D1142-0AEE-45B1-B39D-F0437985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E5DD-DE24-4E5A-B3D1-C02D950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3ACB-B181-4E1F-800F-8ECC21F8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064D-4A7B-4E34-89E1-FF39429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ADB5-3F5E-4057-836F-9E972AE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5F64-C0B6-4D7C-989E-C172E099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8FF7-62CF-40A7-8B3A-A98997AD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7118C-D22A-4D04-AF78-7040691E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DC07-2C44-4D7B-A873-018E8AC0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C2D5-BD8E-48AE-A0E0-A981D822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CD3-B75B-4367-B239-45864183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32B95-367F-45AB-980B-67D5CE1D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AE3E-E804-4A67-AC9F-3C32BDEB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FDE9-A3A3-4A6A-94C8-5537F32F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F7D06-9676-4AF1-8B58-31D212D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488A-297C-48F6-92E5-ACD24723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4333-A8CD-4029-8728-02EE52B9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0FDC-F287-4E59-81BF-BFB04E83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10C3E-63AC-4985-ACF7-99878093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471D-EA5F-4CF8-9EE7-C03022D9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EFF24-134B-4B58-A2A4-3F3E3A24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DBF-A029-47CC-A5EB-66EBAB8F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76B3-0299-4BBB-8058-AF46C5A0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17DA-1C5E-40E2-AFFA-EB10AF4C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F1FA0-7400-4631-AB3F-5A33BB80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F4E1-10D3-4199-AEA6-DD307367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71DA0-4A43-4A0C-A799-632742E6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6E0E4-9E85-4C9B-AFE4-04FC02F4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C346A-ACF0-43EC-93C2-A9CE3FA7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8AA1-B3A2-40A1-9B09-C0E32253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6B6E7-9B0F-4DF9-8131-BA91E6A0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3D1C4-5482-4660-A6F2-7B86492A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9CB-C840-48D0-A28F-3AF7F67A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014F-01A5-4294-A405-967FC2BE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3A69B-D2F3-42DC-B889-E5B72415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6135C-839C-4B68-9B73-4CBA2007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E65C5-C0CE-4663-AB1E-6D813A4A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A4703-0087-4A7E-8C55-51126FE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D638A-4D1A-49D9-8C7F-F517A792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2E52-B964-49AA-829A-AF705268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D4078-1CDD-4652-AF1E-F67BFC65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A686C-B96D-48AC-9B9B-DBF89BFE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73C9-9FF5-4CE2-AEE5-E83BAB6E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41F-ED93-432C-B3D1-C654500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3467-0A74-413E-8099-6E855F35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A55C-B866-4D40-B1A4-C40BF0BE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12A93-3E4E-4DEB-A9F5-7DC5E161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BCCFE-0A4D-4A57-B028-1978B3A0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72A5-7677-4E45-966D-4A3F0D3B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BB7EA-EDEF-4D0A-90F9-3CD52F9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65910-DF1C-4402-8FAA-F70E616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5543C-E244-4FC7-9014-14E5D817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988C2-E152-4C0B-A5B2-4C96661C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71ABA-6FEB-4EF7-9857-9DFAAE76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D7F-69CB-4708-932F-B85A01BD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A5BD1-9639-4E33-87D0-F1C25CE0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EC4F0-23D9-4CDE-B71E-058B689C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4CFDE-9747-440E-AA6F-C85EDAF0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318F4-5D45-436B-AEB0-B08E0748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43B65-602F-48EF-A2DE-FEBB5057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4BEA7-C26D-4DBC-B85A-EE1C77BA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A850C-496E-498D-A6B4-4693B006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01F58-D0D5-42BB-84F6-129095A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D68C4-9C9E-4BB9-9CB3-2E71C4AD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27CC5-488F-4039-B8C5-2256953F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539-3D67-4117-8944-B0A9B9BF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67C98-52DF-403E-915D-5D1EB3E7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8022F-8B17-4C4A-91A9-A38F4A65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AF856-1511-4E77-BA2A-5647020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B342B-B821-4194-8F87-5FED36C2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600DE-5BD5-4725-BAB8-551D6A95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ED9BF-FD31-4F1C-825C-6425453C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358A1-236A-4CCE-B824-CBD7A2AD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3155C-7696-4D7D-9E23-A60818ED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D602B-5674-4E9D-ACA7-9A5B6C56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28D0D-D7DF-4F7C-B899-1903AB1D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380B-0E11-459E-8E96-B422F93B5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EEA0-C18F-42C8-A8FB-0235ADF99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8D0C-C859-4798-B04A-18C0E7361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279A-0AC2-433E-B322-7A8CB6013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30B-A809-493E-A6A9-63D3B75E0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3455-73F5-42A3-9FAE-268AE80CF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7D73-C2CC-4B4B-B857-C1EAF9413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31DB-1FDC-4BD5-9EEF-C5305F556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D141-9F84-4225-9B16-BDACA3716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A79-74E0-4E8E-B979-BD14A84246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97A-F51E-4EE4-8F09-BCE402705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BC3F-C58C-4539-B082-4975DE993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9"/>
          <p:cNvSpPr/>
          <p:nvPr/>
        </p:nvSpPr>
        <p:spPr>
          <a:xfrm>
            <a:off x="533520" y="1676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0000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000000"/>
                </a:solidFill>
                <a:latin typeface="Arial"/>
              </a:rPr>
              <a:t>Vývoj a perspektívy akciového trhu</a:t>
            </a:r>
            <a:endParaRPr b="0" lang="en-US" sz="34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755640" y="5013360"/>
            <a:ext cx="79930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olek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vne investovanie na Slovensku 2011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otel Kaskády, 4. a 5. november 2011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826920" y="3213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arek Prokopec,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úci oddelenia portfólio manažmentu, TAM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Jednoduché časovani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(Price vs 10M S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Motivácia vs výsled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265880" cy="4608720"/>
          </a:xfrm>
          <a:prstGeom prst="rect">
            <a:avLst/>
          </a:prstGeom>
          <a:ln w="0">
            <a:noFill/>
          </a:ln>
        </p:spPr>
      </p:pic>
      <p:sp>
        <p:nvSpPr>
          <p:cNvPr id="518" name="Obdĺžnik 3"/>
          <p:cNvSpPr/>
          <p:nvPr/>
        </p:nvSpPr>
        <p:spPr>
          <a:xfrm>
            <a:off x="684360" y="6378480"/>
            <a:ext cx="7775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k-SK" sz="1100" spc="-1" strike="noStrike">
                <a:solidFill>
                  <a:srgbClr val="000000"/>
                </a:solidFill>
                <a:latin typeface="Arial"/>
              </a:rPr>
              <a:t>Behavioral Portfolio Analysis of Individual Investors”,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</a:rPr>
              <a:t> Arvid Hoffmann, Hersh Shefrin and Joost Pennings</a:t>
            </a:r>
            <a:endParaRPr b="0" lang="en-US" sz="11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Ako na akciový tr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71680" y="2071440"/>
            <a:ext cx="839304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Investovanie je viac o charaktere ako mozgu (IQ)“  Benjamin Grah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Kupujte vo výpredajo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Rozkladajte vstu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Calibri"/>
              </a:rPr>
              <a:t>Zložité veci treba nechať na odborník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Akciový trh – 5 rok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584280" y="1600200"/>
            <a:ext cx="797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Oceneni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h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http://3.bp.blogspot.com/-tFYpH3TQ3Jk/TpbMzJ-B6RI/AAAAAAAAAlc/cyVmL0Emd3w/s640/figure294.gif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Zisky prekonávajú očakávania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k 21/10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" descr="\\sbacfshome\homedirs\tb02157\My Documents\My Pictures\aapl1021.png"/>
          <p:cNvPicPr/>
          <p:nvPr/>
        </p:nvPicPr>
        <p:blipFill>
          <a:blip r:embed="rId1"/>
          <a:stretch/>
        </p:blipFill>
        <p:spPr>
          <a:xfrm>
            <a:off x="900000" y="1628640"/>
            <a:ext cx="7299360" cy="4176720"/>
          </a:xfrm>
          <a:prstGeom prst="rect">
            <a:avLst/>
          </a:prstGeom>
          <a:ln w="0">
            <a:noFill/>
          </a:ln>
        </p:spPr>
      </p:pic>
      <p:sp>
        <p:nvSpPr>
          <p:cNvPr id="502" name="Obdĺžnik 3"/>
          <p:cNvSpPr/>
          <p:nvPr/>
        </p:nvSpPr>
        <p:spPr>
          <a:xfrm>
            <a:off x="686880" y="6381720"/>
            <a:ext cx="2312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bespokeinvest.com</a:t>
            </a:r>
            <a:endParaRPr b="0" lang="en-US" sz="12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Tr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76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Akcie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76944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Prémia nad inflác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488360" cy="4525920"/>
          </a:xfrm>
          <a:prstGeom prst="rect">
            <a:avLst/>
          </a:prstGeom>
          <a:ln w="0">
            <a:noFill/>
          </a:ln>
        </p:spPr>
      </p:pic>
      <p:sp>
        <p:nvSpPr>
          <p:cNvPr id="509" name="Obdĺžnik 4"/>
          <p:cNvSpPr/>
          <p:nvPr/>
        </p:nvSpPr>
        <p:spPr>
          <a:xfrm>
            <a:off x="755640" y="6381720"/>
            <a:ext cx="799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89"/>
              </a:spcBef>
              <a:buClr>
                <a:srgbClr val="00000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100" spc="-1" strike="noStrike">
                <a:solidFill>
                  <a:srgbClr val="000000"/>
                </a:solidFill>
                <a:latin typeface="Arial"/>
              </a:rPr>
              <a:t>Zdroj: „Global Investment Returns Yearbook 2010</a:t>
            </a:r>
            <a:r>
              <a:rPr b="0" lang="sk-SK" sz="1100" spc="-1" strike="noStrike">
                <a:solidFill>
                  <a:srgbClr val="000000"/>
                </a:solidFill>
                <a:latin typeface="Arial"/>
              </a:rPr>
              <a:t>, Dimson, Marsh and Staunton</a:t>
            </a:r>
            <a:endParaRPr b="0" lang="en-US" sz="11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Zdroje výno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75614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Calibri"/>
              </a:rPr>
              <a:t>Investície v nervóznych časo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21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6:45:43Z</dcterms:created>
  <dc:creator>Richard Simulcik (TB20937)</dc:creator>
  <dc:description/>
  <dc:language>en-US</dc:language>
  <cp:lastModifiedBy>USER</cp:lastModifiedBy>
  <dcterms:modified xsi:type="dcterms:W3CDTF">2011-10-27T12:50:16Z</dcterms:modified>
  <cp:revision>328</cp:revision>
  <dc:subject/>
  <dc:title>Headline prezentácie alebo sekcie pokračovanie headline</dc:title>
</cp:coreProperties>
</file>