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1800" y="1080"/>
            <a:ext cx="2973240" cy="459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28960" y="1080"/>
            <a:ext cx="2975040" cy="459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693720" y="774720"/>
            <a:ext cx="534024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8160" y="4706640"/>
            <a:ext cx="492624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1800" y="9404280"/>
            <a:ext cx="2973240" cy="542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28960" y="9404280"/>
            <a:ext cx="2975040" cy="542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F22A51C-6B84-482C-89B5-BDF508D21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28960" y="9404280"/>
            <a:ext cx="2975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6080" bIns="4608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1C61A53-48EE-41E1-8D0D-75CE716B8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93720" y="774720"/>
            <a:ext cx="5340240" cy="3697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8160" y="4706640"/>
            <a:ext cx="49262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28960" y="9404280"/>
            <a:ext cx="2975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6080" bIns="4608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A3146B4-F716-4CD8-AE6C-FAC5CD8D0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89040" y="774720"/>
            <a:ext cx="5340240" cy="3697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8160" y="4706640"/>
            <a:ext cx="49262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DD1E-22A9-4079-B073-1BD7F8069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6476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2822-1A46-4E5C-A8A6-FA44D80FD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232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34C3-37D8-41AA-8C12-53D729FEE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152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024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152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024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0F34-9FA0-4744-81A9-235527952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160" y="140760"/>
            <a:ext cx="8839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38CF-2D31-4FB5-96B4-7BA7693CE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232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406476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232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152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024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152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024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288D-789C-42FA-B693-EB81270FE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700C-0774-4343-B5E1-964693F6B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B1A5-D412-49DA-8A1F-CACC01F20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40760"/>
            <a:ext cx="8839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262A-06A4-46DF-AEFC-EE6C0160B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33D4-A85F-4232-B8AE-757D08AB2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232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81D5-8F47-486E-9260-A71078161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5685-8700-4017-8ABD-9503827B7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a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906120" cy="1003320"/>
          </a:xfrm>
          <a:prstGeom prst="rect">
            <a:avLst/>
          </a:prstGeom>
          <a:solidFill>
            <a:srgbClr val="005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87360">
              <a:spcBef>
                <a:spcPts val="1125"/>
              </a:spcBef>
              <a:buClr>
                <a:srgbClr val="0051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920" indent="-285840">
              <a:spcBef>
                <a:spcPts val="1125"/>
              </a:spcBef>
              <a:buClr>
                <a:srgbClr val="0051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3808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96216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08B1-B3F5-4A92-B771-E86531E1D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558720" y="990720"/>
            <a:ext cx="885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5962680"/>
            <a:ext cx="9906120" cy="895320"/>
          </a:xfrm>
          <a:prstGeom prst="rect">
            <a:avLst/>
          </a:prstGeom>
          <a:solidFill>
            <a:srgbClr val="d3e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87360">
              <a:spcBef>
                <a:spcPts val="1125"/>
              </a:spcBef>
              <a:buClr>
                <a:srgbClr val="0051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920" indent="-285840">
              <a:spcBef>
                <a:spcPts val="1125"/>
              </a:spcBef>
              <a:buClr>
                <a:srgbClr val="0051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3808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240" y="1699920"/>
            <a:ext cx="8839080" cy="26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Investiční společnost </a:t>
            </a:r>
            <a:br>
              <a:rPr sz="3300"/>
            </a:b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Perspektivy kolektivního investování v ČR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67940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67940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714680" y="31669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122560" y="5072040"/>
            <a:ext cx="74912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. květ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01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32" descr="Erste_Asset_rgb"/>
          <p:cNvPicPr/>
          <p:nvPr/>
        </p:nvPicPr>
        <p:blipFill>
          <a:blip r:embed="rId1"/>
          <a:stretch/>
        </p:blipFill>
        <p:spPr>
          <a:xfrm>
            <a:off x="6908760" y="6122880"/>
            <a:ext cx="2698920" cy="565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38" descr="iscs1"/>
          <p:cNvPicPr/>
          <p:nvPr/>
        </p:nvPicPr>
        <p:blipFill>
          <a:blip r:embed="rId2"/>
          <a:stretch/>
        </p:blipFill>
        <p:spPr>
          <a:xfrm>
            <a:off x="363600" y="5923080"/>
            <a:ext cx="20224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ABF-949B-40C4-B245-52B475544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zvoj kolektivního investování v Č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ení vhodných podmínek pro domácí investory i zahraniční inve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hodní infrastruktura a profesionální bankovní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cká geografická polo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ra diskrétnosti a ochrana údajů o investor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ý postoj úřadů, které si podnikatele a investora c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z finančních služ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á IS může zakládat fondy v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set pooling/úspory z rozsahu prostřednictvím přeshraničních fúzí a tří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C52-BD55-4ACC-A587-0B6AF55E3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22"/>
          <p:cNvGraphicFramePr/>
          <p:nvPr/>
        </p:nvGraphicFramePr>
        <p:xfrm>
          <a:off x="311040" y="1027080"/>
          <a:ext cx="862992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027080"/>
                    <a:ext cx="862992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torical comparison of assets under management: funds and discretionary mand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 flipV="1">
            <a:off x="5781600" y="477792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5"/>
          <p:cNvSpPr/>
          <p:nvPr/>
        </p:nvSpPr>
        <p:spPr>
          <a:xfrm>
            <a:off x="5781600" y="5191200"/>
            <a:ext cx="2801880" cy="717480"/>
          </a:xfrm>
          <a:prstGeom prst="rightArrow">
            <a:avLst>
              <a:gd name="adj1" fmla="val 50000"/>
              <a:gd name="adj2" fmla="val 9762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1.10.2006: insourcing into ISČ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5FE7-B1BF-4AE7-BA88-1BD4A84BF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voj investic do podílových fon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Graf 4" descr=""/>
          <p:cNvPicPr/>
          <p:nvPr/>
        </p:nvPicPr>
        <p:blipFill>
          <a:blip r:embed="rId1"/>
          <a:stretch/>
        </p:blipFill>
        <p:spPr>
          <a:xfrm>
            <a:off x="317520" y="1639800"/>
            <a:ext cx="93139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9A97-3632-47FC-9941-634972C81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voj asset managemen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Chart 1" descr=""/>
          <p:cNvPicPr/>
          <p:nvPr/>
        </p:nvPicPr>
        <p:blipFill>
          <a:blip r:embed="rId1"/>
          <a:stretch/>
        </p:blipFill>
        <p:spPr>
          <a:xfrm>
            <a:off x="360360" y="1200240"/>
            <a:ext cx="91249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E486-AF4C-4A73-8399-41D7F6371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ámec kolektivního investování v České republ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čnou míra stability sektoru - regulace z EU a dohled ČN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bilní rozvoj i bez přímé státní podpory, jakou má/měla řada finančních produkt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parence – výkaznictví, systém informování klientů (provize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oká přidaná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městnanost vysoce kvalifikovaných osob včetně přidružených pracovních příležitostí pro další vysoce kvalifikované odborníky (účetní, daňoví, právní poradci) – provázanost se vzdělaností a pracovními příležitostmi odbor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kladová konkurence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439B-1DE7-46FD-B5A4-5C6667E38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dmínky umístění zahraničního kapitálu v Č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ní legislativní zákla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fektivní daňový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zitivní působení státních institucí na rozvoj seg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18FA-940A-4E0A-83BE-40F8E1FEE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egislativní základ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stranění administrativních bariér –dlouhé schvalování statutů a jejich změn, obchodní rejstřík, zjednodušení výk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ibilita systému – umožnění různých struktur, podfondy, jednoduché a diversifikované fungování tříd podílových listů, struktura SICAV, případně umožnění Master-feeder struktury i pro speciální fo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PP projekty prostřednictvím fondů (např. Infrastructure funds v Německu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litní penzijní reforma – příliv značného množství investic na kapitálový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ující a rychlá judikatura/alternativní řešení sp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á inspirace výkladovými materiály CESR a FSA pro ČNB pro zajištění právní jistoty subjektů působících na kapitálovém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7D48-1CF0-4A99-873D-C06AF8C1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zitivní působení státních institucí na rozvoj segmen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ordinace činností jednotlivých státních orgá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 marginální změny v oblasti legislativy a daňové oblasti vyžadují, aby byly prováděny s ohledem na rozvoj kapitálového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louhodobý rozvoj finanční gramotnosti obyvatel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ivita zástupců ČR v rámci EU při přípravě nové evropské legisla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upráce státu s profesními asociacemi již i v prvotních legislativních fázích (příprava koncepčních materiá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51D2-A41F-44C8-BD55-2D053E019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aňový systé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kurenceschopná míra zdanění na straně fondů a na straně inves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duchá administrativa pro zdanění investic občanů (časový test), i společ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ožnění odpisů fon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dix</dc:creator>
  <dc:description/>
  <dc:language>en-US</dc:language>
  <cp:lastModifiedBy>Jakub Hrbek</cp:lastModifiedBy>
  <dcterms:modified xsi:type="dcterms:W3CDTF">2011-05-11T18:36:35Z</dcterms:modified>
  <cp:revision>1671</cp:revision>
  <dc:subject/>
  <dc:title>COST CENTER REPORT   Česká spořitelna, a.s.  July 2002 YTD</dc:title>
</cp:coreProperties>
</file>