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DF3-6969-4B63-8C9D-37E1BA4C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1F6-13B3-466D-BFD6-F3B9C5F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C50-2E3B-4E5A-9728-6741D0CE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448-F9FE-4080-87E3-854C1718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6D21-0B88-4918-BC71-F547544A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9198-9E31-4C26-892C-90EA74C7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489C-8598-4678-9C89-2D2B418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CDA-DA3A-4264-9BA0-949A120D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346-317D-40CB-BAA1-19A84DC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888-C827-4A70-B6D1-3E73D22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5F8-C964-4669-A41C-2C2F19A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309-A0B8-452B-81C8-809F344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AFB-4EB3-49E3-B87F-40FE060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6C88-F732-42AE-BA4C-B77E328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952A-2FA6-42E2-A7FF-2CBC80D2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3C6-A60D-491A-9128-033ACE66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CEB1-2372-4C03-A59E-460CF92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9CE-B24C-4AA0-85A4-7CF9C8D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36F-AD28-4FAD-B997-17490CF7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7A1-9716-4D5B-AABA-978E632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87-9C00-4F26-85E6-9E772B6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B9D-BC77-479F-9A84-C681E2A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B9C-B9CE-4BB2-B407-C0F77B8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AC7-82EA-48A4-879F-1AC8FEE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C51-CFBA-4489-A296-70FFA0047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A99-4F39-446A-B51F-104255D4D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Změny v daňové úpravě kolektivního investování</a:t>
            </a:r>
            <a:br>
              <a:rPr sz="48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/zákon č. 586/1992 Sb., o daních z příjmů/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. Stanislav Špring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stvo financí České republ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i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ontak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Stanislav. Springl@mfcr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+ 420 25704 42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měny v roce 2010 a 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Úpravy zákonem č. 346/2010 S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íše formální změny týkající se zahraničních investor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ě definován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ce penzijního pojišt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aniční fond kolektivního inv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ílem návrhu by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stranění  pochybností o slučitelnosti právní úpravy s principy práva 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konkrétních kriterií pro zahraniční fondy, které musí splnit, aby mohly mít obdobný daňový režim jako tuzemské fon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měny v roce 2010 a 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provodné úpravy ke změně zákona o kolektivním investován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arlament ČR, účinnost ke dni vyhlášení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ílové fondy – poplatníci da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dílovému fondu se výslovně přiznává postavení poplatníka DPPO. Tato úprava ale nezakládá vlastnictví majetku ani právní subjektivitu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e povinností investiční společnost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dpovědnost za daňové úkony podílových fondů nese i nadále investiční společnost, která je obhospodařuj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ácení podílů na výnose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o zálo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ní považováno za dividendový příjem. U FO zdaněno srážkovou daní, u PO v základu daně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učování podílových fon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ovení povinností při slučování fondů, „ nástupnický obhospodařovatel fondu“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řipravované změ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 přímých daní a odvod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ást návrhu zákona  o změně zákonů v souvislosti se zřízením jednoho inkasního mí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račování důchodové refo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ást návrhu zákona, kterým se mění některé zákony v souvislosti s přijetím zákona o důchodovém spoření a zákona o doplňkovém penzijním spoře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rhovaná účinnost obou změn k 1.1.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formní“ novela zákona o daních z příjm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ákladní princip/cíl úpr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ha o daňovou neutralitu při přímém investování individuálního investora a investování prostřednictvím fondů kolektivního invest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ezení nežádoucí daňové optimalizace, resp. odstranění neodůvodnitelného daňového zvýhodnění investic prováděných prostřednictvím fondů („mateřská společnost“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změ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zba daně z příjmu pr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ční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ílové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zijní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e výši 0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pady nulového zdaně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právnická osob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ěžný investor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žší míra zdan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írné zvýšení zdanění dividend (nově srážková daň ve výši DPPO), kompenzováno nulovou sazbou da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právnická osob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„mateřská společnost“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lze uplatnit „dividendovou“ směrnici tj. nedochází k osvobození při výplatě dividend a při prodej podí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pady nulového zdaně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fyzická osoba (běžné fond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žší míra zdan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uplatnění časového testu žádné zdanění inve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výplatě dividend srážková daň – přijaté dividendy nadále vyloučeny ze základu da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fyzická osoba (speciální fondy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fondy kvalifikovaných investorů a nemovitostní fondy přestává platit osvobození (časový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ůchodová reforma – změna zákona o daních z příjm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jné podmínky pro penzijní společnosti jako pro investič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jné podmínky pro fondy penzijních společností jako pro podílové fo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ůstává osvobození fondů penzijních společností od placení srážkové daně z divid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4:58:54Z</dcterms:created>
  <dc:creator>Petercová Lucia, Mgr.</dc:creator>
  <dc:description/>
  <dc:language>en-US</dc:language>
  <cp:lastModifiedBy>Špringl Stanislav, Ing.</cp:lastModifiedBy>
  <dcterms:modified xsi:type="dcterms:W3CDTF">2011-05-17T16:32:51Z</dcterms:modified>
  <cp:revision>23</cp:revision>
  <dc:subject/>
  <dc:title>Snímek 1</dc:title>
</cp:coreProperties>
</file>