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F8162-0617-4936-BD55-B9AB265F9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1FB6A-ED32-4955-B38B-9A949045F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F241C-9EDA-412D-BECD-891427909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DDC27-3275-46DA-9BD0-14E2669D8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25F92-6238-4D51-98E5-1BBAEDFC5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66322-C901-4112-A018-76F5DBFC3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551BE-8DED-4ABC-8D7D-5D3D45605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10E31-48DC-45CA-968D-29048809B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53333-1675-409D-9B7E-22D781047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60925-24C7-4C77-8C98-0BDA1E967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53F55-71E5-44E0-BAC9-FD1627171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FEC1C-4EDD-46BF-ABC0-287CE2879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2FC0E-75D0-4C02-ACF8-AF43309ED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D6239-8291-47CA-A3EC-9B91AC564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1ECC5-6C9E-4657-ADA4-489452D84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79A58-1662-4BB7-A9E6-482545F16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EEE6C-9701-48A3-AAF3-14046E48E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33FA7-6514-4FC0-8366-FD0D74012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48A3B-E097-4D9D-B63F-97ACE8140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C6F72-4F3B-4C1A-81F8-5F7786BD0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7278B-1B1B-4403-AD62-997C5DA07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05511-A1A5-4267-AE44-8EB6A5A37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2DA5B-F09E-4B5E-9A12-ED9E61B1C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D24DD-2CD4-4FF4-9DBE-3BEECFCD1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9E28E-AD24-4846-983F-B8219CD73F01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3172E-8500-4DED-8B21-16A24E5824BD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Skupina 11"/>
          <p:cNvGrpSpPr/>
          <p:nvPr/>
        </p:nvGrpSpPr>
        <p:grpSpPr>
          <a:xfrm>
            <a:off x="0" y="100080"/>
            <a:ext cx="9144000" cy="6757920"/>
            <a:chOff x="0" y="100080"/>
            <a:chExt cx="9144000" cy="6757920"/>
          </a:xfrm>
        </p:grpSpPr>
        <p:grpSp>
          <p:nvGrpSpPr>
            <p:cNvPr id="83" name="Group 11"/>
            <p:cNvGrpSpPr/>
            <p:nvPr/>
          </p:nvGrpSpPr>
          <p:grpSpPr>
            <a:xfrm>
              <a:off x="0" y="100080"/>
              <a:ext cx="9144000" cy="6757920"/>
              <a:chOff x="0" y="100080"/>
              <a:chExt cx="9144000" cy="6757920"/>
            </a:xfrm>
          </p:grpSpPr>
          <p:sp>
            <p:nvSpPr>
              <p:cNvPr id="84" name="Rectangle 9"/>
              <p:cNvSpPr/>
              <p:nvPr/>
            </p:nvSpPr>
            <p:spPr>
              <a:xfrm>
                <a:off x="1428840" y="1671840"/>
                <a:ext cx="6696000" cy="4392360"/>
              </a:xfrm>
              <a:prstGeom prst="rect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5" name="Group 10"/>
              <p:cNvGrpSpPr/>
              <p:nvPr/>
            </p:nvGrpSpPr>
            <p:grpSpPr>
              <a:xfrm>
                <a:off x="0" y="100080"/>
                <a:ext cx="9144000" cy="6757920"/>
                <a:chOff x="0" y="100080"/>
                <a:chExt cx="9144000" cy="6757920"/>
              </a:xfrm>
            </p:grpSpPr>
            <p:pic>
              <p:nvPicPr>
                <p:cNvPr id="86" name="Picture 2" descr="peniaze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243480" y="6093000"/>
                  <a:ext cx="2376720" cy="7650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7" name="Picture 3" descr="logoMF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0" y="100080"/>
                  <a:ext cx="2962440" cy="868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8" name="Line 5"/>
                <p:cNvSpPr/>
                <p:nvPr/>
              </p:nvSpPr>
              <p:spPr>
                <a:xfrm>
                  <a:off x="0" y="5977080"/>
                  <a:ext cx="9144000" cy="0"/>
                </a:xfrm>
                <a:prstGeom prst="line">
                  <a:avLst/>
                </a:prstGeom>
                <a:ln w="324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89" name="Obrázok 1" descr="cid:image001.jpg@01CAAA67.8123F050"/>
            <p:cNvPicPr/>
            <p:nvPr/>
          </p:nvPicPr>
          <p:blipFill>
            <a:blip r:embed="rId3"/>
            <a:stretch/>
          </p:blipFill>
          <p:spPr>
            <a:xfrm>
              <a:off x="7215480" y="314280"/>
              <a:ext cx="1578600" cy="857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0" name="Rectangle 12"/>
          <p:cNvSpPr/>
          <p:nvPr/>
        </p:nvSpPr>
        <p:spPr>
          <a:xfrm>
            <a:off x="1011240" y="2492280"/>
            <a:ext cx="705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Rekodifikácia zákona o kolektívnom investovan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3"/>
          <p:cNvSpPr/>
          <p:nvPr/>
        </p:nvSpPr>
        <p:spPr>
          <a:xfrm>
            <a:off x="879480" y="4437000"/>
            <a:ext cx="525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Ján Foltá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riaditeľ odboru kapitálového trhu a poisťovníct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4"/>
          <p:cNvSpPr/>
          <p:nvPr/>
        </p:nvSpPr>
        <p:spPr>
          <a:xfrm>
            <a:off x="3710880" y="5450040"/>
            <a:ext cx="143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19.máj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Skupina 11"/>
          <p:cNvGrpSpPr/>
          <p:nvPr/>
        </p:nvGrpSpPr>
        <p:grpSpPr>
          <a:xfrm>
            <a:off x="0" y="100080"/>
            <a:ext cx="9144000" cy="6757920"/>
            <a:chOff x="0" y="100080"/>
            <a:chExt cx="9144000" cy="6757920"/>
          </a:xfrm>
        </p:grpSpPr>
        <p:grpSp>
          <p:nvGrpSpPr>
            <p:cNvPr id="94" name="Group 11"/>
            <p:cNvGrpSpPr/>
            <p:nvPr/>
          </p:nvGrpSpPr>
          <p:grpSpPr>
            <a:xfrm>
              <a:off x="0" y="100080"/>
              <a:ext cx="9144000" cy="6757920"/>
              <a:chOff x="0" y="100080"/>
              <a:chExt cx="9144000" cy="6757920"/>
            </a:xfrm>
          </p:grpSpPr>
          <p:sp>
            <p:nvSpPr>
              <p:cNvPr id="95" name="Rectangle 9"/>
              <p:cNvSpPr/>
              <p:nvPr/>
            </p:nvSpPr>
            <p:spPr>
              <a:xfrm>
                <a:off x="1428840" y="1671840"/>
                <a:ext cx="6696000" cy="4392360"/>
              </a:xfrm>
              <a:prstGeom prst="rect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" name="Group 10"/>
              <p:cNvGrpSpPr/>
              <p:nvPr/>
            </p:nvGrpSpPr>
            <p:grpSpPr>
              <a:xfrm>
                <a:off x="0" y="100080"/>
                <a:ext cx="9144000" cy="6757920"/>
                <a:chOff x="0" y="100080"/>
                <a:chExt cx="9144000" cy="6757920"/>
              </a:xfrm>
            </p:grpSpPr>
            <p:pic>
              <p:nvPicPr>
                <p:cNvPr id="97" name="Picture 2" descr="peniaze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243480" y="6093000"/>
                  <a:ext cx="2376720" cy="7650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8" name="Picture 3" descr="logoMF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0" y="100080"/>
                  <a:ext cx="2962440" cy="868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9" name="Line 5"/>
                <p:cNvSpPr/>
                <p:nvPr/>
              </p:nvSpPr>
              <p:spPr>
                <a:xfrm>
                  <a:off x="0" y="5977080"/>
                  <a:ext cx="9144000" cy="0"/>
                </a:xfrm>
                <a:prstGeom prst="line">
                  <a:avLst/>
                </a:prstGeom>
                <a:ln w="324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100" name="Obrázok 1" descr="cid:image001.jpg@01CAAA67.8123F050"/>
            <p:cNvPicPr/>
            <p:nvPr/>
          </p:nvPicPr>
          <p:blipFill>
            <a:blip r:embed="rId3"/>
            <a:stretch/>
          </p:blipFill>
          <p:spPr>
            <a:xfrm>
              <a:off x="7215480" y="314280"/>
              <a:ext cx="1578600" cy="857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857160"/>
            <a:ext cx="8229600" cy="12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000000"/>
                </a:solidFill>
                <a:latin typeface="Arial"/>
              </a:rPr>
              <a:t>Prečo rekodifikácia 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BlokTextu 10"/>
          <p:cNvSpPr/>
          <p:nvPr/>
        </p:nvSpPr>
        <p:spPr>
          <a:xfrm>
            <a:off x="500040" y="1857240"/>
            <a:ext cx="8072640" cy="46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Už 4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. zákon o kolektívnom investovaní od r. 199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sk-SK" sz="1400" spc="-1" strike="noStrike">
                <a:solidFill>
                  <a:srgbClr val="000000"/>
                </a:solidFill>
                <a:latin typeface="Arial"/>
              </a:rPr>
              <a:t>248/1992 Zb. kupónová privatizácia,  385/1999 Z.z.  UCITS,  594/2003 Z.z. UCITS III,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sk-SK" sz="1400" spc="-1" strike="noStrike">
                <a:solidFill>
                  <a:srgbClr val="000000"/>
                </a:solidFill>
                <a:latin typeface="Arial"/>
              </a:rPr>
              <a:t>..../2011 Z.z. UCITS IV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Európsky kontext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,  transpozícia  UCITS IV a L2 opatrení, Omnibus I (ESMA), „predpríprava“  na  AIFM,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SK kontext,  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príležitosť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na modernizáciu  regulácie, efektívnejšie využitie konceptu minimálnych  štandardov, nové možnosti a produkty,  redukcia „non UCITS“ administratívnej  záťaže  a obmedzení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Nová štruktúra UCITS a non-UCITS  sféry,  štandardné vs špeciálne P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" name="Skupina 11"/>
          <p:cNvGrpSpPr/>
          <p:nvPr/>
        </p:nvGrpSpPr>
        <p:grpSpPr>
          <a:xfrm>
            <a:off x="0" y="100080"/>
            <a:ext cx="9144000" cy="6757920"/>
            <a:chOff x="0" y="100080"/>
            <a:chExt cx="9144000" cy="6757920"/>
          </a:xfrm>
        </p:grpSpPr>
        <p:grpSp>
          <p:nvGrpSpPr>
            <p:cNvPr id="104" name="Group 11"/>
            <p:cNvGrpSpPr/>
            <p:nvPr/>
          </p:nvGrpSpPr>
          <p:grpSpPr>
            <a:xfrm>
              <a:off x="0" y="100080"/>
              <a:ext cx="9144000" cy="6757920"/>
              <a:chOff x="0" y="100080"/>
              <a:chExt cx="9144000" cy="6757920"/>
            </a:xfrm>
          </p:grpSpPr>
          <p:sp>
            <p:nvSpPr>
              <p:cNvPr id="105" name="Rectangle 9"/>
              <p:cNvSpPr/>
              <p:nvPr/>
            </p:nvSpPr>
            <p:spPr>
              <a:xfrm>
                <a:off x="1428840" y="1671840"/>
                <a:ext cx="6696000" cy="4392360"/>
              </a:xfrm>
              <a:prstGeom prst="rect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6" name="Group 10"/>
              <p:cNvGrpSpPr/>
              <p:nvPr/>
            </p:nvGrpSpPr>
            <p:grpSpPr>
              <a:xfrm>
                <a:off x="0" y="100080"/>
                <a:ext cx="9144000" cy="6757920"/>
                <a:chOff x="0" y="100080"/>
                <a:chExt cx="9144000" cy="6757920"/>
              </a:xfrm>
            </p:grpSpPr>
            <p:pic>
              <p:nvPicPr>
                <p:cNvPr id="107" name="Picture 2" descr="peniaze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243480" y="6093000"/>
                  <a:ext cx="2376720" cy="7650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8" name="Picture 3" descr="logoMF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0" y="100080"/>
                  <a:ext cx="2962440" cy="868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9" name="Line 5"/>
                <p:cNvSpPr/>
                <p:nvPr/>
              </p:nvSpPr>
              <p:spPr>
                <a:xfrm>
                  <a:off x="0" y="5977080"/>
                  <a:ext cx="9144000" cy="0"/>
                </a:xfrm>
                <a:prstGeom prst="line">
                  <a:avLst/>
                </a:prstGeom>
                <a:ln w="324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110" name="Obrázok 1" descr="cid:image001.jpg@01CAAA67.8123F050"/>
            <p:cNvPicPr/>
            <p:nvPr/>
          </p:nvPicPr>
          <p:blipFill>
            <a:blip r:embed="rId3"/>
            <a:stretch/>
          </p:blipFill>
          <p:spPr>
            <a:xfrm>
              <a:off x="7215480" y="314280"/>
              <a:ext cx="1578600" cy="857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28760" y="85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000000"/>
                </a:solidFill>
                <a:latin typeface="Arial"/>
              </a:rPr>
              <a:t>Čo prináša UCITS IV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BlokTextu 10"/>
          <p:cNvSpPr/>
          <p:nvPr/>
        </p:nvSpPr>
        <p:spPr>
          <a:xfrm>
            <a:off x="571680" y="1857240"/>
            <a:ext cx="807228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adapt to the financial markets of the 21th century ... meet new challenges“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Skutočný EU pas pre správcovské spoločnosti,  cezhraničná správa UCITS fondov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Cezhraničné zlučovania (mergers) fondo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Master - feeder štruktúr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Key investment information – nahrádza zjednodušený predajný prospek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i="1" lang="sk-SK" sz="1800" spc="-1" strike="noStrike">
                <a:solidFill>
                  <a:srgbClr val="000000"/>
                </a:solidFill>
                <a:latin typeface="Arial"/>
              </a:rPr>
              <a:t>MiFIDizácia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“ cez L2 direktívu - organizačné požiadavky na správcovské spoločnosti (compliance, risk menežment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- ochrana investora, „rules of conduct“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Zástupný symbol čísla snímky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DB23C-235E-496A-83D6-A9C92AE8AF14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84240" y="325440"/>
            <a:ext cx="7416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500" spc="-1" strike="noStrike" u="sng">
                <a:solidFill>
                  <a:srgbClr val="000000"/>
                </a:solidFill>
                <a:uFillTx/>
                <a:latin typeface="Arial"/>
              </a:rPr>
              <a:t>Národné voľb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5"/>
          <p:cNvSpPr/>
          <p:nvPr/>
        </p:nvSpPr>
        <p:spPr>
          <a:xfrm>
            <a:off x="0" y="3002040"/>
            <a:ext cx="9144000" cy="12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642960" y="857160"/>
          <a:ext cx="7772400" cy="4437000"/>
        </p:xfrm>
        <a:graphic>
          <a:graphicData uri="http://schemas.openxmlformats.org/drawingml/2006/table">
            <a:tbl>
              <a:tblPr/>
              <a:tblGrid>
                <a:gridCol w="4743360"/>
                <a:gridCol w="3029040"/>
              </a:tblGrid>
              <a:tr h="58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Čl. 1(2) - zriaďovanie podfondo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Án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Čl. 1(3) - právna forma UCI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n podielový fond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Čl. 6(3) - doplnkové inv. služby pre správ. spoločnosti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Á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804960" indent="-80496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Čl. 7(1)  - zvýšenie minimálnej požiadavky na počiatočný kapitál správ. spoločností a alternatívna garancia vlastných  zdrojov do výšky 50%,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Áno, ZI 730 000 eur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Čl. 13(1) - delegovanie funkcii správ. spoločnost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Á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Čl. 23(3) - aké finančné inštitúcie môžu byť depozitárom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n banky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853920" indent="-8539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Čl. 45(2) - možnosť pozastavenie vyplácania    PL pri zlúčeniac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Á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804960" indent="-80496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Čl. 51(2) - techniky portfólio menežmentu s využitím deriváto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Á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Zástupný symbol čísla snímky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AC043-4748-4FEE-8576-8BC19202A01F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84240" y="325440"/>
            <a:ext cx="7416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500" spc="-1" strike="noStrike" u="sng">
                <a:solidFill>
                  <a:srgbClr val="000000"/>
                </a:solidFill>
                <a:uFillTx/>
                <a:latin typeface="Arial"/>
              </a:rPr>
              <a:t>Národné voľby  - investičné limity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5"/>
          <p:cNvSpPr/>
          <p:nvPr/>
        </p:nvSpPr>
        <p:spPr>
          <a:xfrm>
            <a:off x="0" y="3002040"/>
            <a:ext cx="9144000" cy="12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642960" y="857160"/>
          <a:ext cx="7772400" cy="4967280"/>
        </p:xfrm>
        <a:graphic>
          <a:graphicData uri="http://schemas.openxmlformats.org/drawingml/2006/table">
            <a:tbl>
              <a:tblPr/>
              <a:tblGrid>
                <a:gridCol w="4743360"/>
                <a:gridCol w="3029040"/>
              </a:tblGrid>
              <a:tr h="521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853920" indent="-8539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Čl. 51(3) - výnimka z limitov koncentrácie pre deriváty založené na indexoc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Á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Čl. 52(2) - zvýšenie limitu koncentrácie z 5% na 10%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Á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853920" indent="-8539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Čl. 52(3) a (4) - zvýšenie limitu koncentrácie z 5% na 35% pre štátom garantované CP resp. z 5% na 40% pre osobitne  garantované druhy dlhopisov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Án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853920" indent="-8539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Čl.52(5)   - kumulatívne investovanie do prev. CP a MMI v rámci skupiny do 2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Á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432080" indent="-1432080">
                        <a:spcBef>
                          <a:spcPts val="349"/>
                        </a:spcBef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ČL. 53, 54 a 55   - indexové fondy, fondy štátnych dlhopisov a fondy fondo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Á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804960" indent="-80496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Čl. 56     - výnimky z koncentrácie na emitentovi pre štátne a komunálne CP, SP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Á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804960" indent="-80496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Čl. 57(1) - 6 mesačná výnimka z investičných pravidiel pre novozaložené UCI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Á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804960" indent="-80496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Čl. 39(6) - 6 mesačná výnimka z investičnýc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04960" indent="-80496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avidiel po zlúčení  UCI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Á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804960" indent="-80496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Čl. 83(2) - možnosť prijatia úveru pre fond do výšky 10%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Á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" name="Skupina 11"/>
          <p:cNvGrpSpPr/>
          <p:nvPr/>
        </p:nvGrpSpPr>
        <p:grpSpPr>
          <a:xfrm>
            <a:off x="0" y="100080"/>
            <a:ext cx="9144000" cy="6757920"/>
            <a:chOff x="0" y="100080"/>
            <a:chExt cx="9144000" cy="6757920"/>
          </a:xfrm>
        </p:grpSpPr>
        <p:grpSp>
          <p:nvGrpSpPr>
            <p:cNvPr id="122" name="Group 11"/>
            <p:cNvGrpSpPr/>
            <p:nvPr/>
          </p:nvGrpSpPr>
          <p:grpSpPr>
            <a:xfrm>
              <a:off x="0" y="100080"/>
              <a:ext cx="9144000" cy="6757920"/>
              <a:chOff x="0" y="100080"/>
              <a:chExt cx="9144000" cy="6757920"/>
            </a:xfrm>
          </p:grpSpPr>
          <p:sp>
            <p:nvSpPr>
              <p:cNvPr id="123" name="Rectangle 9"/>
              <p:cNvSpPr/>
              <p:nvPr/>
            </p:nvSpPr>
            <p:spPr>
              <a:xfrm>
                <a:off x="1428840" y="1671840"/>
                <a:ext cx="6696000" cy="4392360"/>
              </a:xfrm>
              <a:prstGeom prst="rect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4" name="Group 10"/>
              <p:cNvGrpSpPr/>
              <p:nvPr/>
            </p:nvGrpSpPr>
            <p:grpSpPr>
              <a:xfrm>
                <a:off x="0" y="100080"/>
                <a:ext cx="9144000" cy="6757920"/>
                <a:chOff x="0" y="100080"/>
                <a:chExt cx="9144000" cy="6757920"/>
              </a:xfrm>
            </p:grpSpPr>
            <p:pic>
              <p:nvPicPr>
                <p:cNvPr id="125" name="Picture 2" descr="peniaze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243480" y="6093000"/>
                  <a:ext cx="2376720" cy="7650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" descr="logoMF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0" y="100080"/>
                  <a:ext cx="2962440" cy="868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7" name="Line 5"/>
                <p:cNvSpPr/>
                <p:nvPr/>
              </p:nvSpPr>
              <p:spPr>
                <a:xfrm>
                  <a:off x="0" y="5977080"/>
                  <a:ext cx="9144000" cy="0"/>
                </a:xfrm>
                <a:prstGeom prst="line">
                  <a:avLst/>
                </a:prstGeom>
                <a:ln w="324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128" name="Obrázok 1" descr="cid:image001.jpg@01CAAA67.8123F050"/>
            <p:cNvPicPr/>
            <p:nvPr/>
          </p:nvPicPr>
          <p:blipFill>
            <a:blip r:embed="rId3"/>
            <a:stretch/>
          </p:blipFill>
          <p:spPr>
            <a:xfrm>
              <a:off x="7215480" y="314280"/>
              <a:ext cx="1578600" cy="857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28760" y="85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000000"/>
                </a:solidFill>
                <a:latin typeface="Arial"/>
              </a:rPr>
              <a:t>Zmeny mimo UCITS I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BlokTextu 10"/>
          <p:cNvSpPr/>
          <p:nvPr/>
        </p:nvSpPr>
        <p:spPr>
          <a:xfrm>
            <a:off x="571680" y="1857240"/>
            <a:ext cx="8072280" cy="43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9160" indent="-11916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„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non- UCITS  friendly“  štruktúra, zníženie „non UCITS záťaže“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9160" indent="-11916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zrušenie minimálnej výšky majetku v podielovom fonde  (1, 5 mil. Eu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9160" indent="-11916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rozšírenie samostatnej evidencie PL aj na PL uzavretých fondo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9160" indent="-11916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tranže v rámci fondov aj podfondo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9160" indent="-11916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zjednodušenie výpočtu správcovských a depozitárskych  poplatkov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9160" indent="-11916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zrušenie regulácie vyplácania výnosov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9160" indent="-1191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detailnejšia úprava kontrolnej činnosti depozitára, koncept depozitárskej  úschovy, inšpirácia AIFM a MiFID, zrušenie regulácie účtov správ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9160" indent="-1191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9160" indent="-1191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úpravy predchádzajúcich súhlasov,  zrušenie súhlasov na zmenu stanov správcu a na obchodovanie s akcionármi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9160" indent="-1191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" name="Skupina 11"/>
          <p:cNvGrpSpPr/>
          <p:nvPr/>
        </p:nvGrpSpPr>
        <p:grpSpPr>
          <a:xfrm>
            <a:off x="0" y="100080"/>
            <a:ext cx="9144000" cy="6757920"/>
            <a:chOff x="0" y="100080"/>
            <a:chExt cx="9144000" cy="6757920"/>
          </a:xfrm>
        </p:grpSpPr>
        <p:grpSp>
          <p:nvGrpSpPr>
            <p:cNvPr id="132" name="Group 11"/>
            <p:cNvGrpSpPr/>
            <p:nvPr/>
          </p:nvGrpSpPr>
          <p:grpSpPr>
            <a:xfrm>
              <a:off x="0" y="100080"/>
              <a:ext cx="9144000" cy="6757920"/>
              <a:chOff x="0" y="100080"/>
              <a:chExt cx="9144000" cy="6757920"/>
            </a:xfrm>
          </p:grpSpPr>
          <p:sp>
            <p:nvSpPr>
              <p:cNvPr id="133" name="Rectangle 9"/>
              <p:cNvSpPr/>
              <p:nvPr/>
            </p:nvSpPr>
            <p:spPr>
              <a:xfrm>
                <a:off x="1428840" y="1671840"/>
                <a:ext cx="6696000" cy="4392360"/>
              </a:xfrm>
              <a:prstGeom prst="rect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4" name="Group 10"/>
              <p:cNvGrpSpPr/>
              <p:nvPr/>
            </p:nvGrpSpPr>
            <p:grpSpPr>
              <a:xfrm>
                <a:off x="0" y="100080"/>
                <a:ext cx="9144000" cy="6757920"/>
                <a:chOff x="0" y="100080"/>
                <a:chExt cx="9144000" cy="6757920"/>
              </a:xfrm>
            </p:grpSpPr>
            <p:pic>
              <p:nvPicPr>
                <p:cNvPr id="135" name="Picture 2" descr="peniaze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243480" y="6093000"/>
                  <a:ext cx="2376720" cy="7650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3" descr="logoMF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0" y="100080"/>
                  <a:ext cx="2962440" cy="868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7" name="Line 5"/>
                <p:cNvSpPr/>
                <p:nvPr/>
              </p:nvSpPr>
              <p:spPr>
                <a:xfrm>
                  <a:off x="0" y="5977080"/>
                  <a:ext cx="9144000" cy="0"/>
                </a:xfrm>
                <a:prstGeom prst="line">
                  <a:avLst/>
                </a:prstGeom>
                <a:ln w="324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138" name="Obrázok 1" descr="cid:image001.jpg@01CAAA67.8123F050"/>
            <p:cNvPicPr/>
            <p:nvPr/>
          </p:nvPicPr>
          <p:blipFill>
            <a:blip r:embed="rId3"/>
            <a:stretch/>
          </p:blipFill>
          <p:spPr>
            <a:xfrm>
              <a:off x="7215480" y="314280"/>
              <a:ext cx="1578600" cy="857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28760" y="85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000000"/>
                </a:solidFill>
                <a:latin typeface="Arial"/>
              </a:rPr>
              <a:t>Non UCITS sfér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BlokTextu 10"/>
          <p:cNvSpPr/>
          <p:nvPr/>
        </p:nvSpPr>
        <p:spPr>
          <a:xfrm>
            <a:off x="571680" y="1857240"/>
            <a:ext cx="80722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verejné špeciálne podielové fondy  (uzavreté aj otvorené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-  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cenných papierov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(národná alternatíva UCITS fondu, voľnejšie limity)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-  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alternatívnych investícii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(komodity, drahé kovy, obchodné podiel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-  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nehnuteľností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, zjednodušenie oceňovania nehnuteľností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špeciálne podielové fondy profesionálnych investorov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-  profesionálny investor podľa MiFID alebo investícia 50 000 E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-  obmedzená prevoditeľnosť  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-  bez priamej regulácie aktív a investičných limito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-  „dodatočné“  povoleni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" name="Skupina 11"/>
          <p:cNvGrpSpPr/>
          <p:nvPr/>
        </p:nvGrpSpPr>
        <p:grpSpPr>
          <a:xfrm>
            <a:off x="0" y="100080"/>
            <a:ext cx="9144000" cy="6757920"/>
            <a:chOff x="0" y="100080"/>
            <a:chExt cx="9144000" cy="6757920"/>
          </a:xfrm>
        </p:grpSpPr>
        <p:grpSp>
          <p:nvGrpSpPr>
            <p:cNvPr id="142" name="Group 11"/>
            <p:cNvGrpSpPr/>
            <p:nvPr/>
          </p:nvGrpSpPr>
          <p:grpSpPr>
            <a:xfrm>
              <a:off x="0" y="100080"/>
              <a:ext cx="9144000" cy="6757920"/>
              <a:chOff x="0" y="100080"/>
              <a:chExt cx="9144000" cy="6757920"/>
            </a:xfrm>
          </p:grpSpPr>
          <p:sp>
            <p:nvSpPr>
              <p:cNvPr id="143" name="Rectangle 9"/>
              <p:cNvSpPr/>
              <p:nvPr/>
            </p:nvSpPr>
            <p:spPr>
              <a:xfrm>
                <a:off x="1428840" y="1671840"/>
                <a:ext cx="6696000" cy="4392360"/>
              </a:xfrm>
              <a:prstGeom prst="rect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4" name="Group 10"/>
              <p:cNvGrpSpPr/>
              <p:nvPr/>
            </p:nvGrpSpPr>
            <p:grpSpPr>
              <a:xfrm>
                <a:off x="0" y="100080"/>
                <a:ext cx="9144000" cy="6757920"/>
                <a:chOff x="0" y="100080"/>
                <a:chExt cx="9144000" cy="6757920"/>
              </a:xfrm>
            </p:grpSpPr>
            <p:pic>
              <p:nvPicPr>
                <p:cNvPr id="145" name="Picture 2" descr="peniaze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243480" y="6093000"/>
                  <a:ext cx="2376720" cy="7650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6" name="Picture 3" descr="logoMF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0" y="100080"/>
                  <a:ext cx="2962440" cy="868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7" name="Line 5"/>
                <p:cNvSpPr/>
                <p:nvPr/>
              </p:nvSpPr>
              <p:spPr>
                <a:xfrm>
                  <a:off x="0" y="5977080"/>
                  <a:ext cx="9144000" cy="0"/>
                </a:xfrm>
                <a:prstGeom prst="line">
                  <a:avLst/>
                </a:prstGeom>
                <a:ln w="324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148" name="Obrázok 1" descr="cid:image001.jpg@01CAAA67.8123F050"/>
            <p:cNvPicPr/>
            <p:nvPr/>
          </p:nvPicPr>
          <p:blipFill>
            <a:blip r:embed="rId3"/>
            <a:stretch/>
          </p:blipFill>
          <p:spPr>
            <a:xfrm>
              <a:off x="7215480" y="314280"/>
              <a:ext cx="1578600" cy="857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9" name="BlokTextu 10"/>
          <p:cNvSpPr/>
          <p:nvPr/>
        </p:nvSpPr>
        <p:spPr>
          <a:xfrm>
            <a:off x="571680" y="2214720"/>
            <a:ext cx="8072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ESMA - nové aspekty dohľadu, Omnibus I, „lisabonizácia“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novelizácia UCITS - regulácia depozitárov v AIFM štý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2013 transpozícia AIFM  - dopad na non UCITS sfé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ICS – rozšírenie garancií aj na podielové fondy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? ? revízia MiFID, PRIPS, PIIGS, dane 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785880"/>
            <a:ext cx="8229600" cy="13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000000"/>
                </a:solidFill>
                <a:latin typeface="Arial"/>
              </a:rPr>
              <a:t>Next step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" name="Skupina 11"/>
          <p:cNvGrpSpPr/>
          <p:nvPr/>
        </p:nvGrpSpPr>
        <p:grpSpPr>
          <a:xfrm>
            <a:off x="0" y="100080"/>
            <a:ext cx="9144000" cy="6757920"/>
            <a:chOff x="0" y="100080"/>
            <a:chExt cx="9144000" cy="6757920"/>
          </a:xfrm>
        </p:grpSpPr>
        <p:grpSp>
          <p:nvGrpSpPr>
            <p:cNvPr id="152" name="Group 11"/>
            <p:cNvGrpSpPr/>
            <p:nvPr/>
          </p:nvGrpSpPr>
          <p:grpSpPr>
            <a:xfrm>
              <a:off x="0" y="100080"/>
              <a:ext cx="9144000" cy="6757920"/>
              <a:chOff x="0" y="100080"/>
              <a:chExt cx="9144000" cy="6757920"/>
            </a:xfrm>
          </p:grpSpPr>
          <p:sp>
            <p:nvSpPr>
              <p:cNvPr id="153" name="Rectangle 9"/>
              <p:cNvSpPr/>
              <p:nvPr/>
            </p:nvSpPr>
            <p:spPr>
              <a:xfrm>
                <a:off x="1428840" y="1671840"/>
                <a:ext cx="6696000" cy="1257120"/>
              </a:xfrm>
              <a:prstGeom prst="rect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4" name="Group 10"/>
              <p:cNvGrpSpPr/>
              <p:nvPr/>
            </p:nvGrpSpPr>
            <p:grpSpPr>
              <a:xfrm>
                <a:off x="0" y="100080"/>
                <a:ext cx="9144000" cy="6757920"/>
                <a:chOff x="0" y="100080"/>
                <a:chExt cx="9144000" cy="6757920"/>
              </a:xfrm>
            </p:grpSpPr>
            <p:pic>
              <p:nvPicPr>
                <p:cNvPr id="155" name="Picture 2" descr="peniaze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243480" y="6093000"/>
                  <a:ext cx="2376720" cy="7650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6" name="Picture 3" descr="logoMF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0" y="100080"/>
                  <a:ext cx="2962440" cy="868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7" name="Line 5"/>
                <p:cNvSpPr/>
                <p:nvPr/>
              </p:nvSpPr>
              <p:spPr>
                <a:xfrm>
                  <a:off x="0" y="5977080"/>
                  <a:ext cx="9144000" cy="0"/>
                </a:xfrm>
                <a:prstGeom prst="line">
                  <a:avLst/>
                </a:prstGeom>
                <a:ln w="324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158" name="Obrázok 1" descr="cid:image001.jpg@01CAAA67.8123F050"/>
            <p:cNvPicPr/>
            <p:nvPr/>
          </p:nvPicPr>
          <p:blipFill>
            <a:blip r:embed="rId3"/>
            <a:stretch/>
          </p:blipFill>
          <p:spPr>
            <a:xfrm>
              <a:off x="7215480" y="314280"/>
              <a:ext cx="1578600" cy="857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9" name="Text Box 7"/>
          <p:cNvSpPr/>
          <p:nvPr/>
        </p:nvSpPr>
        <p:spPr>
          <a:xfrm>
            <a:off x="1068480" y="2093760"/>
            <a:ext cx="712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Ďakujem za pozornos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5"/>
          <p:cNvSpPr/>
          <p:nvPr/>
        </p:nvSpPr>
        <p:spPr>
          <a:xfrm>
            <a:off x="858960" y="3857760"/>
            <a:ext cx="525600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Arial"/>
              </a:rPr>
              <a:t>Ján Foltá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1200" spc="-1" strike="noStrike">
                <a:solidFill>
                  <a:srgbClr val="000000"/>
                </a:solidFill>
                <a:latin typeface="Arial"/>
              </a:rPr>
              <a:t>odbor kapitálového trhu a poisťovníct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Arial"/>
              </a:rPr>
              <a:t>Ministerstvo financií SR</a:t>
            </a:r>
            <a:r>
              <a:rPr b="0" lang="sk-SK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Arial"/>
              </a:rPr>
              <a:t>Štefanovičova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Arial"/>
              </a:rPr>
              <a:t>817 82 Bratisla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Arial"/>
              </a:rPr>
              <a:t>Tel.:      +421 2 59582524         Fax: +421 2 59583543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Arial"/>
              </a:rPr>
              <a:t>E-mail:  jan.folta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@</a:t>
            </a:r>
            <a:r>
              <a:rPr b="0" lang="sk-SK" sz="1200" spc="-1" strike="noStrike">
                <a:solidFill>
                  <a:srgbClr val="000000"/>
                </a:solidFill>
                <a:latin typeface="Arial"/>
              </a:rPr>
              <a:t>mfsr.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6T09:39:31Z</dcterms:created>
  <dc:creator>Stanislava Ligová</dc:creator>
  <dc:description/>
  <dc:language>en-US</dc:language>
  <cp:lastModifiedBy>jfoltan</cp:lastModifiedBy>
  <dcterms:modified xsi:type="dcterms:W3CDTF">2011-05-17T10:22:54Z</dcterms:modified>
  <cp:revision>154</cp:revision>
  <dc:subject/>
  <dc:title>Snímka 1</dc:title>
</cp:coreProperties>
</file>