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956B-B740-4130-8E35-BE1F73C9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62CB-3BDB-434F-BC82-6F8F46C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36E1-F876-4858-92F9-204872BB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072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7404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3400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5072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7404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2BF9-F99B-44EF-B7A3-634E7057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930A-1C89-425F-B8A7-5F48C8C0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6DC-37EF-43D6-97F4-D45167DE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A5DF-1403-460A-B2DB-FB7983B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8CCC-B50E-4742-B8B6-961CD99E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B237-ABD8-4D39-955D-C30C1762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3282-035A-441E-9290-4086361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04F-2D43-46B8-8469-6A330F4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EB6F-BB1F-4B83-8C0A-EB076C1A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C28-B3DE-48CD-8049-61FF5A4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0A34-3311-4C25-AD0A-BF30B12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F6C-C16A-4514-95D4-8AEEE49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6AC4-BE4D-489F-B8E1-8248C4CD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072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7404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3400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072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67404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897-E1F2-4C8E-B296-6AA7242D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22A1-DA2A-452A-8B67-E4CF1B4F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6151-C97A-443E-8611-C67A89D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FFD7-ED55-4684-B7E8-F76C96F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00DC-C17C-4D72-B7AD-F83BA338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B95E-C283-40A3-9438-5343433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6C25-A3B3-4492-A1AB-B2263F6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F372-DE32-4662-A1B2-A73F1F5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065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338880"/>
            <a:ext cx="9140760" cy="546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617400"/>
            <a:ext cx="77929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2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B86-F335-4886-A4D3-86947DF6847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37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580600" y="0"/>
            <a:ext cx="528480" cy="527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" name="Rectangle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4"/>
          <a:srcRect l="0" t="4671" r="0" b="9766"/>
          <a:stretch/>
        </p:blipFill>
        <p:spPr>
          <a:xfrm>
            <a:off x="3240" y="6265800"/>
            <a:ext cx="9140760" cy="64764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4114800" y="6400800"/>
            <a:ext cx="863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1873-54C8-4757-B8BA-1BF7B70336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8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76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778040"/>
          </a:xfrm>
          <a:prstGeom prst="rect">
            <a:avLst/>
          </a:prstGeom>
          <a:solidFill>
            <a:srgbClr val="055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5551" r="0" b="0"/>
          <a:stretch/>
        </p:blipFill>
        <p:spPr>
          <a:xfrm>
            <a:off x="415800" y="152280"/>
            <a:ext cx="5146920" cy="648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10696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0" y="5084280"/>
            <a:ext cx="507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883-5084-4E0A-956A-671F885F35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845320" y="52560"/>
            <a:ext cx="3263760" cy="1647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240" y="0"/>
            <a:ext cx="9140760" cy="40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4040280"/>
            <a:ext cx="9144000" cy="2970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2"/>
                </a:solidFill>
                <a:latin typeface="Times New Roman"/>
              </a:rPr>
              <a:t>Click to edit the outline text format</a:t>
            </a: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2" marL="914400" algn="ctr">
              <a:spcBef>
                <a:spcPts val="374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82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2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114800"/>
            <a:ext cx="830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82"/>
                </a:solidFill>
                <a:latin typeface="Garamond"/>
              </a:rPr>
              <a:t>Ako sa vysporiadať s novinkami rekodifikovaného slovenského zákona o kolektívnom investovaní?</a:t>
            </a:r>
            <a:endParaRPr b="0" lang="en-US" sz="22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410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Ing. Tomáš Ambra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Národná banka Slovenska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Konferencia Next Steps in Asset Management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Praha, 19. mája 2011 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Úlohy NBS po účinnosti zákona 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vé inštitúty v non-UCITS oblasti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Prispôsobenie výkonu dohľad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realitných fondov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fondov alternatívnych investícií 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fondov profesionálnych investorov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Úprava výkazníctva – zaviesť efektívny off-site dohľad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438280" y="5333760"/>
            <a:ext cx="64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Ing. Tomáš Ambra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Odbor regulácie a finančných analýz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Národná banka Slovenska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2"/>
                </a:solidFill>
                <a:latin typeface="Times New Roman"/>
              </a:rPr>
              <a:t>Ďakujem za pozornosť</a:t>
            </a:r>
            <a:endParaRPr b="0" lang="en-US" sz="26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32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Návrh </a:t>
            </a: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KI – súčasný stav legislatívneho procesu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V súčasnosti o návrhu zákona rokuje NR S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Návrh bol 11. mája 2011 prerokovaný v príslušných výboroch NR SR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Pozmeňovacie návrhy k splnomocňovacím a prechodným ustanoveniam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Účinnosť zákona sa predpokladá od 1. júla 2011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32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Vykonávacie predpisy k ZKI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53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Proces tvorby sekundárnej legislatívy NBS sa začal už po predložení návrhu zákona do NR S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Je zámerom NBS, aby hlavné vykonávacie predpisy boli účinné od 1. júla 2011 alebo v blízkom termíne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Vydanie niektorých ďalších bude nasledovať počas 2. polroka 2011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Zmeny vo výkazníctve sa predpokladajú od začiatku roku 2012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Všeobecná lehota na plné zosúladenie s novou právnou úpravou je do 30. júna 2012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Povinnosti ekvivalentné súčasne platnej právnej úprave je nutné dodržiavať okamžite po účinnosti zákona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Fondy peňažného trhu – výnimka zo všeobecnej lehoty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Termín na zosúladenie pre existujúce fondy – 31. decembra 2011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Novovytvorené fondy budú podliehať novým pravidlám okamžite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Organizácia, vnútorné riadiace a výkonné proces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Organizačná štruktúra a pravidlá činnosti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Risk management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osobitné opatrenie NBS a metodická podpora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Outsourcing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Depozitá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Úprava zmluvného vzťah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Depozitárska úschova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Kontrolné činnosti depozitára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V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7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Správa existujúcich fond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Zosúladenie štatútov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osobitné opatrenie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Prechod na KID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špeciálny metodický materiál – usmernenie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Fondy peňažného trhu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aplikácia guidelines CESR prostredníctvom opatrenia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Nové inštitúty a produkty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56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Podfondy a „tranže“ podielových list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Výpočet hodnoty podielu v rámci „tranže“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Účtovníctvo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n-UCITS fond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Oceňovanie nehnuteľností, realitných spoločností a majetkových podielov v obchodných spoločnostiach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Špeciálne podielové fondy profesionálnych investorov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tifikácie cezhraničného predaja fond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Zavedenie elektronickej notifikačnej procedúry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Úlohy NBS po účinnosti zákona 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Nové cezhraničné inštitút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Management Company Passport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Cezhraničné zlúčenia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„</a:t>
            </a: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Master-feeder“ štruktúry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Úprava licenčných procesov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Efektívna cezhraničná spolupráca pri výkone dohľad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6T15:45:34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