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3E8-8591-43F8-B551-7512F2E8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77C2-4365-423F-AF62-F2BD8E3D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72B-00FD-472C-9D16-5CA4701E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9964-325A-419A-A437-EE2A0C5D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4AB3-0D6F-4332-BE25-5CED0932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C727-F0F4-43F9-9ED2-D9F6A1C2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6C85-C7CF-48EC-A216-51A7C959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C72D-3179-4D0A-BFE4-3897D5EA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1435-67A7-4002-91D1-05EB1523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D4BC-2732-4E6C-99C0-65B308E8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F359-731A-4C80-A389-C3FE0565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E915-DC0F-43C5-B6FC-098150A1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B0F9-888F-4409-9529-BA8E593F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ABAB-FB5C-483E-918C-46BBEE30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F5F0-1FF3-4E79-94D2-5EE5E044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009B-95D9-467C-853D-199B1FBD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F994-4322-4BAB-8FE6-44675792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CE4-E1C5-451C-A56E-779CFA97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A41-9D58-489C-B4FC-D0D3DA7B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B27D-1CEA-4466-8FE0-45AF005E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726-5D98-41D2-8A68-4B79BCF5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1DA-7257-459A-9A0A-2FB208F1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CF01-EC17-4E08-94B8-85360A58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44A-1367-4C88-9936-6ADD9671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28FF-CE62-49B4-B862-921E0773DB1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94a45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662F-5247-439F-AC38-4A5D0CD3AECF}" type="slidenum">
              <a:rPr b="1" lang="en-US" sz="1200" spc="-1" strike="noStrike">
                <a:solidFill>
                  <a:srgbClr val="494a4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4a45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egfap.nbs.sk/skusky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bs.sk/sk/dohlad-nad-financnym-trhom/dohlad-nad-financnym-sprostredkovanim-a-financnym-poradenstv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4005360"/>
            <a:ext cx="878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sk-SK" sz="2400" spc="-1" strike="noStrike">
                <a:solidFill>
                  <a:srgbClr val="003881"/>
                </a:solidFill>
                <a:latin typeface="Tahoma"/>
              </a:rPr>
              <a:t>Nadobúdanie a preverovanie odbornej spôsobilosti </a:t>
            </a:r>
            <a:br>
              <a:rPr sz="2400"/>
            </a:br>
            <a:r>
              <a:rPr b="1" lang="sk-SK" sz="2400" spc="-1" strike="noStrike">
                <a:solidFill>
                  <a:srgbClr val="003881"/>
                </a:solidFill>
                <a:latin typeface="Tahoma"/>
              </a:rPr>
              <a:t>finančných sprostredkovateľov a finančných poradcov</a:t>
            </a:r>
            <a:r>
              <a:rPr b="0" lang="sk-SK" sz="3200" spc="-1" strike="noStrike">
                <a:solidFill>
                  <a:srgbClr val="003881"/>
                </a:solidFill>
                <a:latin typeface="Tahoma"/>
              </a:rPr>
              <a:t> </a:t>
            </a:r>
            <a:br>
              <a:rPr sz="2200"/>
            </a:br>
            <a:endParaRPr b="0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560" y="479700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7f9bc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5805360"/>
            <a:ext cx="907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4d4d4d"/>
                </a:solidFill>
                <a:latin typeface="Tahoma"/>
              </a:rPr>
              <a:t>19. 05. 2011, Praha</a:t>
            </a:r>
            <a:r>
              <a:rPr b="1" lang="sk-SK" sz="1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600" spc="-1" strike="noStrike">
                <a:solidFill>
                  <a:srgbClr val="4d4d4d"/>
                </a:solidFill>
                <a:latin typeface="Tahoma"/>
              </a:rPr>
              <a:t>Slavomír Šťastn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4d4d4d"/>
                </a:solidFill>
                <a:latin typeface="Tahoma"/>
              </a:rPr>
              <a:t>Konferencia AKAT ČR+SASS</a:t>
            </a:r>
            <a:r>
              <a:rPr b="1" lang="sk-SK" sz="1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600" spc="-1" strike="noStrike">
                <a:solidFill>
                  <a:srgbClr val="4d4d4d"/>
                </a:solidFill>
                <a:latin typeface="Tahoma"/>
              </a:rPr>
              <a:t>Národná banka Slovens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dborná spôsobilo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dborné vedomosti fyzických osôb, ktoré sú predpokladom pre výkon finančného sprostredkovania alebo finančného poradenstva riadne a na dostatočnej odbornej úrov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tupne: základný, stredný, vyšší a najvyšš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sobitné finančné vzdeláva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dborné skúš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DE6-8614-487B-851F-4EEFE7B098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sobitné finančné vzdelávanie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školenia, kurzy a iné formy vzdelávania, ktorých účelom je zabezpečiť dostatočnú informovanosť o finančných službách, zlepšiť kvalitu teoretických znalostí a praktických schopnost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yžaduje sa pre každý sek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ykonáva ho finančná inštitúcia lebo vzdelávacia ustanovize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a základe vyhlášky MF S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65ED-4E80-47EB-96A5-7812453BF5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dborná skúška a stupne odbornej spôsobilosti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ľa zákona odbornú skúšku musia zložiť osoby, na ktoré sa vzťahuj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stredný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(odborná skúšk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vyšší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(odborná skúšk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najvyšší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(odborná skúška s certifikáto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tupeň odbornej spôsobil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901E-4ADF-4AE3-9CAC-B6A702020E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Kto má povinnosť vykonať skúšku?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riadení finanční ag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amostatní finanční ag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+ ich zamestnan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finanční poradcov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+ ich zamestnan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k ide o právnickú osobu, skúšku vykonáva štatutár, resp. vedúci zamestnan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skúšku je potrebné opakovať každé štyri ro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8B1-94AE-4F24-9F97-7C2E63C95E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echodné ustanovenia zákona a odborné skúš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lehoty na splnenie požiadaviek odbornej spôsobilosti pre osoby, ktoré už činnosť vykonával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riadení finanční agenti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o 30.9.2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amostatní finanční agenti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o 31.12.2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ich zamestnanci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o 30.9.2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finanční poradcovia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o 31.3.20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ich zamestnanci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o 31.12.2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19B-B94D-48DF-A28D-84702311E5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Forma skúš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Odborná skúška - pre stredný a vyšší stupeň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len písomne (resp. elektronick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všetky otázky testovou formou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30 otázok, požadovaná úspešnosť 80% (24 otázok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stanovený čas je 40 minú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Odborná skúška s certifikátom – pre najvyšší stupeň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písomná časť – zhodná so skúškou na vyšší stupeň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ústna časť – po úspešnom absolvovaní písomnej časti skúšk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0CA-3702-4C16-8A48-7BF10F1D63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tázky na skúšku –</a:t>
            </a:r>
            <a:br>
              <a:rPr sz="3600"/>
            </a:b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ísomná ča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otázky nadväzujú na okruhy osobitného finančného vzdelávania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rozdelené sú podľa sektora aj stupňa náročnosti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pre každý sektor je vytvorených viac ako 200 otázok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každý test je tvorený 5 otázkami zo všeobecných znalostí finančného trhu a 25 otázkami zo sektora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všetky otázky spolu s odpoveďami, vrátane vyznačenej správnej odpovede, sú </a:t>
            </a:r>
            <a:r>
              <a:rPr b="1" lang="sk-SK" sz="2500" spc="-1" strike="noStrike">
                <a:solidFill>
                  <a:srgbClr val="000000"/>
                </a:solidFill>
                <a:latin typeface="Tahoma"/>
              </a:rPr>
              <a:t>zverejnené </a:t>
            </a: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na webe NB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DECE-7449-4B3D-9E51-24D30236C5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tázky na skúšku – </a:t>
            </a:r>
            <a:br>
              <a:rPr sz="3600"/>
            </a:b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ústna ča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tázky sa nezverejňuj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tázky vychádzajú z okruhov definovaných v prílohe opatrenia NBS č. 9/2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áujem je preveriť vedomosti uchádzačov aj prostredníctvom riešenia prípadových štúdi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úšobná komisia bude mať k dispozícii tzv. „vzorové odpovede“ na jednotlivé otáz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F8EC-ACF0-44DA-89F5-2AE4AB801E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rganizácia skúšok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BS poverila organizovaním skúšok pre stredný a vyšší stupeň externých organizátor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e stredný stupeň: SBA, SLASPO, AOCP, AFISP, IB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e vyšší stupeň: IB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e najvyšší stupeň zabezpečí skúšky NBS vo vlastnej réž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aždý organizátor má poverenie vykonávať skúšky zo všetkých sektorov finančného tr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706-5493-42FC-B204-E696F198EC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ihlasovanie na skúš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uchádzač o vykonanie skúšky si môže zvoliť, u ktorého organizátora skúšku vykoná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uchádzač sa prihlási u ním zvoleného organizátora skúšky, a to určeným spôsobom a v stanovenom termí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ermíny skúšok, organizátor a sektor sú vyhlasované na stránke N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AB6-DCBB-4984-BE4D-2D4BBC7CFD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Zákonná úprava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Zákon č. 186/2009 o finančn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sprostredkovaní a finančnom poradenst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v znení zák. č. 129/2010 Z.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4 opatrenia N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1 vyhláška MF S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9B1-37DB-435D-BBC0-092C7B5BA5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oplatky za skúš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patrenie NBS č. 9/2010 určuje poplatky za skúšku tak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tredný stupeň a vyšší stupeň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30 eur za sek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ajvyšší stupe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ísomná časť: 30 eur za sek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ústna časť: 60 eur za sek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A4D9-D080-4455-985A-428819874D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Skúšky a NBS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informácie o skúškac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7f9bc0"/>
                </a:solidFill>
                <a:uFillTx/>
                <a:latin typeface="Tahoma"/>
                <a:hlinkClick r:id="rId1"/>
              </a:rPr>
              <a:t>http://regfap.nbs.sk/skus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rganizáto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ermíny všetkých skúš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úšané sek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tázky na skúšku pre každý termín – zohľadnenie zmien legislatív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vičné tes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91D-2274-4FED-B0E7-B3B6ABFB36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Cvičné testy na webe NBS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ostavené z otázok aktuálnych pre vybraný termín skúš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ožnosť zvoliť sektor aj stupeň náročnost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ledovanie uplynulého čas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utomatické vyhodnotenie tes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BFF-3607-4AF1-8C50-F7DD41F8C0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Regulácia odborných skúšok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§ 21 a 22 zákona o finančnom sprostredkovaní a poradenst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patrenie NBS č. 9/2010 o odbornej skúške a odbornej skúške s certifikátom na účely zákona o finančnom sprostredkovaní a finančnom poradenst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úšobný poriad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A9AD-1922-4347-B207-DA65BFEC01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Údaje o odborných skúškach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(podľa organizátorov skúš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čet vyhlásených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čet úspeš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termínov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eskúšaných osô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280" y="4021200"/>
            <a:ext cx="3962520" cy="2503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05520" y="4176720"/>
            <a:ext cx="3200400" cy="23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BF4-E983-4611-8E49-0F37E5075E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828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Úspešne vykonané skúšky za jednotlivé sektor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2554200"/>
            <a:ext cx="8856720" cy="382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2C1-2485-4C7F-8B82-BB3373E5F2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828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eskúšané osoby vs. nepreskúšané osob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2920" y="2203560"/>
            <a:ext cx="7993080" cy="42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508-D50A-4F57-BB4D-84A4E39191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    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79912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Ďakujem za pozornosť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5897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8b8c8e"/>
                </a:solidFill>
                <a:latin typeface="Tahoma"/>
              </a:rPr>
              <a:t>slavomir.stastny@nbs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7C61-6522-4337-80D1-7D43E74E53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Finančné sprostredkovanie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Finančné sprostredkova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činnosť smerujúca k uzavretiu zmluvy o finančnej službe, správa zmluvy, vybavovanie nárokov, odborná pomo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ykonávajú finanční ag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24C8-59E5-4E0B-93FB-9110E5967F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Finančné poradenstvo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Finančné poradenst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skytovanie odbornej pomoci, odporúčaní a osobných finančných plánov klientovi v súvislosti s jednou alebo viacerými finančnými službami vychádzajúce z nestrannej analýzy dostatočného počtu dostupných finančných služieb vrátane následného uzavierania alebo zmeny zmluvy o poskytnutí finančnej služby na žiadosť klienta, v jeho mene a na jeho úč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ykonávajú finanční poradcov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3D35-E4D2-498C-B8D8-759DDCF2A0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Finanční agenti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soby so sídlom alebo miestom podnikania na území Slovenskej republiky, vykonávajúce finančné sprostredkovanie na základe písomnej zmluvy s finančnou inštitúciou alebo na základe písomnej zmluvy so samostatným finančným agent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ategórie: samostatný, podriadený, viaza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AE0-39C2-41CB-89EC-51DC0A4258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Finanční poradcovia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soby so sídlom alebo miestom podnikania na území Slovenskej republiky, vykonávajúce finančné poradenstvo na základe písomnej zmluvy o poskytnutí finančného poradenstva uzavretej s klientom. Finančný poradca nemôže vykonávať finančné sprostredkovani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B7FB-312F-488F-8629-AD62E91D41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právnenie na výkon činnosti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finančné sprostredkovanie alebo finančné poradenstvo je možné vykonávať len na základe oprávnenia podľa zákona; možno ho získať bu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ydaním povolenia NBS aleb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ápisom do registra finančných agentov a finančných poradcov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EAE-68FF-4904-A26D-2E31A3F635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Sektor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istenie a zaiste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apitálový tr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oplnkové dôchodkové spore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jímanie vklad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skytovanie úverov a spotrebiteľských úver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1D0-9171-42EF-8B28-69120CE609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Zákonné požiadav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dborná spôsobilos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ôveryhodnos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rganizačné požiadav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vnútorné predpis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vedúci zamestnanec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onduct of business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 u="sng">
                <a:solidFill>
                  <a:srgbClr val="7f9bc0"/>
                </a:solidFill>
                <a:uFillTx/>
                <a:latin typeface="Tahoma"/>
                <a:hlinkClick r:id="rId1"/>
              </a:rPr>
              <a:t>http://www.nbs.sk/sk/dohlad-nad-financnym-trhom/dohlad-nad-financnym-sprostredkovanim-a-financnym-poradenstv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3B3-CC3C-4E78-A707-F767EB1B9D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1:54:05Z</dcterms:created>
  <dc:creator>Dana Gergelyová</dc:creator>
  <dc:description/>
  <dc:language>en-US</dc:language>
  <cp:lastModifiedBy>user</cp:lastModifiedBy>
  <dcterms:modified xsi:type="dcterms:W3CDTF">2011-05-17T08:46:34Z</dcterms:modified>
  <cp:revision>12</cp:revision>
  <dc:subject/>
  <dc:title>Slide 1</dc:title>
</cp:coreProperties>
</file>