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684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7"/>
          </p:nvPr>
        </p:nvSpPr>
        <p:spPr>
          <a:xfrm>
            <a:off x="3774600" y="-360"/>
            <a:ext cx="2868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901800" y="766440"/>
            <a:ext cx="491328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906480" y="4681080"/>
            <a:ext cx="4906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8"/>
          </p:nvPr>
        </p:nvSpPr>
        <p:spPr>
          <a:xfrm>
            <a:off x="0" y="9438840"/>
            <a:ext cx="28684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9"/>
          </p:nvPr>
        </p:nvSpPr>
        <p:spPr>
          <a:xfrm>
            <a:off x="3774600" y="9438840"/>
            <a:ext cx="2868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0A79-4DE9-4206-9A72-C65498529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774960" y="9439200"/>
            <a:ext cx="2868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A767-1177-4E82-BA10-F3E0A91F5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0CE61-266E-4003-B1C0-D5EB89AC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AEE77-7962-4AD8-BAC8-68C5B557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B61FE-0373-4950-8348-629C4CC5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2D795-77FB-4AB1-8B39-B27C2B0E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EEF39-0B55-4100-87B0-3FE984F6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675F5-3876-42EB-883C-ACE7B2A3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2366D-D441-4966-BB9A-B1092CF8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F42A1-2190-44E4-863F-696E1649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F30D5-5949-4900-AC9C-CD4CACBE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1B63A-CE3E-41FB-8765-92A75DA2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AC1EA-348B-4C1C-860B-CE9EE209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AB7DD-F568-498A-9D62-F2459F6F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26D3-39EB-461D-817D-6FEC98BC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E162-7799-4F50-A836-B3F86309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4130-407E-4FB4-A754-1604CCFC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1016-72BA-4825-BB89-C9B5BD4D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9150-285C-4E33-8FAC-FF9BD99F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811E-B36F-457F-B51D-ECC08AAC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C11F-6CC3-4F3A-A44B-4277A21E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CE5C-1B73-42DB-9F0E-8D0886F6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ECC1-CFCF-41AA-8FD0-19511A65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2C3D-1CD2-4B80-B461-8AC569BE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D87A-7C93-4F4E-A010-1DD6BFBA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5E27-34A6-47CD-A0B9-55DBFC7B7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8dba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09640"/>
          </a:xfrm>
          <a:prstGeom prst="rect">
            <a:avLst/>
          </a:prstGeom>
          <a:ln w="0">
            <a:noFill/>
          </a:ln>
        </p:spPr>
      </p:pic>
      <p:sp>
        <p:nvSpPr>
          <p:cNvPr id="1" name="Line 3"/>
          <p:cNvSpPr/>
          <p:nvPr/>
        </p:nvSpPr>
        <p:spPr>
          <a:xfrm>
            <a:off x="0" y="817560"/>
            <a:ext cx="9144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28480" y="23922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1c1c34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974E-007E-41E2-8B90-76D0AC0EE5F2}" type="slidenum">
              <a:rPr b="0" lang="cs-CZ" sz="1200" spc="-1" strike="noStrike">
                <a:solidFill>
                  <a:srgbClr val="1c1c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1c1c34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1c1c34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1c1c34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06FD-DD8F-4E9F-9F19-B2F5CB59EEBA}" type="slidenum">
              <a:rPr b="0" lang="cs-CZ" sz="1200" spc="-1" strike="noStrike">
                <a:solidFill>
                  <a:srgbClr val="1c1c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0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187280" y="141300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66"/>
                </a:solidFill>
                <a:latin typeface="Candara"/>
              </a:rPr>
              <a:t>Nástin (možných) trendů české právní úpravy kolektivního investování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755640" y="393372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66"/>
                </a:solidFill>
                <a:latin typeface="Tahoma"/>
              </a:rPr>
              <a:t>Jan Š o v a 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66"/>
                </a:solidFill>
                <a:latin typeface="Tahoma"/>
              </a:rPr>
              <a:t>Kapitálový trh, Ministerstvo financí České republiky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66"/>
                </a:solidFill>
                <a:latin typeface="Tahoma"/>
              </a:rPr>
              <a:t>Praha, 19. 5. 2011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000066"/>
                </a:solidFill>
                <a:latin typeface="Arial"/>
              </a:rPr>
              <a:t>Výhrada prezentace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1c1c34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1c1c34"/>
                </a:solidFill>
                <a:latin typeface="Arial"/>
              </a:rPr>
              <a:t>Obsah zobrazený v této prezentaci, jakož i ústní projev ji dop</a:t>
            </a:r>
            <a:r>
              <a:rPr b="0" i="1" lang="cs-CZ" sz="2800" spc="-1" strike="noStrike">
                <a:solidFill>
                  <a:srgbClr val="1c1c34"/>
                </a:solidFill>
                <a:latin typeface="Arial"/>
              </a:rPr>
              <a:t>rovázející</a:t>
            </a:r>
            <a:r>
              <a:rPr b="0" i="1" lang="cs-CZ" sz="2800" spc="-1" strike="noStrike">
                <a:solidFill>
                  <a:srgbClr val="1c1c34"/>
                </a:solidFill>
                <a:latin typeface="Arial"/>
              </a:rPr>
              <a:t>, odráží výlučně individuální názory, hodnocení a přístup autora k dané problematice, jež se nemusí shodovat </a:t>
            </a:r>
            <a:r>
              <a:rPr b="0" i="1" lang="cs-CZ" sz="2800" spc="-1" strike="noStrike">
                <a:solidFill>
                  <a:srgbClr val="1c1c34"/>
                </a:solidFill>
                <a:latin typeface="Arial"/>
              </a:rPr>
              <a:t>stávajícími či potenciálními </a:t>
            </a:r>
            <a:r>
              <a:rPr b="0" i="1" lang="cs-CZ" sz="2800" spc="-1" strike="noStrike">
                <a:solidFill>
                  <a:srgbClr val="1c1c34"/>
                </a:solidFill>
                <a:latin typeface="Arial"/>
              </a:rPr>
              <a:t>názory, hodnoceními nebo přístupem Ministerstva financí ani nepředstavují jeho oficiální pozici.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000066"/>
                </a:solidFill>
                <a:latin typeface="Arial"/>
              </a:rPr>
              <a:t>Vybrané otázky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c1c34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c1c34"/>
                </a:solidFill>
                <a:latin typeface="Arial"/>
              </a:rPr>
              <a:t>Přijetí podílových listů k obchodování na regulovaný trh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c1c34"/>
                </a:solidFill>
                <a:latin typeface="Arial"/>
              </a:rPr>
              <a:t> „</a:t>
            </a:r>
            <a:r>
              <a:rPr b="0" lang="cs-CZ" sz="2800" spc="-1" strike="noStrike">
                <a:solidFill>
                  <a:srgbClr val="1c1c34"/>
                </a:solidFill>
                <a:latin typeface="Arial"/>
              </a:rPr>
              <a:t>Otevřený“ investiční fond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c1c34"/>
                </a:solidFill>
                <a:latin typeface="Arial"/>
              </a:rPr>
              <a:t> „</a:t>
            </a:r>
            <a:r>
              <a:rPr b="0" lang="cs-CZ" sz="2800" spc="-1" strike="noStrike">
                <a:solidFill>
                  <a:srgbClr val="1c1c34"/>
                </a:solidFill>
                <a:latin typeface="Arial"/>
              </a:rPr>
              <a:t>Podfondy“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55640" y="2636640"/>
            <a:ext cx="79200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66"/>
                </a:solidFill>
                <a:latin typeface="Arial"/>
              </a:rPr>
              <a:t>DĚKUJI ZA POZORNOST !</a:t>
            </a:r>
            <a:endParaRPr b="0" lang="en-US" sz="40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2T15:22:43Z</dcterms:created>
  <dc:creator/>
  <dc:description/>
  <dc:language>en-US</dc:language>
  <cp:lastModifiedBy>12885</cp:lastModifiedBy>
  <dcterms:modified xsi:type="dcterms:W3CDTF">2011-05-18T08:20:16Z</dcterms:modified>
  <cp:revision>185</cp:revision>
  <dc:subject/>
  <dc:title>PowerPoint Presentation</dc:title>
</cp:coreProperties>
</file>