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774600" y="-36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901800" y="76644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0" y="943884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774600" y="943884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D3CE-BDA4-4FC1-AEF1-57B2021D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902F-60A2-435A-8ADC-2002B809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CDBB-F466-40F7-8EEE-432722A1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91F8-74F3-4E0A-A74B-79C05F8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5851-0BF1-4755-A461-D388C79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5B6A-08DB-4F5C-904E-7A144A2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2C39-FE89-41FC-BAB6-B5E8DB9E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B4D4-0D0A-44BE-A7D4-5EBD9E8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B91A-CE65-4A7B-B44F-CB0D77C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C0CC-4EAB-41DF-B21F-4BB763B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D289-D0DA-47A2-B9FD-A428DDE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BAF8-96C2-4193-BB13-B975590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6269-A662-4851-AF13-B5E23185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34EB-6421-488E-9EEA-9809099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973-52F9-46E4-A5FE-61D67C23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A2A-CA19-4225-8CDD-2082748B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6F4-90B7-41C5-85D9-C9458426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2CEF-BA6D-4116-875E-2BDDC25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8079-EE41-4214-BA53-BF0F487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AFCA-894A-4491-A1B7-25932A0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4B5-532C-4C04-AAA6-4F0951C6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870B-87CC-4D2E-9D18-110A4F0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0DBE-B257-42B0-8859-16BC7E8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B426-0618-46AF-978B-6DAA6EAB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F6B-54E8-4F21-84F7-A65EEEF7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953E-15D8-441E-A55A-224D69C2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9BE-7113-405C-86B8-B7A4AB114960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F50-D694-4877-9966-B15D78230EE0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87280" y="141300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66"/>
                </a:solidFill>
                <a:latin typeface="Candara"/>
              </a:rPr>
              <a:t>Nástin (možných) trendů české právní úpravy kolektivního investování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55640" y="393372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Jan Š o v a 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Kapitálový trh, Ministerstvo financí České republik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Praha, 19. 5. 201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ýhrada prezentac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Obsah zobrazený v této prezentaci, jakož i ústní projev ji dop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rovázející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, odráží výlučně individuální názory, hodnocení a přístup autora k dané problematice, jež se nemusí shodovat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stávajícími či potenciálními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názory, hodnoceními nebo přístupem Ministerstva financí ani nepředstavují jeho oficiální pozici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ybrané otázky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řijetí podílových listů k obchodování na regulovaný trh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Otevřený“ investiční fond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odfondy“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263664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DĚKUJI ZA POZORNOST !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5:22:43Z</dcterms:created>
  <dc:creator/>
  <dc:description/>
  <dc:language>en-US</dc:language>
  <cp:lastModifiedBy>12885</cp:lastModifiedBy>
  <dcterms:modified xsi:type="dcterms:W3CDTF">2011-05-18T08:20:16Z</dcterms:modified>
  <cp:revision>185</cp:revision>
  <dc:subject/>
  <dc:title>PowerPoint Presentation</dc:title>
</cp:coreProperties>
</file>