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2148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9D6-207A-4F15-83FD-07277234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265-55B0-4DB5-8175-57D6E562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38D-465B-4E16-9A4A-28CCF03A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E8F-1B93-4F97-AB4F-0BE56FC4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89AF-6337-4CB3-9011-9521B19C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35AF-7D22-4B8C-89C1-DE56C9EE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604A-AE49-4892-ABEB-001F43B6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5C29-0550-46BC-BCD5-A6D542CC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2A3C-DB55-4AEC-BE6F-F0CB6222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9D11-67D7-4400-8CFE-38B4FF0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FACD-70BA-427E-A5CC-E26DFB1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EE6-5FA1-4B22-AAB8-A5ACF9B8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DE6D-DCAC-4A52-886F-13A45052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7A9A-6049-46D5-93FA-B1800AB4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66DC-2266-4708-B4B1-36FE3BCC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B2EA-FCA7-4458-AE2A-FD83F85D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8999-AC33-4C43-9EF7-4196A514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574-A061-4E91-9475-177C05BA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C3E-751D-4944-A875-B12CC3CA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410-0699-4F9D-8BCD-589F4CF8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1AB-071A-49CE-9B9C-315ADA07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263-6751-434E-B73B-D1580491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EC0-B9ED-405F-B60B-8645654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50D-0B2A-40BA-B726-2373E54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6B2E-CA48-42AE-AB09-7DF131880D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woosh_3"/>
          <p:cNvPicPr/>
          <p:nvPr/>
        </p:nvPicPr>
        <p:blipFill>
          <a:blip r:embed="rId2"/>
          <a:stretch/>
        </p:blipFill>
        <p:spPr>
          <a:xfrm>
            <a:off x="0" y="2751120"/>
            <a:ext cx="9144000" cy="4106880"/>
          </a:xfrm>
          <a:prstGeom prst="rect">
            <a:avLst/>
          </a:prstGeom>
          <a:ln w="0">
            <a:noFill/>
          </a:ln>
        </p:spPr>
      </p:pic>
      <p:sp>
        <p:nvSpPr>
          <p:cNvPr id="6" name="Text Box 9"/>
          <p:cNvSpPr/>
          <p:nvPr/>
        </p:nvSpPr>
        <p:spPr>
          <a:xfrm>
            <a:off x="395280" y="655308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2774"/>
                </a:solidFill>
                <a:latin typeface="Times New Roman"/>
              </a:rPr>
              <a:t>OVB – špecialista na financie v Euró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OVB-logo s ciarou-RGB bez pozadia"/>
          <p:cNvPicPr/>
          <p:nvPr/>
        </p:nvPicPr>
        <p:blipFill>
          <a:blip r:embed="rId3"/>
          <a:stretch/>
        </p:blipFill>
        <p:spPr>
          <a:xfrm>
            <a:off x="7667640" y="4581360"/>
            <a:ext cx="1136520" cy="97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swoosh_2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66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OVB-logo s ciarou-RGB bez pozadia"/>
          <p:cNvPicPr/>
          <p:nvPr/>
        </p:nvPicPr>
        <p:blipFill>
          <a:blip r:embed="rId3"/>
          <a:stretch/>
        </p:blipFill>
        <p:spPr>
          <a:xfrm>
            <a:off x="1979640" y="692280"/>
            <a:ext cx="5111640" cy="440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A6A-3E8D-47B8-899E-D4CDD6E263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90240"/>
            <a:ext cx="8572320" cy="606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PRAKTICKÉ ASPEKTY IMPLEMENTÁCIE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slovenského zákona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o finančnom sprostredkovaní a finančnom poradenstve</a:t>
            </a:r>
            <a:br>
              <a:rPr sz="4400"/>
            </a:br>
            <a:r>
              <a:rPr b="1" i="1" lang="sk-SK" sz="3600" spc="-1" strike="noStrike">
                <a:solidFill>
                  <a:srgbClr val="333399"/>
                </a:solidFill>
                <a:latin typeface="Times New Roman"/>
              </a:rPr>
              <a:t>(Ako sme to prežili)</a:t>
            </a:r>
            <a:br>
              <a:rPr sz="3600"/>
            </a:br>
            <a:br>
              <a:rPr sz="3600"/>
            </a:b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Ivica Chačaturianová</a:t>
            </a:r>
            <a:br>
              <a:rPr sz="4000"/>
            </a:b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Praha 19.máj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F62F-A167-4646-808A-FF8B30BFAC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428D-1512-4634-A496-91DB0BFAFE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vizitka_ICH.jpg"/>
          <p:cNvPicPr/>
          <p:nvPr/>
        </p:nvPicPr>
        <p:blipFill>
          <a:blip r:embed="rId1"/>
          <a:stretch/>
        </p:blipFill>
        <p:spPr>
          <a:xfrm>
            <a:off x="142920" y="227160"/>
            <a:ext cx="88218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Prológ    (z.č.186/2009 Z.z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polutvorba zákona, prechodné d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inančný agent (FA) a finančný poradca (F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/2009 schválenie, 9/2009 novela, 1/2010 účin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010 rok prispôsobenia + základný stupeň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pt./dec. 2011/mar.2012 etapy na splnenie podm. strednej, vyššej a najvyššej odbornej spôsobi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sektorov, 7 kategórií subjekt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o dec.2010 v registri NBS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FP, 20 000 VFA a 26 000 P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208B-5E9D-4CF5-81BD-4F47EC2748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Zákon znamenal 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ýmenu zmlú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formačné protokoly v 5 sektor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T zmeny 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firmy aj AFI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ontroly a nastavenia v personálnom systé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genda - elektronicky a automatizov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ačiatok riešenia odbornej spôsobilosti =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žitá formula s množstvom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alizačných a výsledkových neznám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kúšky papierovo aj elektronicky – na mi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2820-4092-499E-9C16-C12911C61B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Odborná spôsobilosť – stredný stupe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414440"/>
            <a:ext cx="8713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zdelanie (bez maturity treba aj 1 rok prax na 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sobitné finančné vzdeláv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dborná skúška (právo, zákon, teó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zdelávajú finančné inštitúcie a vzdelávacie ustanovizne (Vyhláška MF č.600/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kúšajú NBSkou poverené inštitúcie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AFISP, AOCP, IBV, SBA, SLAS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ADDC-E8C7-4861-B943-A7E448BA39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áca work arbeit travail</a:t>
            </a:r>
            <a:r>
              <a:rPr b="0" lang="az-Cyrl-A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z-Cyrl-AZ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бота</a:t>
            </a:r>
            <a:r>
              <a:rPr b="1" lang="sk-SK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uff</a:t>
            </a:r>
            <a:r>
              <a:rPr b="1" lang="az-Cyrl-AZ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FISP projekt na skúšanie + SW (august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stavenie podmienok v sieti OVB (okt.-no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ilotná skupina (dece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ostupné skúšanie podriadených finančných agentov (január 2011 ..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sú)sektor á 2 mesiace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POI, VKL+ÚVE </a:t>
            </a:r>
            <a:r>
              <a:rPr b="0" i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bo StSpor.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KT+D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júl – celozávodná dovolenka </a:t>
            </a:r>
            <a:r>
              <a:rPr b="0" lang="sk-SK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ug+sept – finiš pre PFA a 4 roky vari norm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5E0A-B7CD-4A57-BF65-C94228A609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VZDELÁVA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utnosť realizovaná ako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lánovanie, evidencia, prezencia, archivá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rganizačné zabezpeč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ONT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študijné podklady,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latby a D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ermíny a leh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utomatizácia a potvrd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sciplína a uvedomel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820A-0AF2-4516-8BBA-896479F994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FAKTY A ČÍS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5.4.2011 v NBS reg. 17 000 VFA a 19 000 P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 10.5. AFISP-Asociácia fin.sprostredkovateľov a poradcov –13 336 človekoskúšok, 264 termínov,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BA do 10 000 čs, ostatné 3 subjekty po stovk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 projektový manažér AFISP na plný úväz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VB SR k 15.5. – 8 617 čs, 77 termínov,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o konca júna ešte 33 skúšok (aj 3 den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spešnosť 97 %, LEBO vzdelávanie+prax+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dhad počtu PFA ku 30.9.2011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792D-9640-46F9-B054-6E53D8E7F8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VÝH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fesionálna podpora profe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amyslenie sa nad svojou prá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odpovednosť a uvedomenie si riz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dravé prečistenie t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štandardy a zjednotenie úrovne vzdeláv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-learningové mod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oordinácia snáh a spolupráca</a:t>
            </a: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inančných asociá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DA83-A695-4BF6-8020-6276A57FA6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NA ZAMYSL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očet sektorov 3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inančný poradc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ôležitosť vzdeláv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jprv prax, potom formalizá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áklady a termíny, dôstojnosť v č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Gramotnosť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</a:t>
            </a:r>
            <a:r>
              <a:rPr b="0" lang="sk-SK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b.Spôsobil.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 </a:t>
            </a:r>
            <a:r>
              <a:rPr b="0" lang="sk-SK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chrana Spotrebite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oriadok sa nenastoľuje zákonom, </a:t>
            </a:r>
            <a:br>
              <a:rPr sz="3200"/>
            </a:br>
            <a:r>
              <a:rPr b="1" i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E vhodným príkladom a správaním sa. </a:t>
            </a:r>
            <a:br>
              <a:rPr sz="3200"/>
            </a:br>
            <a:r>
              <a:rPr b="1" i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.Lus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E5E1-A0E8-42F8-9792-79723E6682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56:55Z</dcterms:created>
  <dc:creator>sidonia</dc:creator>
  <dc:description/>
  <dc:language>en-US</dc:language>
  <cp:lastModifiedBy>ICH</cp:lastModifiedBy>
  <dcterms:modified xsi:type="dcterms:W3CDTF">2011-05-17T11:37:13Z</dcterms:modified>
  <cp:revision>189</cp:revision>
  <dc:subject/>
  <dc:title>Snímka 1</dc:title>
</cp:coreProperties>
</file>