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" y="4536000"/>
            <a:ext cx="822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848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552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3922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23922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8480" y="45360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5360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45360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10522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848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552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" y="4536000"/>
            <a:ext cx="822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vinky pro podnikání standardních fond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2000" y="4419360"/>
            <a:ext cx="7991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onference AKAT a SASS „Next Steps in Asset Management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aha 19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ětna 2011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Franě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isterstvo financí České republi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I. Notifikace fondu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495160"/>
            <a:ext cx="7929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Náležitosti notifikační dokumentace – statut, KII, výroční a pololetní zprávy; pozor – některé náležitosti bude upravovat L2 prováděcí nařízení, nebude stačit jen podívat se do záko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 Jazyk – jazykové požadavky jsou harmonizovány (notifikační dokumentace pro dozor anglicky; pro investory se překládá pouze KII do lokálního jazy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I. Notifikace fondu (4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) Rychlost – domovský úřad odesílá do 10 dnů od obdržení notifikace nebo jejího doplnění (nebyla-li úpln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) Dozor – směrnice stanoví, že podmínkou zahájení činnosti nesmí být jakákoliv „předběžná“ kontrola způsobilosti dodržování povinností ze strany hostitelského dozoru (nešvar v některých členských státech); dozor v průběhu výkonu činnosti je pak samozřejmě bez problém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V. Fúze fond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jména § 100- 100j (splynutí), § 100k – 100u (slouče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íl: některé země (včetně ČR) upravují národní fúze, přeshraniční jsou prakticky neproveditelné (zákony jsou nekompatibil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ěrnice umožní splynutí, sloučení a prodej aktiv („prodej podniku“? ovšem s povinnou likvidací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V. Fúze fondů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valuje pouze dozor zanikajícího fondu, dozor „přejímajícího“ je pouze konzultov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ndy musejí zpracovat projekt fúze, kontrola depozitářem, povinná auditorská zprá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V. Fúze fondů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 všem musejí být informováni podílníci zanikajících fondů (tzv. sdělení o splynutí/sloučen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ílníci zanikajících mají právo na odkup nebo výměnu za nové cenné papíry přejímajícího fon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ahoma"/>
              </a:rPr>
              <a:t>V. Master – feeder struktu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ejména § 30a; § 35a násl.; § 99nás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íl: Sdružování aktiv několika fondů snižit náklady na obhospodař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zv. master-feeder struktury – podřízený fond (feeder) investuje prakticky veškerá aktiva (více než 85%) do řídícího fondu (ma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. Master – feeder struktury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vinnosti uzavřít dohody o spolupráci mezi fondy a jejich depozitáři a aud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ster nesmí sám dále investovat jako feeder nebo do jiného feed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 případě změny investiční politiky UCITS fondu na feeder politiku musejí mít podílníci možnost odejít bez poplatk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VI. Sdělení klíčových informací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ejména § 84 násl. (ex zjednodušený statu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íl: </a:t>
            </a: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jednodušený prospekt se nepodařilo sjednotit, různé země různé požadavky na obs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ákladní informace o produktu a odkaz na ostatní inform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ližší obsah stanoví Level 2 (nařízení 583/2010/EU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peciální fondy rovněž, ale obsah bude stanoven nařízením vlády Č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VII. Pas investiční společnos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ejména § 36 násl. (pas českých IS); § 39násl. (pasport zahraničních 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íl: stávající stav nefunkční, ačkoliv směrnice UCITS III byla podle našeho názoru vyložitelná i liberálně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možnit společnosti pasportovat a spravovat i fondy s cizím domici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VII. Pas investiční společnosti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ces pasportu se výrazně nemě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vestiční společnost z EU bude moci obhospodařovat i české standardní fondy a naopak česká zahraniční standardní fon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0726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. UCITS 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I. Transpozice v České republice - harmono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II. Notifikace fon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V. Fúze fon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. Master-feeder struktu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I. Klíčová informace pro inve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II. Pas investičn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ěkuji za pozo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chal.franek@mfcr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420 25704 33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Názory v tomto příspěvku nemusejí reprezentovat oficiální postoj Ministerstva financí České republi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. UCITS 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ěrnice UCITS (85/611/EH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CITS III (2001) – významné koncepční změ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CITS IV (2009) – prohloubení změ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. UCITS IV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P odhlasoval v 1. čtení začátkem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měrnice přijata 13.7. 2009, publikována v OJ 17.11.2009 jako 2009/65/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áty mají povinnost zavést změny k 1.7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lý vývoj k dispozici 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ttp://ec.europa.eu/internal_market/investment/ucits_directive_en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. UCITS IV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Level 2 opatření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EK zpracovalo návrhy na základě dokumentů CES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ESC (výbor EK) schválil L2 opatření v dubnu 201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EK vydala prováděcí opatření 1.7.201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Celý vývoj včetně konečného znění L2 viz. opět http://ec.europa.eu/internal_market/investment/ucits_directive_en.ht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I. UCITS IV (4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2 opatření jsou 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ařízení upravující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"key investor information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ařízení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pravující spolupráci dohledů a částečně notifikační problematiku (pas fond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měrnici upravující organizační předpoklady, střet zájmů, jednání se zákazníky, dohodu mezi investiční společností a depozitář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měrnici upravující master/feeder struktury, fúze a notifika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. Transpozice v ČR - harmonogr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opad/prosinec – projednání v orgánech Legislativní rady, 16.2.2011 schválení vlád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3.2011– předložení do Parlamen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řezen 2011 – 1.čt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ěten 2011 – schválení P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ěten – červen 2011 – Senát, Sbírka zákon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echodné období 5 měsíců po účinnosti zákona na přizpůsobení novým pravidl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I. Notifikace fond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měrnice – čl. 91 – 96 + recitály 62 - 66 (ve „staré“ směrnici čl. 44 – 4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ákon – bude provedeno změnou § 43 - 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nové komunitární úpravy: zjednodušení a dále zajistit, že hostitelské státy nezavádějí pro produktový pasport požadavky nad rámec směrnice, jak se tomu v některých případech stalo za současné úprav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I. Notifikace fondu 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Základní změna – pro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ávající proces – IS/fond notifikuje úmysl dozorovému úřadu hostitelské zem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vý proces – IS/fond notifikuje úmysl svému domácímu dozorovému úřadu, ten předá notifikaci dozorovému úřadu hostitelské zem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7:36:47Z</dcterms:created>
  <dc:creator>FranekM</dc:creator>
  <dc:description/>
  <cp:keywords/>
  <dc:language>en-US</dc:language>
  <cp:lastModifiedBy>12104</cp:lastModifiedBy>
  <dcterms:modified xsi:type="dcterms:W3CDTF">2011-05-16T13:06:03Z</dcterms:modified>
  <cp:revision>211</cp:revision>
  <dc:subject/>
  <dc:title>UCITS</dc:title>
</cp:coreProperties>
</file>