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1888-A870-48F1-BF78-681658A6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610C-B1CB-4841-A394-88FBDF60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0FF7-D17F-474F-98F0-3D5AD5DC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6F92-0174-4E35-9D76-48C4CA0F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7962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EED8-AB36-485C-B0BB-DF7F9EDC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1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8916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1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8916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1202-623A-4FEA-81F2-85753DBC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0158-BE66-4142-8F74-4F17C132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5297-3007-4518-A919-682E7E2C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7962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DD15-0EF9-4134-BCC3-78809A36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51C9-AB81-46A2-BC49-AB5BBDC4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7F84-C508-4633-B443-B456645A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E5B7-9884-4E67-8D6F-05C0910D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1" marL="190440" indent="26676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3" marL="1601640" indent="-228600">
              <a:spcBef>
                <a:spcPts val="550"/>
              </a:spcBef>
              <a:buClr>
                <a:srgbClr val="0732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732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32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655F-FA6D-496F-9DC9-704DA5E4262F}" type="slidenum">
              <a:rPr b="0" lang="en-US" sz="1400" spc="-1" strike="noStrike">
                <a:solidFill>
                  <a:srgbClr val="0732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1" marL="190440" indent="26676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3" marL="1601640" indent="-228600">
              <a:spcBef>
                <a:spcPts val="550"/>
              </a:spcBef>
              <a:buClr>
                <a:srgbClr val="0732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732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9840" y="51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ffffff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ffffff"/>
                </a:solidFill>
                <a:latin typeface="Arial"/>
              </a:rPr>
              <a:t>Next Steps in Asset Masnagement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160" y="21337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Produktové výzvy v podielových fondoch </a:t>
            </a: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po veľkom tresku</a:t>
            </a: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Peter Jánošov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atra Asset Management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Vedúci odd. produkt manažmentu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D0B5-C2C0-4B01-B589-7BD57ECFE5C9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Ako nám pomôžu strešné fondy?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395280" y="2276640"/>
            <a:ext cx="216072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Euro  peňažný fond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Rounded Rectangle 8"/>
          <p:cNvSpPr/>
          <p:nvPr/>
        </p:nvSpPr>
        <p:spPr>
          <a:xfrm>
            <a:off x="395280" y="2637000"/>
            <a:ext cx="216072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Private euro peňažný fond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Rounded Rectangle 9"/>
          <p:cNvSpPr/>
          <p:nvPr/>
        </p:nvSpPr>
        <p:spPr>
          <a:xfrm>
            <a:off x="395280" y="3573360"/>
            <a:ext cx="2160720" cy="362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Euro  dlhopisový PLUS fond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Rounded Rectangle 10"/>
          <p:cNvSpPr/>
          <p:nvPr/>
        </p:nvSpPr>
        <p:spPr>
          <a:xfrm>
            <a:off x="395280" y="4653000"/>
            <a:ext cx="216072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Zaistený fond I.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Rounded Rectangle 11"/>
          <p:cNvSpPr/>
          <p:nvPr/>
        </p:nvSpPr>
        <p:spPr>
          <a:xfrm>
            <a:off x="395280" y="5013360"/>
            <a:ext cx="216072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Zaistený fond II.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Rounded Rectangle 12"/>
          <p:cNvSpPr/>
          <p:nvPr/>
        </p:nvSpPr>
        <p:spPr>
          <a:xfrm>
            <a:off x="395280" y="5373720"/>
            <a:ext cx="216072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Zaistený fond III.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Rounded Rectangle 13"/>
          <p:cNvSpPr/>
          <p:nvPr/>
        </p:nvSpPr>
        <p:spPr>
          <a:xfrm>
            <a:off x="395280" y="5732640"/>
            <a:ext cx="216072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Zaistený fond IV.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Rounded Rectangle 14"/>
          <p:cNvSpPr/>
          <p:nvPr/>
        </p:nvSpPr>
        <p:spPr>
          <a:xfrm>
            <a:off x="3203640" y="2276640"/>
            <a:ext cx="201600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ConservativeFund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Rounded Rectangle 15"/>
          <p:cNvSpPr/>
          <p:nvPr/>
        </p:nvSpPr>
        <p:spPr>
          <a:xfrm>
            <a:off x="3203640" y="2637000"/>
            <a:ext cx="202572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HarmonicFund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Rounded Rectangle 16"/>
          <p:cNvSpPr/>
          <p:nvPr/>
        </p:nvSpPr>
        <p:spPr>
          <a:xfrm>
            <a:off x="3203640" y="2997360"/>
            <a:ext cx="201600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StrategicFund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Rounded Rectangle 17"/>
          <p:cNvSpPr/>
          <p:nvPr/>
        </p:nvSpPr>
        <p:spPr>
          <a:xfrm>
            <a:off x="6156360" y="4365720"/>
            <a:ext cx="202392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SmartFund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Rounded Rectangle 19"/>
          <p:cNvSpPr/>
          <p:nvPr/>
        </p:nvSpPr>
        <p:spPr>
          <a:xfrm>
            <a:off x="395280" y="6093000"/>
            <a:ext cx="216072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Spoločensky zodpovedný fond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ounded Rectangle 20"/>
          <p:cNvSpPr/>
          <p:nvPr/>
        </p:nvSpPr>
        <p:spPr>
          <a:xfrm>
            <a:off x="3203640" y="3357720"/>
            <a:ext cx="201600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Private V1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Rounded Rectangle 21"/>
          <p:cNvSpPr/>
          <p:nvPr/>
        </p:nvSpPr>
        <p:spPr>
          <a:xfrm>
            <a:off x="3203640" y="3716280"/>
            <a:ext cx="2016000" cy="362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Private V2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Rounded Rectangle 22"/>
          <p:cNvSpPr/>
          <p:nvPr/>
        </p:nvSpPr>
        <p:spPr>
          <a:xfrm>
            <a:off x="3203640" y="4076640"/>
            <a:ext cx="2016000" cy="362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Private V3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Rounded Rectangle 23"/>
          <p:cNvSpPr/>
          <p:nvPr/>
        </p:nvSpPr>
        <p:spPr>
          <a:xfrm>
            <a:off x="6156360" y="4724280"/>
            <a:ext cx="2014560" cy="362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MarketNeutral Fund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Rounded Rectangle 24"/>
          <p:cNvSpPr/>
          <p:nvPr/>
        </p:nvSpPr>
        <p:spPr>
          <a:xfrm>
            <a:off x="6156360" y="2276640"/>
            <a:ext cx="201600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Európsky akciový fond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Rounded Rectangle 25"/>
          <p:cNvSpPr/>
          <p:nvPr/>
        </p:nvSpPr>
        <p:spPr>
          <a:xfrm>
            <a:off x="6156360" y="2637000"/>
            <a:ext cx="201600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Americký akciový fond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ounded Rectangle 26"/>
          <p:cNvSpPr/>
          <p:nvPr/>
        </p:nvSpPr>
        <p:spPr>
          <a:xfrm>
            <a:off x="6156360" y="2997360"/>
            <a:ext cx="201456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Stredoeurópsky akciový fond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ounded Rectangle 27"/>
          <p:cNvSpPr/>
          <p:nvPr/>
        </p:nvSpPr>
        <p:spPr>
          <a:xfrm>
            <a:off x="6156360" y="6021360"/>
            <a:ext cx="201600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Realitný Fond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Rounded Rectangle 28"/>
          <p:cNvSpPr/>
          <p:nvPr/>
        </p:nvSpPr>
        <p:spPr>
          <a:xfrm>
            <a:off x="250920" y="2133720"/>
            <a:ext cx="2449440" cy="934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Rounded Rectangle 29"/>
          <p:cNvSpPr/>
          <p:nvPr/>
        </p:nvSpPr>
        <p:spPr>
          <a:xfrm>
            <a:off x="250920" y="4508640"/>
            <a:ext cx="2449440" cy="208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Rounded Rectangle 30"/>
          <p:cNvSpPr/>
          <p:nvPr/>
        </p:nvSpPr>
        <p:spPr>
          <a:xfrm>
            <a:off x="2987640" y="2133720"/>
            <a:ext cx="2448000" cy="2447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ounded Rectangle 31"/>
          <p:cNvSpPr/>
          <p:nvPr/>
        </p:nvSpPr>
        <p:spPr>
          <a:xfrm>
            <a:off x="5940360" y="2133720"/>
            <a:ext cx="2448000" cy="1295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Rounded Rectangle 32"/>
          <p:cNvSpPr/>
          <p:nvPr/>
        </p:nvSpPr>
        <p:spPr>
          <a:xfrm>
            <a:off x="6084720" y="4221000"/>
            <a:ext cx="2159280" cy="100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539640" y="4149720"/>
            <a:ext cx="2016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2060"/>
                </a:solidFill>
                <a:latin typeface="Arial"/>
              </a:rPr>
              <a:t>Zaistené fon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Content Placeholder 2"/>
          <p:cNvSpPr/>
          <p:nvPr/>
        </p:nvSpPr>
        <p:spPr>
          <a:xfrm>
            <a:off x="324000" y="3141720"/>
            <a:ext cx="2376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2060"/>
                </a:solidFill>
                <a:latin typeface="Arial"/>
              </a:rPr>
              <a:t>Dlhopisové fon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Content Placeholder 2"/>
          <p:cNvSpPr/>
          <p:nvPr/>
        </p:nvSpPr>
        <p:spPr>
          <a:xfrm>
            <a:off x="468360" y="1773360"/>
            <a:ext cx="2016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2060"/>
                </a:solidFill>
                <a:latin typeface="Arial"/>
              </a:rPr>
              <a:t>Peňažné fon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Content Placeholder 2"/>
          <p:cNvSpPr/>
          <p:nvPr/>
        </p:nvSpPr>
        <p:spPr>
          <a:xfrm>
            <a:off x="3276720" y="1773360"/>
            <a:ext cx="2016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2060"/>
                </a:solidFill>
                <a:latin typeface="Arial"/>
              </a:rPr>
              <a:t>Fondy fondov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Content Placeholder 2"/>
          <p:cNvSpPr/>
          <p:nvPr/>
        </p:nvSpPr>
        <p:spPr>
          <a:xfrm>
            <a:off x="6156360" y="1773360"/>
            <a:ext cx="2016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2060"/>
                </a:solidFill>
                <a:latin typeface="Arial"/>
              </a:rPr>
              <a:t>Akciové fon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Content Placeholder 2"/>
          <p:cNvSpPr/>
          <p:nvPr/>
        </p:nvSpPr>
        <p:spPr>
          <a:xfrm>
            <a:off x="6227640" y="3860640"/>
            <a:ext cx="187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2060"/>
                </a:solidFill>
                <a:latin typeface="Arial"/>
              </a:rPr>
              <a:t>Aktívne fon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Content Placeholder 2"/>
          <p:cNvSpPr/>
          <p:nvPr/>
        </p:nvSpPr>
        <p:spPr>
          <a:xfrm>
            <a:off x="6084720" y="5589720"/>
            <a:ext cx="2232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2060"/>
                </a:solidFill>
                <a:latin typeface="Arial"/>
              </a:rPr>
              <a:t>Špeciálne fon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5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50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6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750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850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950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50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15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35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65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85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C8A5-42A4-41FD-B683-3D96F1BE885E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Aký prínos majú emisie?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odstránenie duplicity PF 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jednoduhšia obsluha segmentov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efektívnejšia správa PF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zrovnoprávnenie so zahraničnými PF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variabilná poplatková štruktúra podľa potrieb klienta 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väčšia produktová variabilita pre klienta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Majú NON-UCITS štruktúry budúcnosť?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9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Uzatvorené podielové fondy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nevytvorené podmienky pre existenciu napr. Infraštruktúrnych fondov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Verejné špeciálne podielové fondy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zrušenie obmedzenia počtu podielnikov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zrušenie výšky minimálnej investície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zrušenie určitej doby existencie 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rozšírenie limitov 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nerozšírenie ochrany likvidity špeciálnych podielových fondov nehnuteľností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Špeciálny podielový fond profesionálnych investorov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individualizované stratégie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BB57-C37F-4ACF-8691-11B43353879F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Čo nás teší a čo nás trápi?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+  Určenie maximálnych správcovských a depozitárskych poplatkov v štatúte podielových fondov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+  Vypustenie taxatívneho vymedzenia výplaty výnosov z podielových listov a jeho špecifikovanie v štatúte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+  Možnosť ponechania výstupného a transférového poplatku v majetku podielového fondu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+  Nahradenie Zjednodušeného predajného prospektu 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Zachovanie Predajného prospeku 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Likvidácia peňažných fondov 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F9A8-D328-4F98-800A-F2ECF073E536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3284640"/>
            <a:ext cx="777240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73260"/>
                </a:solidFill>
                <a:latin typeface="Arial"/>
              </a:rPr>
              <a:t>Ďakujem za pozornosť</a:t>
            </a:r>
            <a:endParaRPr b="0" lang="en-US" sz="4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58BF-CE55-4BF6-95C4-ECC37AA8ACEC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1:47:43Z</dcterms:created>
  <dc:creator>Peter Janosov (TB20857)</dc:creator>
  <dc:description/>
  <dc:language>en-US</dc:language>
  <cp:lastModifiedBy>Peter Janosov (TB20857)</cp:lastModifiedBy>
  <dcterms:modified xsi:type="dcterms:W3CDTF">2011-05-17T16:46:33Z</dcterms:modified>
  <cp:revision>32</cp:revision>
  <dc:subject/>
  <dc:title>Next Steps in Asset Masnagement</dc:title>
</cp:coreProperties>
</file>