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480" y="45360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552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3360" y="23922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48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92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3360" y="4536000"/>
            <a:ext cx="264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640" y="10522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5520" y="45360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848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2392200"/>
            <a:ext cx="4015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480" y="4536000"/>
            <a:ext cx="8229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Změny v regulaci distribuce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na finančním trhu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8316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Konference „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ext Steps in Asset Management </a:t>
            </a: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“ </a:t>
            </a:r>
            <a:br>
              <a:rPr sz="2200"/>
            </a:b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raha, 19. května 201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386064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an Urbanec, Ministerstvo fina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7779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2. Podnikatelská oprávnění pro zprostředkování na finančním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360" y="1797120"/>
            <a:ext cx="885528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Tahoma"/>
              </a:rPr>
              <a:t>univerzální systém „samostatný zprostředkovatel (SZ)</a:t>
            </a:r>
            <a:br>
              <a:rPr sz="2100"/>
            </a:br>
            <a:r>
              <a:rPr b="1" lang="cs-CZ" sz="2100" spc="-1" strike="noStrike">
                <a:solidFill>
                  <a:srgbClr val="ffffff"/>
                </a:solidFill>
                <a:latin typeface="Tahoma"/>
              </a:rPr>
              <a:t>– vázaný zástupce (VZ)“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ahoma"/>
              </a:rPr>
              <a:t>inspirace: MiFID a ZPKT - cíl: jasná informace o odpovědnosti za činnost distributo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ahoma"/>
              </a:rPr>
              <a:t>SZ se může vázat na libovolný počet poskytovatelů, nemůže se vázat na další SZ; vykonává činnost na vlastní odpovědnost, a to buď agentským nebo makléřským způsob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ahoma"/>
              </a:rPr>
              <a:t>VZ se může vázat pouze na 1 subjekt na celém fin. trhu, a to buď na SZ nebo na poskytovatele; VZ není nositelem odpovědnos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ahoma"/>
              </a:rPr>
              <a:t>SZ nemůže být současně VZ (a obráceně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ektorové členění finančního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1628640"/>
          <a:ext cx="8893080" cy="4572000"/>
        </p:xfrm>
        <a:graphic>
          <a:graphicData uri="http://schemas.openxmlformats.org/drawingml/2006/table">
            <a:tbl>
              <a:tblPr/>
              <a:tblGrid>
                <a:gridCol w="1062000"/>
                <a:gridCol w="582480"/>
                <a:gridCol w="7248600"/>
              </a:tblGrid>
              <a:tr h="307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ivotní pojiště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životní pojištění občanů (NP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PO - pojištění motorových vozidel (havarijní pojištění, povinné ruč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jištění podnikatel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kléřská činnost, pojištění velkých rizik a zajiště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</a:t>
                      </a: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klady u úvěrových instituc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třebitelské úvěry (úvěry dle ZSÚ a ostatní úvěry, kromě úvěrů na bydl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vební sp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poteční úvěry (tj. úvěry dle písm. a) § 2 ZS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úvěry (zejména podnikatelské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ijímání a předávání pokynů bez derivá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ijímání a předávání pokynů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rivá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zijní produk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F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dsektorové finanč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9050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3. Vymezení finančního poradenství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920" y="1484280"/>
            <a:ext cx="8856720" cy="53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zadání/východisk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utnost zpřísnění požadavků na možnost užívat označení „finanční poradce“, odlišení „čistého prodeje/zprostředkování“ od „sofistikovanějších“ činnos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mezené možnosti rozvoje neprovizního odměňování v retailových služb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žné přístu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P je pouze ten, kdo je odměňován neprovizním způsob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P je ten, kdo vydává doporučení o struktuře osobních financ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P je také ten, kde vydává doporučení pouze v rámci jednoho sektoru (např. pojišťovací či investiční porad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836640"/>
            <a:ext cx="81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3. Vymezení finančního poradenství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1484280"/>
            <a:ext cx="892800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věry/doporučení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ovní skupiny k distribu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finanční poradenství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= vyslovování individualizovaného doporučení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jako součást nabízení nebo zprostředkování neb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jako nadsektorové finanční poradenství (NF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NFP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= zpracovávání finančního plánu na základě komplexní analýzy klientovy situace a potřeb (v oblasti aktiv, zdrojů, pojištění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ro tuto činnost je zapotřebí získat specifické oprávně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FP nevylučuje souběžně vykonávání dalších distribučních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činností (např. zprostředkování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způsob odměňování není regul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buClr>
                <a:srgbClr val="ffffff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xkluzivní label „finanční poradce“ může využívat pouze osob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oskytující NF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4. Regi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1689120"/>
            <a:ext cx="8928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7784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vidence všech finančních zprostředko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formace o typu a rozsahu podnikatelského opráv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áhled na aktuální i historické úd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oučasné veřejnoprávní registry – ČNB, živnostenské úřad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 budoucnu (snad) jen ČN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5. Odbornost distribu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1341360"/>
            <a:ext cx="892800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osílení odbornosti u distributorů na F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– zprostředkovatelů i zaměstnan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jednocení/standardizace principů ověřování odbor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ojetí odbornosti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znalosti + dovednosti (nikoli prodejní dovednosti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objektivizace prokázání odbornosti při vstupu do odvětví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– odborná zkouška u akreditované instituce – delegace pravomocí na subjekty tr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otčené osoby: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šechny osoby jednající se zákazníky a odpovědné osoby distributora – zprostředkovatelé i zaměstnanci poskytovatel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říklady dobré prax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Rakous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6. Pravidla jednání se zákazní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34960"/>
            <a:ext cx="932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deový rám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zákon o podnikání na kapitálovém tr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zákon o spotřebitelském úvě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6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jednotný rámec pravidel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ředsmluvní informační povinnost (o distributorovi, produktu) – s důrazem na informace o rizicích a náklad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líčové (zjednodušené) informace pro spotřebi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formace poskytované automaticky a informace na žád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záznam z jednání s klien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alýza klientových potřeb u každého finančního poraden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nanční plán jako standardizovaný výstup finančního poradenství (plánová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7525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Děkuji za pozornos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292640"/>
            <a:ext cx="8229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jan.urbanec@m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Pojem distribuce a distrib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600200"/>
            <a:ext cx="89280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istribuc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= poskytování distribuční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římé nabízení produktů a služeb poskytovatelem (přepážkový prodej, on-line prodej,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nční zprostředko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nadsektorové) finanční poradenstv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istributor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= osoba, která primárně sjednává s klienty smlouvy o finančních službách či vykonává činnosti, které ke sjednávání smluv ved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nční zprostředkovatel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aměstnanci poskytovatele – osoby jednající s kli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2082960"/>
            <a:ext cx="0" cy="949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65880" y="452916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prostředkovatelská distribu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zprostředk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2200" y="3603600"/>
            <a:ext cx="25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městnanecká distribu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abíz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880" y="1197000"/>
            <a:ext cx="8096400" cy="885960"/>
          </a:xfrm>
          <a:prstGeom prst="rect">
            <a:avLst/>
          </a:prstGeom>
          <a:solidFill>
            <a:srgbClr val="ff99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kytovatel finančních služeb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nka, pojišťovna, OCP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6880" y="2082960"/>
            <a:ext cx="3841920" cy="887400"/>
          </a:xfrm>
          <a:prstGeom prst="rect">
            <a:avLst/>
          </a:prstGeom>
          <a:solidFill>
            <a:srgbClr val="ff99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í prodejní rozhraní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kyto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280" y="5567400"/>
            <a:ext cx="8028000" cy="885960"/>
          </a:xfrm>
          <a:prstGeom prst="rect">
            <a:avLst/>
          </a:prstGeom>
          <a:solidFill>
            <a:srgbClr val="ffff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ient, zákazník, spotřeb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24120" y="2970360"/>
            <a:ext cx="0" cy="2597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572160" y="4508640"/>
            <a:ext cx="15840" cy="1058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6840" y="3032280"/>
            <a:ext cx="4186440" cy="887400"/>
          </a:xfrm>
          <a:prstGeom prst="rect">
            <a:avLst/>
          </a:prstGeom>
          <a:solidFill>
            <a:srgbClr val="ffcc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ční zprostředkovatelé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terní prodejní rozhraní poskytovate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6840" y="3933720"/>
            <a:ext cx="2081160" cy="574920"/>
          </a:xfrm>
          <a:prstGeom prst="rect">
            <a:avLst/>
          </a:prstGeom>
          <a:solidFill>
            <a:srgbClr val="ff996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hra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933720"/>
            <a:ext cx="2087640" cy="574920"/>
          </a:xfrm>
          <a:prstGeom prst="rect">
            <a:avLst/>
          </a:prstGeom>
          <a:solidFill>
            <a:srgbClr val="ffcc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ýhra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997360"/>
            <a:ext cx="0" cy="122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2210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762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oučasný stav - hlavní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1438200"/>
            <a:ext cx="91090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ahoma"/>
              </a:rPr>
              <a:t>vysoký počet osob v odvětví, nízká kvalita služ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bléme zejména v sektoru pojišťov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íce ne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is. registrac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 (jen ČNB, bez ŽÚ) 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ízké, případně žádné požadavky na vstup do odvětví v některých sektor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etické jednání, mis-buying/mis-selling 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é motivační prvky, složitost produktů, důvěra veřejnosti k „pojištění“, daňové stim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ahoma"/>
              </a:rPr>
              <a:t>sektorově a distribučně nevyvážená regulace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dnikatelská oprávnění (nejednotná označení, nejednotná struk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načně odlišné požadavky na vstup do odvětví (odbor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truktura a obsah pravidel jednání se zákazní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isbalance mezi regulací externí (zprostředkovatelské) vs. interní (zaměstnanecké) distrib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ílový stav - hlavní am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360" y="1633680"/>
            <a:ext cx="88552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osílení kredibility poskytování a zprostředkování služeb na F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– požadavky na vstup do odvětví, transparentní struktura podnikatelských oprávnění, pravidla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sjednocení přístupů k regulaci distribuce napříč sektory F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i dosud neregulovaný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sblížení míry požadavků na zprostředkovatelskou a zaměstnaneckou formu distrib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ytvoření podmínek pro efektivní dohled nad retailovým FT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optimalizace systému registrací, vymezení odpovědnosti za vykonávanou činnost distributora, zpřísnění san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360" y="1413000"/>
            <a:ext cx="8747280" cy="50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ámcová politika M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 oblasti ochrany spotřebitele na finančním trhu (MF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č. 256/2004 Sb.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podnikání na kapitálové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ěrnice 2002/92/ES o zprostředkování pojištění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a návrhy její nove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vrh regulace EK v oblasti balíčkových retailových investičních produktů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P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říklady dobré praxe ze zahraničí: Rakousko (odbornost), Irsko (pravidla jed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Ideová 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Způsob práce, harmonogram výstu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557360"/>
            <a:ext cx="89280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3/2009 – 3/2011 - Pracovní skupina k distribuci na finančním trhu (PS-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em 22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lenové: MF, ČNB, profesní asociace na FT, spotřebitelská sdružení, 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ýstupy: Doporučení PS-D, sektorové standardy odbor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legis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ela zákona č. 38/2004 Sb. (ZPZ) – nyní MPŘ, vláda - červen 2011, účinnost 1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ěcný záměr Zákona o distribuci finančních služeb (ZoDFS) – podzim 2011; paragrafové znění ZoDFS -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005360"/>
            <a:ext cx="79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836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Hlavní prvky nově navrhova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360" y="1989000"/>
            <a:ext cx="88552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ůs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dnikatelská oprávnění pro zprostředkování na finanční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ymezení finančního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gis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dbornost distributorů na finanční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avidla jednání se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7200" indent="-4636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631800"/>
                <a:tab algn="l" pos="71604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5498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76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1. Půs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14728"/>
          <a:stretch/>
        </p:blipFill>
        <p:spPr>
          <a:xfrm>
            <a:off x="1042920" y="1373040"/>
            <a:ext cx="7274160" cy="371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5043600"/>
            <a:ext cx="90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gistrace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šechny podnikatelské osoby (zprostředkovat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dbornos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 rozsahu retail. produktů (výjimka – poj. makléř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4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avidla jednání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 vztahy s retailovou kliente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7:36:47Z</dcterms:created>
  <dc:creator>Petr Očko</dc:creator>
  <dc:description/>
  <cp:keywords>Euro</cp:keywords>
  <dc:language>en-US</dc:language>
  <cp:lastModifiedBy>URBANECJ</cp:lastModifiedBy>
  <dcterms:modified xsi:type="dcterms:W3CDTF">2011-05-17T12:25:15Z</dcterms:modified>
  <cp:revision>390</cp:revision>
  <dc:subject/>
  <dc:title>Institucionální rámec zavedení eura v ČR</dc:title>
</cp:coreProperties>
</file>