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4008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609F9-567D-4612-8884-EC5162765D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3000" y="498600"/>
            <a:ext cx="76867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363680"/>
            <a:ext cx="864216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0920" y="3570480"/>
            <a:ext cx="864216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C9C88-4F7F-459E-BCE8-05D44C3F40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000" y="498600"/>
            <a:ext cx="76867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363680"/>
            <a:ext cx="42170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9280" y="1363680"/>
            <a:ext cx="42170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3570480"/>
            <a:ext cx="42170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9280" y="3570480"/>
            <a:ext cx="42170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903DF-6CBF-4203-AF32-0006D01BCD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43000" y="498600"/>
            <a:ext cx="76867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920" y="1363680"/>
            <a:ext cx="27824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3040" y="1363680"/>
            <a:ext cx="27824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0" y="1363680"/>
            <a:ext cx="27824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0920" y="3570480"/>
            <a:ext cx="27824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3040" y="3570480"/>
            <a:ext cx="27824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4800" y="3570480"/>
            <a:ext cx="27824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D4D22-719D-44F4-8298-20410788D6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AC352-4C01-471B-AA1E-41594BE347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000" y="498600"/>
            <a:ext cx="76867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50920" y="1363680"/>
            <a:ext cx="8642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4881E-12B9-4091-B12D-19F485FA77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000" y="498600"/>
            <a:ext cx="76867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1363680"/>
            <a:ext cx="8642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D82EC-BF66-47FC-83C3-ADB90BFC5A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000" y="498600"/>
            <a:ext cx="76867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1363680"/>
            <a:ext cx="4217040" cy="4224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9280" y="1363680"/>
            <a:ext cx="4217040" cy="4224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B5A14-A42E-48A5-AC68-F036D0D892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000" y="498600"/>
            <a:ext cx="76867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D8E35-7F8E-417D-A70B-F034735871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43000" y="498600"/>
            <a:ext cx="7686720" cy="21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A08C8-5D87-4622-827D-E8119C246E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000" y="498600"/>
            <a:ext cx="76867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1363680"/>
            <a:ext cx="42170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9280" y="1363680"/>
            <a:ext cx="4217040" cy="4224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0920" y="3570480"/>
            <a:ext cx="42170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5CAEA-B1D7-4E64-87E2-F82A93BF5A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000" y="498600"/>
            <a:ext cx="76867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0920" y="1363680"/>
            <a:ext cx="8642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B5C98-2E15-4F38-B1BA-5C512A9571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000" y="498600"/>
            <a:ext cx="76867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363680"/>
            <a:ext cx="4217040" cy="4224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9280" y="1363680"/>
            <a:ext cx="42170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9280" y="3570480"/>
            <a:ext cx="42170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90B9D-AE8E-42DD-A780-6E800EF692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000" y="498600"/>
            <a:ext cx="76867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363680"/>
            <a:ext cx="42170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9280" y="1363680"/>
            <a:ext cx="42170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50920" y="3570480"/>
            <a:ext cx="864216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4713F-CE72-4452-B8AC-D3EDB31DF1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000" y="498600"/>
            <a:ext cx="76867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363680"/>
            <a:ext cx="864216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50920" y="3570480"/>
            <a:ext cx="864216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97C09-546C-42FA-856E-70541B287F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000" y="498600"/>
            <a:ext cx="76867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363680"/>
            <a:ext cx="42170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363680"/>
            <a:ext cx="42170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0920" y="3570480"/>
            <a:ext cx="42170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9280" y="3570480"/>
            <a:ext cx="42170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BC671-6A8D-4FCE-96D3-4D37FD322B9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000" y="498600"/>
            <a:ext cx="76867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1363680"/>
            <a:ext cx="27824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73040" y="1363680"/>
            <a:ext cx="27824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0" y="1363680"/>
            <a:ext cx="27824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50920" y="3570480"/>
            <a:ext cx="27824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73040" y="3570480"/>
            <a:ext cx="27824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94800" y="3570480"/>
            <a:ext cx="27824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34728-8C27-4F56-9809-12DA47D157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000" y="498600"/>
            <a:ext cx="76867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363680"/>
            <a:ext cx="8642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9A12B-3196-4627-AC4C-BDB4FB66F0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3000" y="498600"/>
            <a:ext cx="76867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1363680"/>
            <a:ext cx="4217040" cy="4224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9280" y="1363680"/>
            <a:ext cx="4217040" cy="4224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D396C-A3AE-4C51-8D1A-518569C264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000" y="498600"/>
            <a:ext cx="76867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7C4BD-D5FE-478E-B888-69F748F43D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43000" y="498600"/>
            <a:ext cx="7686720" cy="21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49A28-5502-4BE1-935B-98319935BA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43000" y="498600"/>
            <a:ext cx="76867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363680"/>
            <a:ext cx="42170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9280" y="1363680"/>
            <a:ext cx="4217040" cy="4224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0920" y="3570480"/>
            <a:ext cx="42170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3A3F5-595F-4D7B-ADA3-8CC946B1F0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3000" y="498600"/>
            <a:ext cx="76867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920" y="1363680"/>
            <a:ext cx="4217040" cy="4224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9280" y="1363680"/>
            <a:ext cx="42170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9280" y="3570480"/>
            <a:ext cx="42170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DE533-984B-4FE2-9AC2-6D2ED87D9E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3000" y="498600"/>
            <a:ext cx="76867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920" y="1363680"/>
            <a:ext cx="42170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9280" y="1363680"/>
            <a:ext cx="42170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0920" y="3570480"/>
            <a:ext cx="864216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AF4FD-C168-4A8A-8E16-CC173A5D46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2"/>
          <p:cNvSpPr/>
          <p:nvPr/>
        </p:nvSpPr>
        <p:spPr>
          <a:xfrm>
            <a:off x="252360" y="398520"/>
            <a:ext cx="8610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i="1" lang="en-US" sz="3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243000" y="6157800"/>
            <a:ext cx="6554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a19589"/>
                </a:solidFill>
                <a:latin typeface="Times New Roman"/>
              </a:rPr>
              <a:t>© Allen &amp; Overy 2011</a:t>
            </a:r>
            <a:endParaRPr b="0" i="1" lang="en-US" sz="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" name="Line 16"/>
          <p:cNvSpPr/>
          <p:nvPr/>
        </p:nvSpPr>
        <p:spPr>
          <a:xfrm>
            <a:off x="252360" y="6089760"/>
            <a:ext cx="8610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i="1" lang="en-US" sz="3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6741720" y="613260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a19589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A3C6-ED22-4490-9DF3-9E1B7E3CA352}" type="slidenum">
              <a:rPr b="0" lang="en-US" sz="800" spc="-1" strike="noStrike">
                <a:solidFill>
                  <a:srgbClr val="a195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43000" y="498600"/>
            <a:ext cx="76867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b23427"/>
                </a:solidFill>
                <a:latin typeface="Times New Roman"/>
              </a:rPr>
              <a:t>Click to edit the title text format</a:t>
            </a: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797520" y="92160"/>
            <a:ext cx="1951200" cy="2016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250920" y="1363680"/>
            <a:ext cx="8642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22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90480" indent="-241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896760" indent="-204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30400" indent="-231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30400" indent="-231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30400" indent="-231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O_Logo_RED_RGB" descr=""/>
          <p:cNvPicPr/>
          <p:nvPr/>
        </p:nvPicPr>
        <p:blipFill>
          <a:blip r:embed="rId2"/>
          <a:stretch/>
        </p:blipFill>
        <p:spPr>
          <a:xfrm>
            <a:off x="257040" y="193680"/>
            <a:ext cx="5166000" cy="3729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1"/>
          <p:cNvSpPr/>
          <p:nvPr/>
        </p:nvSpPr>
        <p:spPr>
          <a:xfrm>
            <a:off x="250920" y="6157800"/>
            <a:ext cx="6554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a19589"/>
                </a:solidFill>
                <a:latin typeface="Times New Roman"/>
              </a:rPr>
              <a:t>© Allen &amp; Overy 2011</a:t>
            </a:r>
            <a:endParaRPr b="0" i="1" lang="en-US" sz="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" name="Line 16"/>
          <p:cNvSpPr/>
          <p:nvPr/>
        </p:nvSpPr>
        <p:spPr>
          <a:xfrm>
            <a:off x="250920" y="6089760"/>
            <a:ext cx="8610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2"/>
          </p:nvPr>
        </p:nvSpPr>
        <p:spPr>
          <a:xfrm>
            <a:off x="6740640" y="6132600"/>
            <a:ext cx="213336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a19589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7281-4C8B-45EB-A940-77ECCA0145FF}" type="slidenum">
              <a:rPr b="0" lang="en-US" sz="800" spc="-1" strike="noStrike">
                <a:solidFill>
                  <a:srgbClr val="a195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PT images_COVER_05" descr=""/>
          <p:cNvPicPr/>
          <p:nvPr/>
        </p:nvPicPr>
        <p:blipFill>
          <a:blip r:embed="rId1"/>
          <a:srcRect l="0" t="3837" r="0" b="0"/>
          <a:stretch/>
        </p:blipFill>
        <p:spPr>
          <a:xfrm>
            <a:off x="0" y="679320"/>
            <a:ext cx="9144000" cy="52516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30040" y="1363320"/>
            <a:ext cx="4341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0000" tIns="0" bIns="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r V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bíral</a:t>
            </a:r>
            <a:endParaRPr b="0" i="1" lang="en-US" sz="25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0040" y="1932120"/>
            <a:ext cx="43419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000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adb0d8"/>
                </a:solidFill>
                <a:latin typeface="Times New Roman"/>
                <a:ea typeface="Times New Roman"/>
              </a:rPr>
              <a:t>O</a:t>
            </a:r>
            <a:r>
              <a:rPr b="0" i="1" lang="cs-CZ" sz="4000" spc="-1" strike="noStrike">
                <a:solidFill>
                  <a:srgbClr val="adb0d8"/>
                </a:solidFill>
                <a:latin typeface="Times New Roman"/>
                <a:ea typeface="Times New Roman"/>
              </a:rPr>
              <a:t>čekávané novinky v zákoně o podnikání na kapitálovém trhu</a:t>
            </a:r>
            <a:endParaRPr b="0" i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B5A82-E943-4B59-B70D-D556E95B401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000" y="498600"/>
            <a:ext cx="76867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b23427"/>
                </a:solidFill>
                <a:latin typeface="Times New Roman"/>
              </a:rPr>
              <a:t>Závěr</a:t>
            </a: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1363680"/>
            <a:ext cx="8642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2F171-6BB1-491A-B49F-F0BC11BA80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74840" y="1400040"/>
            <a:ext cx="7686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b23427"/>
                </a:solidFill>
                <a:latin typeface="Times New Roman"/>
              </a:rPr>
              <a:t>Dotazy</a:t>
            </a:r>
            <a:r>
              <a:rPr b="1" lang="en-GB" sz="3500" spc="-1" strike="noStrike">
                <a:solidFill>
                  <a:srgbClr val="b23427"/>
                </a:solidFill>
                <a:latin typeface="Times New Roman"/>
              </a:rPr>
              <a:t>?</a:t>
            </a:r>
            <a:endParaRPr b="0" i="1" lang="en-US" sz="35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A7FDC-E0DC-4384-9C8B-F4161EB6E3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000" y="498600"/>
            <a:ext cx="76867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b23427"/>
                </a:solidFill>
                <a:latin typeface="Times New Roman"/>
              </a:rPr>
              <a:t>Směrnice 2010/73/EU </a:t>
            </a: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363680"/>
            <a:ext cx="8642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zv. Novelizující směrn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měn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nice 2003/71/ES o prospek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 směrnic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004/109/ES o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ansparen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latnost od 31.12.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rmín implementace do 1.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806FC-1138-4A6F-BE94-0A0D3CEC1A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000" y="498600"/>
            <a:ext cx="76867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b23427"/>
                </a:solidFill>
                <a:latin typeface="Times New Roman"/>
              </a:rPr>
              <a:t>Cíle Novelizující směrnice</a:t>
            </a: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1363680"/>
            <a:ext cx="8642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239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nížení administrativní zátěž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výšení konkurence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volnění určitých povinností stanovených směrnicí o prosp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řízení evropského systému orgánů finančního dohl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C439B-2A12-46F0-BB43-B61991D827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000" y="498600"/>
            <a:ext cx="76867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b23427"/>
                </a:solidFill>
                <a:latin typeface="Times New Roman"/>
              </a:rPr>
              <a:t>Vl</a:t>
            </a:r>
            <a:r>
              <a:rPr b="1" lang="cs-CZ" sz="2900" spc="-1" strike="noStrike">
                <a:solidFill>
                  <a:srgbClr val="b23427"/>
                </a:solidFill>
                <a:latin typeface="Times New Roman"/>
              </a:rPr>
              <a:t>ádní návrh novely zákona</a:t>
            </a: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920" y="1363680"/>
            <a:ext cx="8642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j. k implementaci Novelizující směrn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vrh novely schválen 6.5. 2011 Poslaneckou sněmovnou (spolu s novelou zákona o kolektivním investová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dpokládané datum účinnosti novely podle původního návrhu je 1.7. 2011 (tedy rok před uplynutím lhůty pro implementa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50383-7A69-43F5-861F-9A97AF784C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000" y="498600"/>
            <a:ext cx="76867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b23427"/>
                </a:solidFill>
                <a:latin typeface="Times New Roman"/>
              </a:rPr>
              <a:t>Zvýšení limitu „wholesale exemption“</a:t>
            </a: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920" y="1363680"/>
            <a:ext cx="8642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výšení nejnižší jmenovité hodnoty z 50 000 EUR na 100 000 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tanovení o ochra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dchozího stavu (grandfathering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22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enné papíry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s jednotkovou h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dnot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ou alespoň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50 000 E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22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řijaté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k obchodování na regulovaném trhu v Uni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řed vstupem směrnice v platnost (tj. nejpozději 30.12. 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ši limitu nejnižší jmenovité hodnoty může změnit prováděcím opatřením Komi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zákoně již částka „wholesale exemption“ uvedena není – bude určována vládou nařízen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90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58F46-6B10-4E7C-BC7F-52B73A6B9A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000" y="498600"/>
            <a:ext cx="76867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b23427"/>
                </a:solidFill>
                <a:latin typeface="Times New Roman"/>
              </a:rPr>
              <a:t>Výjimky z povinnosti vypracovat prospekt</a:t>
            </a: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920" y="1363680"/>
            <a:ext cx="8642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pouští se výjimka z povinnosti v případech bezúplatné nabídky dosavadním akcionářům – již kryto výjimkou limitu celkové hodnoty protiplně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ě se rozšiřuje možno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bíze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nan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 cenné papíry vydávané za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navatelem, nebo osobo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e skupin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pokud již existuje dokument, který obsahov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rospektu odpovíd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kud je zaměstnavatel ze třetí země – je třeba ekvivalenční rozhodnutí Kom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4913B-3075-4360-93AF-D649DFB38E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000" y="498600"/>
            <a:ext cx="76867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b23427"/>
                </a:solidFill>
                <a:latin typeface="Times New Roman"/>
              </a:rPr>
              <a:t>Následná veřejná nabídka cenných papírů</a:t>
            </a: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363680"/>
            <a:ext cx="8642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23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chodník s cennými papíry, který činí následnou nabídku, nemusí zveřejnit prospekt poku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224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e k dispozici původní platný prospek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224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osoby odpovědné za obsah prospektu v něm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výslovně vyjádřily souhlas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s užitím prospektu i při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následné veřejné nabíd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43D39-C8CC-425F-85F9-52EB5D3546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000" y="498600"/>
            <a:ext cx="76867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b23427"/>
                </a:solidFill>
                <a:latin typeface="Times New Roman"/>
              </a:rPr>
              <a:t>Změna obsahu prospektu</a:t>
            </a: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920" y="1363680"/>
            <a:ext cx="8642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mplexní z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 v pojetí institutu shrnutí prospek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224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ově se zavádí termín „klíčové informace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224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k dalšímu sjednocení podoby a obsahu shrnutí prospektu vydá Komise prováděcí opatře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soba, která prospekt vypracovala, odpovídá také za to, že prospekt obsahuje všechny informace potřebné pro učinění rozhodnutí investora o vhodnosti zvažovaného cenného papí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7D744-D11A-4678-9C23-375F62D24C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000" y="498600"/>
            <a:ext cx="76867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b23427"/>
                </a:solidFill>
                <a:latin typeface="Times New Roman"/>
              </a:rPr>
              <a:t>Další změny</a:t>
            </a: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1363680"/>
            <a:ext cx="8642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23920" indent="-223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měna definice kvalifikovaného investora – nyní v souladu s MiFiD (obdobně se změna promítla rovněž do § 119c ZPKT upravujícím výjimky z informační povinnos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vyšuje se počet osob, kterým lze učinit nabídku bez nutnosti plnění prospektové povinnosti ze 100 na 150 os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mitenti nemusí v prospektu nadále uvádět informace o ručiteli, je-li jím členský stát 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tnost prospektu se bude nadále vázat nikoli na den jeho uv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j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í, ale na den jeho schválení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B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případně regulátorem v domovském členském stát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ově povinnost emitenta uveřejnit prospekt na „svých internetových stránkách“, nikoli obecně na „internetových stránkách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05991-A1A4-4316-AB0A-FF2CB4645C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06:31:14Z</dcterms:created>
  <dc:creator> </dc:creator>
  <dc:description> </dc:description>
  <cp:keywords/>
  <dc:language>en-US</dc:language>
  <cp:lastModifiedBy/>
  <dcterms:modified xsi:type="dcterms:W3CDTF">2011-05-17T06:31:14Z</dcterms:modified>
  <cp:revision>1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pClientMatter">
    <vt:lpwstr/>
  </property>
  <property fmtid="{D5CDD505-2E9C-101B-9397-08002B2CF9AE}" pid="3" name="cpCombinedRef">
    <vt:lpwstr>PRG-#952256-v1-PETV_-_prezentace.PPT</vt:lpwstr>
  </property>
  <property fmtid="{D5CDD505-2E9C-101B-9397-08002B2CF9AE}" pid="4" name="cpDocRef">
    <vt:lpwstr>PRG-#952256-v1-PETV_-_prezentace.PPT</vt:lpwstr>
  </property>
</Properties>
</file>