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FE7-E565-45D0-B217-C3817B07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427-CDBC-407C-B419-DF844B54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0EB-4921-4C1C-A202-CA237736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1FF-F8B7-4CAF-82B5-8228A24F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667B-8CA2-49C9-A2D5-D1D00C3E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3F3B-04A5-40AC-A6E6-B7FBEB91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994B-CB48-48A2-B5B9-222DE2BD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E0F5-FC6E-46A1-8AF5-B1286B8C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0E05-52DC-4DDA-A0C9-216B8C3D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48BA-F7FC-4847-87AC-81C816F9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4154-14B4-45C4-93B7-5A43C34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716-2A36-4595-9DF9-A5D7A1CA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24EF-38C2-48D1-8B9A-B0C1C63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30D8-0BBE-4750-A2BD-0FD2DA3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CEE9-BE94-457F-919B-978FD82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9B9B-AA14-460C-82C9-263176B7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9F72-3505-4B42-8114-1872D773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84A-B4E0-4857-BC12-1FCE3591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F79-3E00-4CFA-8673-7FF29FD5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E4C-AF76-42CB-9BCC-5D7D7023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F31-FA06-4B4E-9F94-7498C95A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7A1-1C06-4746-8B7A-93608D9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55D-2952-4D66-8D82-D40B9944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630-B4D8-49C5-9B79-D3F246F5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4C19-ABE5-4AAD-AB0D-76D0FDC111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398D-67E9-468E-8694-820E94049856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gfap.nbs/informacne-povinnos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bs.sk/sk/dohlad-nad-financnym-trhom/dohlad-nad-financnym-sprostredkovanim-a-financnym-poradenstvom/zosuladovacie-povinnosti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egfap.nbs.sk/skusky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005000"/>
            <a:ext cx="87087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3881"/>
                </a:solidFill>
                <a:latin typeface="Tahoma"/>
              </a:rPr>
              <a:t>Začína skúškové obdobie pre finančných sprostredkovateľov</a:t>
            </a: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479700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7f9bc0"/>
                </a:solidFill>
                <a:latin typeface="Tahoma"/>
              </a:rPr>
              <a:t>Ako bezpečne splniť podmienky nového zákona o finančnom sprostredkovaní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7f9bc0"/>
                </a:solidFill>
                <a:latin typeface="Tahoma"/>
              </a:rPr>
              <a:t>a poradenstve, problémy z praxe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805360"/>
            <a:ext cx="907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5. november 2010 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Slavomír Šťast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Hotel GRAND, Vysoké Tatry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868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3881"/>
                </a:solidFill>
                <a:latin typeface="Tahoma"/>
              </a:rPr>
              <a:t>Špecifické pravidlá pre kapitálový trh (§37)</a:t>
            </a:r>
            <a:endParaRPr b="1" lang="en-US" sz="30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85960"/>
            <a:ext cx="8136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nančný agent v sektore kapitálového trhu nie je oprávne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oskytovať inú investičnú službu ako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prijatie a postúpenie pokynu</a:t>
            </a: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investičné poradenstv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ijímať peňažné prostriedky alebo finančné nástroje klientov, t.j.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nesmie inkasovať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a finančného agenta v sektore KT sa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ahoma"/>
              </a:rPr>
              <a:t>nevzťahuj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všeobecné pravidlá (§ 28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oprávnenie získavať osobné údaje  a iné informácie (§ 31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poplatky a provízie (§ 32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posudzovanie klientov (§ 35)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vedenie záznamov (§ 36 ods. 1 až 6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284c6a"/>
                </a:solidFill>
                <a:latin typeface="Tahoma"/>
              </a:rPr>
              <a:t>Vzťahujú sa pravidlá zo ZoCP! - MiF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7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7B3-9E3A-4341-A2ED-3F68ACADA2D4}" type="slidenum">
              <a:rPr b="1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C8A-E8D9-479D-B81C-B850D5AC46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003881"/>
                </a:solidFill>
                <a:latin typeface="Tahoma"/>
              </a:rPr>
              <a:t>Informačná povinnosť voči NBS</a:t>
            </a:r>
            <a:endParaRPr b="1" lang="en-US" sz="3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eny údajov používaných v licenčnom kona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y vedúceho zamestna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ýkazy o vykonávaní čin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luvy s finančnými inštitúci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regfap.nbs/informacne-povinnost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- pripravuje 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AE7-6272-4336-9A64-367D0209E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ukazovanie zosúlaďovani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riadené subjekty preukazujú nadriadeným (správcovská spoločnosť, resp. samostatný finančný ag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amostatní finanční agenti preukazujú N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Elektronicky prostredníctvom internetovej aplikácie NBS (vybrané dokumenty písomn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ustenie v priebehu decemb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hlasovacie meno a heslo pridelené NB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www.nbs.sk/sk/dohlad-nad-financnym-trhom/dohlad-nad-financnym-sprostredkovanim-a-financnym-poradenstvom/zosuladovacie-povin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EA1-9050-428E-93AA-DA07BDCE5C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é skúšk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523-4B58-49D1-A544-5394E34AE2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á skúška a stupne odbornej spôsobilos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ľa zákona odbornú skúšku musia zložiť osoby, na ktoré sa vzťahu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tredný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naj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 s certifikát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upeň odbornej spôsobi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5FC-62E8-45C6-9262-9C9240796C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to má povinnosť vykonať skúšku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 ide o právnickú osobu, skúšku vykonáva štatutár, resp. vedúci zamestnane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Skúšku je potrebné opakovať každé štyri rok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001-C88D-4C2B-B8A2-59B4B6673C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orm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- pre stredný a 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len písomne (resp. elektronick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všetky otázky testovou formo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30 otázok, požadovaná úspešnosť 80% (24 otázok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stanovený čas je 40 minú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s certifikátom – pre naj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písomná časť – zhodná so skúškou na vyšší stupeň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ústna časť – po úspešnom absolvovaní písomnej časti skúšk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431-079C-4596-9F53-057445EE4E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ísomná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nadväzujú na okruhy osobitného finančného vzdelávani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rozdelené sú podľa sektora aj stupňa náročnost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pre každý sektor je vytvorených viac ako 200 otázo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každý test je tvorený 5 otázkami zo všeobecných znalostí finančného trhu a 25 otázkami zo sektor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všetky otázky spolu s odpoveďami, vrátane vyznačenej správnej odpovede, sú </a:t>
            </a:r>
            <a:r>
              <a:rPr b="1" lang="sk-SK" sz="2500" spc="-1" strike="noStrike">
                <a:solidFill>
                  <a:srgbClr val="000000"/>
                </a:solidFill>
                <a:latin typeface="Tahoma"/>
              </a:rPr>
              <a:t>zverejnené </a:t>
            </a: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na webe NB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E27-C57F-4636-8C8A-6B41B26969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stna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sa nezverejňujú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vychádzajú z okruhov definovaných v prílohe opatrenia NBS č. 9/2010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záujem je preveriť vedomosti uchádzačov aj prostredníctvom riešenia prípadových štúdi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kúšobná komisia bude mať k dispozícii tzv. „vzorové odpovede“ na jednotlivé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72B-133D-4DD8-B1A0-2AF7FFF74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ácia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BS poverila organizovaním skúšok pre stredný a vyšší stupeň externých organizátor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stredný stupeň: SBA, SLASPO, AOCP, AFISP, IB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vyšší stupeň: IB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najvyšší stupeň zabezpečí skúšky NBS vo vlastnej réž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aždý organizátor má poverenie vykonávať skúšky zo všetkých sektorov finančného tr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uchádzač o vykonanie skúšky si môže zvoliť, u ktorého organizátora skúšku vykon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656-0419-4BA6-9099-64E2074827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k-SK" sz="1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Čo znamená zosúladiť sa so záko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dborné skúš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Časté otázky dohliadaných subjekt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D22-E840-4AA0-A718-11DB724DC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ihlasovanie n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chádzač sa prihlási u ním zvoleného organizátora skúšky, a to určeným spôsobom a v stanovenom termí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ky pre stredný a vyšší stupeň už prebiehaj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najvyšší stupeň plánuje NBS do konca tohto roka vyhlásiť 2 termíny (predpoklad je dece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77C-0B95-4CEA-B6D7-4841244504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kúšky a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formácie o skúšk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regfap.nbs.sk/sku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rganizátor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termíny všetkých skúš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kúšané sekto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tázky na skúšku pre každý termín – zohľadnenie zmien legislatív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vičné tes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DA5-2F4E-4E10-9B86-63A147EACA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vičné testy na webe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ostavené z otázok aktuálnych pre vybraný termín skúš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ožnosť zvoliť sektor aj stupeň náročnos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ledovanie uplynulého ča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utomatické vyhodnotenie tes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ca 800 ukončených testov denne (maximum 1500 den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258-0ECE-4430-A328-425907FDF9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Cvičné testy NBS – údaje k 25.10.2010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1897200"/>
            <a:ext cx="597708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A71-333C-4469-8AF7-487AFBA89D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oplatky z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určuje poplatky za skúšku tak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redný stupeň a vyšší stupeň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vyšší stup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ísomná časť: 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stna časť: 6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02C-91A1-4222-9F3B-C2A756AC3F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chodné ustanovenia zákona a odborné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ákonné lehoty na splnenie požiadaviek odbornej spôsobilosti pre osoby, ktoré osoby, ktoré už vykonávajú činnosť sú nasledovn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3.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účely zákona o finančnom sprostredkovaní a poradenstve skúšky vykonané podľa doterajších predpisov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epl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6D4-4345-4750-A781-37B71EAAEB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Regulácia odborných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§ 21 a 22 zákona o finančnom sprostredkovaní a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o odbornej skúške a odbornej skúške s certifikátom na účely zákona o finančnom sprostredkovaní a finančnom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obný poriad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988-0F53-4895-A9DB-4C7C7E1687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íklad otáz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500" spc="-1" strike="noStrike">
                <a:solidFill>
                  <a:srgbClr val="000000"/>
                </a:solidFill>
                <a:latin typeface="Tahoma"/>
              </a:rPr>
              <a:t>Ktoré podielové fondy ukladajú väčšinu svojich aktív do podielových listov a akcií iných investičných fondov?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a) fondy fondov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b) dlhopisové fon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c) akciové fon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477-7DB1-488F-BD48-7D31051543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Časté otázky dohliadaných subjekto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5FB-29E4-4F4F-A9A1-FC446DC31D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 chce SFA zabezpečovať osobitné finančné vzdelávanie PFA, musí mať vo výpise z OR v predmete činnosti aj vzdelávanie, ak si toto vzdelávanie nefakturuje voči PF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ôže byť vedúci zamestnanec a štatutár tá istá osob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avidlá pre preukazovanie odbornej spôsobilosti subjektov, ktoré začnú činnosť vykonávať v roku 201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ôže finančný sprostredkovateľ z iného členského štátu registrovať „svojho“ PF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verejňovanie provízií / odmien. Kto je povinný zverejňovať / na požiadanie / odmeny? Aké pravidlá platia pre SFA, PFA, zamestnanca SFA? Je potrebné dokladovať výšku odmeny v prípade jej oznámenia klientovi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4D9-5212-492A-92F1-F1E6B7EBBF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osúlaďovan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právnenie na činn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Povolenie/registrá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dborná spôsobil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Dôveryhodn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rganizačné požiadavk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edúci zamestnane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Konflikt záuj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Conduct of business ru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Zodpovednosť za škod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Zverejňovanie provízi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Poskytovanie informácií klientov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Posudzovanie klient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Archivá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Informačná povinnosť voči NB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ahoma"/>
              </a:rPr>
              <a:t>Termín: 31.12.20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výnimkou je odborná spôsobilosť, kde sú lehoty </a:t>
            </a:r>
            <a:r>
              <a:rPr b="1" lang="sk-SK" sz="1400" spc="-1" strike="noStrike">
                <a:solidFill>
                  <a:srgbClr val="000000"/>
                </a:solidFill>
                <a:latin typeface="Tahoma"/>
              </a:rPr>
              <a:t>predĺžen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0DF-9DC3-4A7C-B4EB-ECB538EB91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7991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661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b8c8e"/>
                </a:solidFill>
                <a:latin typeface="Tahoma"/>
              </a:rPr>
              <a:t>slavomir.stastny@nbs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C81-489A-46BE-A26D-2B3E1B254E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utomatická transformácia „starých oprávnení“ na „nové oprávnenia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19640" y="3284640"/>
            <a:ext cx="176040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014-9223-44EE-80AD-ACC1DC67E6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Osoby, ktoré pred 1.1.2010 spolupracovali so sprostredkovateľom IS a majú záujem vykonávať činnosť aj po 1.1.2011 musia byť do 31.12.2010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zaregistrova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637080" y="3789360"/>
            <a:ext cx="1584360" cy="8636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908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7080" y="5445000"/>
            <a:ext cx="1800000" cy="8636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860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386064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soba spolupracujúca so 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551664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driadený finančný agent v sektore 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47973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236-6EDE-4B1D-853D-E3FAB79F6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má správcovská spoločnosť záujem využívať na distribúciu svojich produktov sprostredkovateľské siete, tieto musia byť zapísané v registri vedenom N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48000" y="3429000"/>
            <a:ext cx="2232000" cy="2881440"/>
            <a:chOff x="3348000" y="3429000"/>
            <a:chExt cx="2232000" cy="2881440"/>
          </a:xfrm>
        </p:grpSpPr>
        <p:sp>
          <p:nvSpPr>
            <p:cNvPr id="107" name=""/>
            <p:cNvSpPr/>
            <p:nvPr/>
          </p:nvSpPr>
          <p:spPr>
            <a:xfrm>
              <a:off x="4211640" y="429408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19640" y="5086440"/>
              <a:ext cx="1800000" cy="1224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0920" y="3502080"/>
              <a:ext cx="1440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0920" y="3632040"/>
              <a:ext cx="144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Arial"/>
                </a:rPr>
                <a:t>Správcovská spoločnos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0920" y="530208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Arial"/>
                </a:rPr>
                <a:t>viazaný finančný agent v sektore K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83280" y="443880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registrá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8000" y="3429000"/>
              <a:ext cx="165744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152-ADDD-4354-ACD9-DA3259F14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ákonné požiadav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á spôsobil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veryhod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rganizačné požiadav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edúci zamestnan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onduct of business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9FD-5B9A-4314-BBC7-90B54DAA41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ačné požiadavky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– vedúci zamestnanec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rávomoci a povinnosti (§ 25, vnútorný predpi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zodpovednosť 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o vnú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odpovednosť za podriadené zlož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porting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o plnení povinností kontroly nad podriadenými zložkami (§ 2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o vykonávaní funkcie vedúceho zamestna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3F4-74F2-40B0-AD1A-D7E8C588C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ačné požiadavky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– vedúci zamestnanec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2089080"/>
            <a:ext cx="7991280" cy="436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97D-6A11-492F-90ED-A584728053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54:05Z</dcterms:created>
  <dc:creator>Dana Gergelyová</dc:creator>
  <dc:description/>
  <dc:language>en-US</dc:language>
  <cp:lastModifiedBy>Dana Gergelyová</cp:lastModifiedBy>
  <dcterms:modified xsi:type="dcterms:W3CDTF">2010-10-27T13:48:41Z</dcterms:modified>
  <cp:revision>8</cp:revision>
  <dc:subject/>
  <dc:title>Slide 1</dc:title>
</cp:coreProperties>
</file>