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44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912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288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440" y="936288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D2FE-C419-4A55-9D6F-BD60A1A5CD7A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9120" cy="3695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Zástupný symbol čísla snímky 3"/>
          <p:cNvSpPr/>
          <p:nvPr/>
        </p:nvSpPr>
        <p:spPr>
          <a:xfrm>
            <a:off x="3844800" y="936324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CF4F-D5E9-4AE4-9A1D-E7A4780F8BF5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4800" y="936324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03DC-2867-46E4-9291-2B358620A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9120" cy="3695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4800" y="936324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8A3A-C261-4204-9F73-309CEA3580DA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8800" y="73656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5040" y="4680000"/>
            <a:ext cx="497520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60840" rIns="60840" tIns="30600" bIns="306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Investičný cieľ klienta by sa mal zhodovať s investičným cieľom riešenia, ktoré si zvolil. Na prvý pohľad to vyzerá ako samozrejmosť, avšak v praxi sa stretávame s tým, že klient má nevyhovujúce portfólio. Aby sme vedeli priradiť klientovi vhodné portfólio, potrebujeme poznať jeho pohľad na výnos, ktorý  ho uspokojí, riziko, ktoré je ochotný niesť a investičný horizont, počas ktorého má voľné peniaze. Túto analýzu v podstate dnes vie urobiť každý zodpovedný poradca, čo je však náročnejšie je poznanie portfólia, ktoré klientovi následne odporučí. Poznáte portfólio, ktoré klientovi doporučujete? Viete posúdiť, či výnos a riziko portfólia je v súlade s očakávaním klienta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6E5-8B7A-4814-BC05-348F4301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AF5-F8D6-4163-B19E-5321E530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07B-43F6-4F89-9AD8-C29B8AB1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5E0-B7EA-4F97-B42C-9D91ED19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188-5031-430E-94D6-A140170F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6CC-8CEA-44E2-8EA2-F7E22921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6147-1705-41CC-A12A-F55255AE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CEE-B8E4-4D5B-8084-C84EA272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E010-204B-4775-A0DA-DB40D3CF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D14-3AF7-48CD-8817-31C692AC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0350-549A-448A-92D3-70504B1F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615-0BC1-40DE-8F50-02988A4D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0DA5-08D5-4C2F-833E-008532057D4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hyperlink" Target="http://ssrn.com/abstract=1629786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14240" y="85716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Times New Roman"/>
              </a:rPr>
              <a:t>Vývoj na akciových trho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Times New Roman"/>
              </a:rPr>
              <a:t>včera dnes a zajt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arek Prokopec, C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tra Asset Management                                         6.11.20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Value a Momentum konce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\\sbacfshome\homedirs\TB02157\My Documents\My Pictures\cumulative12.gif"/>
          <p:cNvPicPr/>
          <p:nvPr/>
        </p:nvPicPr>
        <p:blipFill>
          <a:blip r:embed="rId1"/>
          <a:stretch/>
        </p:blipFill>
        <p:spPr>
          <a:xfrm>
            <a:off x="685800" y="2133720"/>
            <a:ext cx="7620120" cy="4038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285840" y="625788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„Value and Momentum Everywhere“ Moskowitz, Pedersen A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Distribúcia kapitaliz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928800" y="6396120"/>
            <a:ext cx="59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ackStar F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143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Motivácia vs výsled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3"/>
          <p:cNvGraphicFramePr/>
          <p:nvPr/>
        </p:nvGraphicFramePr>
        <p:xfrm>
          <a:off x="762120" y="1981080"/>
          <a:ext cx="76197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6197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4"/>
          <p:cNvSpPr/>
          <p:nvPr/>
        </p:nvSpPr>
        <p:spPr>
          <a:xfrm>
            <a:off x="838080" y="6095880"/>
            <a:ext cx="594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“Behavioral Portfolio Analysis of Individual Investors”</a:t>
            </a:r>
            <a:r>
              <a:rPr b="1" lang="sk-SK" sz="1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 Arvid Hoffmann, Hersh Shefrin and Joost Pen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čísla snímky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7DB0-63B2-47A8-91D7-9130A42D1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Časovanie trhu - real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1001880" y="2133720"/>
          <a:ext cx="683568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2133720"/>
                    <a:ext cx="683568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285840" y="625788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„Quantitative Analysis of Investor Behavior“ Dal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sdaq Leadershi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Zástupný symbol čísla snímky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D17D-5052-4F3A-836A-76DA03CCF3DF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hart 3" descr=""/>
          <p:cNvPicPr/>
          <p:nvPr/>
        </p:nvPicPr>
        <p:blipFill>
          <a:blip r:embed="rId1"/>
          <a:stretch/>
        </p:blipFill>
        <p:spPr>
          <a:xfrm>
            <a:off x="281160" y="1639800"/>
            <a:ext cx="8369280" cy="4589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285840" y="625788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Tatra Asse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NL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model</a:t>
            </a: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 kriv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Zástupný symbol čísla snímky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93A2-E14D-4E13-980E-A8E07E2BFC72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Chart 3" descr=""/>
          <p:cNvPicPr/>
          <p:nvPr/>
        </p:nvPicPr>
        <p:blipFill>
          <a:blip r:embed="rId1"/>
          <a:stretch/>
        </p:blipFill>
        <p:spPr>
          <a:xfrm>
            <a:off x="317520" y="1620720"/>
            <a:ext cx="8442360" cy="4462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285840" y="625788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Tatra Asse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E497-A2B2-4399-BA4A-9B55F7B28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Horizon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00120" y="1714680"/>
            <a:ext cx="640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Intraday (daytr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Ultra krátkodobý (do rok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Krátkodobý (1 rok až 3 rok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Strednodobý (3 až 5 rok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Dlhodobý (5 roky a 10 rok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Ultra long term (10 a viac rok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Investičné odporúčanie/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Kvalita odporúč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Súlad investičnej rady s investičným horizon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Emócie (chamtivosť a stra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3652-3C9F-433C-9A84-B11919FD6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1523880" y="1523880"/>
          <a:ext cx="54864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54864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3"/>
          <p:cNvSpPr/>
          <p:nvPr/>
        </p:nvSpPr>
        <p:spPr>
          <a:xfrm>
            <a:off x="343080" y="304920"/>
            <a:ext cx="7962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00000"/>
              </a:buClr>
              <a:buSzPct val="115000"/>
              <a:buFont typeface="Times New Roman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Times New Roman"/>
              </a:rPr>
              <a:t>Investičný gu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523880" y="66294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194e7d"/>
                </a:solidFill>
                <a:latin typeface="Times New Roman"/>
              </a:rPr>
              <a:t>Zdroj: </a:t>
            </a:r>
            <a:r>
              <a:rPr b="0" lang="en-US" sz="1000" spc="-1" strike="noStrike">
                <a:solidFill>
                  <a:srgbClr val="194e7d"/>
                </a:solidFill>
                <a:latin typeface="Times New Roman"/>
              </a:rPr>
              <a:t>www.cxoadviso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Dlhodobý vývo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071720" y="1571760"/>
            <a:ext cx="6984720" cy="4537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571680" y="625788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„Global Investment Returns Yearbook 2010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, Dimson, Marsh and Stau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Kapitálový trh – čo to vlastne j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Miesto, na ktorom sa obchoduje s kapitál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Mimoriadne efektívny spôsob obchodovania s podnikaní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Nie je ru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Čo je dôležit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Zo strednodobého pohľadu (3 až 7 rokov) je rozhodujú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Ocenenie akciových trhov (drahé vs lacn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Odchýlka od dlhodobých trendov akciových index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1. dôležitý fak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1680" y="6357960"/>
            <a:ext cx="75722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„Global Investment Returns Yearbook 2010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, Dimson, Marsh and Staunton, Tatra Asse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1071720" y="1928880"/>
            <a:ext cx="69292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2. dôležitý fak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71680" y="635796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„Global Investment Returns Yearbook 2010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, Dimson, Marsh and Stau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65721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Atraktivita akcií (3 až 7 rokov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838080" y="1905120"/>
            <a:ext cx="65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8305920" cy="4624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285840" y="642924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Tatra Asse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Čo s tý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Atraktívne“ akcie = vysoké zastúpenie trhových (BETA) riešení s akciovou expozíci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ebezpečné“ akcie = vysoký podiel chránených riešení s akciovou expozíci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DA40-FDBB-40E6-A6F4-E15BD5888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Risk-return po obdobi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28760" y="171468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rhové (Be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ieš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40% ak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60% dlhopi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786200" y="1714680"/>
            <a:ext cx="385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rhové (Beta) + Aktívne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(trendovo chránené rizikovo paritné)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ieš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500800" y="2786040"/>
          <a:ext cx="2357280" cy="1298520"/>
        </p:xfrm>
        <a:graphic>
          <a:graphicData uri="http://schemas.openxmlformats.org/drawingml/2006/table">
            <a:tbl>
              <a:tblPr/>
              <a:tblGrid>
                <a:gridCol w="695160"/>
                <a:gridCol w="933480"/>
                <a:gridCol w="728640"/>
              </a:tblGrid>
              <a:tr h="221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21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28" name="Text Box 6"/>
          <p:cNvSpPr/>
          <p:nvPr/>
        </p:nvSpPr>
        <p:spPr>
          <a:xfrm>
            <a:off x="285840" y="625788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Tatra Asse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428760" y="4214880"/>
            <a:ext cx="83185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Ideá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57200" y="21258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66"/>
                </a:solidFill>
                <a:latin typeface="Tahoma"/>
              </a:rPr>
              <a:t>Inve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724280" y="19954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66"/>
                </a:solidFill>
                <a:latin typeface="Tahoma"/>
              </a:rPr>
              <a:t>Parametre portfó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33520" y="2654280"/>
            <a:ext cx="3200400" cy="1508760"/>
          </a:xfrm>
          <a:prstGeom prst="rect">
            <a:avLst/>
          </a:prstGeom>
          <a:solidFill>
            <a:srgbClr val="ebeacf"/>
          </a:solidFill>
          <a:ln w="38160">
            <a:solidFill>
              <a:srgbClr val="8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888374"/>
                </a:solidFill>
                <a:latin typeface="Tahoma"/>
              </a:rPr>
              <a:t>Investičný cie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888374"/>
                </a:solidFill>
                <a:latin typeface="Tahoma"/>
              </a:rPr>
              <a:t>zhodnotenie/rizi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888374"/>
                </a:solidFill>
                <a:latin typeface="Tahoma"/>
              </a:rPr>
              <a:t>Obmedzeni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888374"/>
                </a:solidFill>
                <a:latin typeface="Tahoma"/>
              </a:rPr>
              <a:t>investičný horizo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5486400" y="2540160"/>
            <a:ext cx="3200400" cy="1777680"/>
          </a:xfrm>
          <a:prstGeom prst="ellipse">
            <a:avLst/>
          </a:prstGeom>
          <a:solidFill>
            <a:srgbClr val="e5e5ff"/>
          </a:solidFill>
          <a:ln w="381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638680" y="3063960"/>
            <a:ext cx="3200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3366"/>
                </a:solidFill>
                <a:latin typeface="Tahoma"/>
              </a:rPr>
              <a:t>riziko, výnos</a:t>
            </a:r>
            <a:r>
              <a:rPr b="1" lang="sk-SK" sz="2400" spc="-1" strike="noStrike">
                <a:solidFill>
                  <a:srgbClr val="003366"/>
                </a:solidFill>
                <a:latin typeface="Tahoma"/>
              </a:rPr>
              <a:t>              </a:t>
            </a:r>
            <a:r>
              <a:rPr b="1" lang="sk-SK" sz="2000" spc="-1" strike="noStrike">
                <a:solidFill>
                  <a:srgbClr val="003366"/>
                </a:solidFill>
                <a:latin typeface="Tahoma"/>
              </a:rPr>
              <a:t>investičný horiz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228600" y="4648320"/>
            <a:ext cx="8686800" cy="0"/>
          </a:xfrm>
          <a:prstGeom prst="line">
            <a:avLst/>
          </a:prstGeom>
          <a:ln w="1238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3733920" y="4724280"/>
            <a:ext cx="1981080" cy="1447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368960" y="287964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000" spc="-1" strike="noStrike">
                <a:solidFill>
                  <a:srgbClr val="003366"/>
                </a:solidFill>
                <a:latin typeface="Tahoma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Dôleži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Na výnose zálež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Na riziku zálež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Nenechať rozhodovať emó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Trhy – historický vývoj 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Trhy – Sv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09480" y="6234120"/>
            <a:ext cx="6477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Times New Roman"/>
              </a:rPr>
              <a:t>Zdroj: „Global Investment Returns Yearbook 2010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, Dimson, Marsh and Staun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Trhy a horizo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30,10,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85840" y="1571760"/>
            <a:ext cx="8429400" cy="51433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500040" y="6397560"/>
            <a:ext cx="59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Zdroj: „Stocks for the long run“  Jeremy Sie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Akcie vs ekonomi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73738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Otáčanie z rece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Pri otáčaní z ekonomických recesií akciový trh predbieha ekonomiku v priemere o 4,8 mesi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Akciové indexy v tomto období vzrástli v priemere 22,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57160" y="6397560"/>
            <a:ext cx="59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Zdroj: „Stocks for the long run“  Jeremy Sie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Zdroje výnos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71800"/>
            <a:ext cx="777240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Tr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2. Aktívna sprá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Časovanie tr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ýber „lepších“ cenných papier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3. Náh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8"/>
          <p:cNvSpPr/>
          <p:nvPr/>
        </p:nvSpPr>
        <p:spPr>
          <a:xfrm>
            <a:off x="324000" y="1628640"/>
            <a:ext cx="3504960" cy="44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SzPct val="110000"/>
              <a:buFont typeface="Times New Roman"/>
              <a:buChar char="°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73260"/>
                </a:solidFill>
                <a:latin typeface="Times New Roman"/>
              </a:rPr>
              <a:t>12-3:</a:t>
            </a:r>
            <a:r>
              <a:rPr b="0" lang="sk-SK" sz="1800" spc="-1" strike="noStrike">
                <a:solidFill>
                  <a:srgbClr val="073260"/>
                </a:solidFill>
                <a:latin typeface="Times New Roman"/>
              </a:rPr>
              <a:t> vysoké očakávania, spoločnosť negatívne prekvapuje, analytici revidujú čís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SzPct val="110000"/>
              <a:buFont typeface="Times New Roman"/>
              <a:buChar char="°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73260"/>
                </a:solidFill>
                <a:latin typeface="Times New Roman"/>
              </a:rPr>
              <a:t>3-6:</a:t>
            </a:r>
            <a:r>
              <a:rPr b="0" lang="sk-SK" sz="1800" spc="-1" strike="noStrike">
                <a:solidFill>
                  <a:srgbClr val="073260"/>
                </a:solidFill>
                <a:latin typeface="Times New Roman"/>
              </a:rPr>
              <a:t> očakávania výrazne padajú do bodu, kedy všetky zlé správy su v ocenení, spoločnosť sa stáva ignorovan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SzPct val="110000"/>
              <a:buFont typeface="Times New Roman"/>
              <a:buChar char="°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7326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73260"/>
                </a:solidFill>
                <a:latin typeface="Times New Roman"/>
              </a:rPr>
              <a:t>6-9:</a:t>
            </a:r>
            <a:r>
              <a:rPr b="0" lang="sk-SK" sz="1800" spc="-1" strike="noStrike">
                <a:solidFill>
                  <a:srgbClr val="073260"/>
                </a:solidFill>
                <a:latin typeface="Times New Roman"/>
              </a:rPr>
              <a:t> VALUE oblasť, ocenenie je priaznivé, spoločnosť pozitívne prekvapuje, analytici zvyšujú odh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SzPct val="110000"/>
              <a:buFont typeface="Times New Roman"/>
              <a:buChar char="°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73260"/>
                </a:solidFill>
                <a:latin typeface="Times New Roman"/>
              </a:rPr>
              <a:t>9-12:</a:t>
            </a:r>
            <a:r>
              <a:rPr b="0" lang="sk-SK" sz="1800" spc="-1" strike="noStrike">
                <a:solidFill>
                  <a:srgbClr val="073260"/>
                </a:solidFill>
                <a:latin typeface="Times New Roman"/>
              </a:rPr>
              <a:t> MOMENTUM oblasť, rast ziskov a ceny na trh až do bodu, kedy každý takmer investor pozná a vlastní spoločnosť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SzPct val="110000"/>
              <a:buFont typeface="Times New Roman"/>
              <a:buChar char="°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857760" y="1928880"/>
            <a:ext cx="5126040" cy="4286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Cyklus akcie – investičné hodiny (map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2:09:52Z</dcterms:created>
  <dc:creator>tb02157</dc:creator>
  <dc:description/>
  <dc:language>en-US</dc:language>
  <cp:lastModifiedBy>tb02157</cp:lastModifiedBy>
  <dcterms:modified xsi:type="dcterms:W3CDTF">2010-10-29T14:02:09Z</dcterms:modified>
  <cp:revision>143</cp:revision>
  <dc:subject/>
  <dc:title>Slide 1</dc:title>
</cp:coreProperties>
</file>