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FCC71-DB73-4F98-863F-B0DF0D2FFD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920" y="3840120"/>
            <a:ext cx="86421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C18F4-DBBC-4382-850B-B21D1D9C19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92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716BB-AEE1-4EC7-ABD6-0EA84D5841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3040" y="134100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0" y="134100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920" y="384012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3040" y="384012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4800" y="384012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F76E4-3EC9-473E-9897-C0ACD2D606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5092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DD274-1AAF-4DAF-B830-EDE97D450B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928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50920" y="3840120"/>
            <a:ext cx="86421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50920" y="3840120"/>
            <a:ext cx="86421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92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928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73040" y="134100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0" y="134100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50920" y="384012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73040" y="384012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4800" y="384012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6F570-F06D-4E25-AE9C-7A5E8BFC30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7B2BC-7074-4366-8BF4-16415B1FD3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7F1A3-98FA-43A1-80E1-5FF34268F9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7D73C-EF47-4955-9CBD-F5329FB852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92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1905C-6395-4F5D-8C40-5BD1EC7EFC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8E8DA-9D4C-4F8F-8DB0-F20280E564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840120"/>
            <a:ext cx="86421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1DB8C-DC8E-4444-AE3A-C2D2C2B3DE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C:\Users\Fadrique\AppData\Local\Temp\wzfdd0\ISP_Linea Orizzontale\ISP_lineaOrizz.jpg"/>
          <p:cNvPicPr/>
          <p:nvPr/>
        </p:nvPicPr>
        <p:blipFill>
          <a:blip r:embed="rId2"/>
          <a:stretch/>
        </p:blipFill>
        <p:spPr>
          <a:xfrm>
            <a:off x="209520" y="6076800"/>
            <a:ext cx="8639280" cy="16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ff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ff66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ff66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066920" y="6308280"/>
            <a:ext cx="1035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58C8-8604-46F5-B353-95EBEFE576F9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Obrázok 8" descr="VUB_asset man.bmp"/>
          <p:cNvPicPr/>
          <p:nvPr/>
        </p:nvPicPr>
        <p:blipFill>
          <a:blip r:embed="rId3"/>
          <a:stretch/>
        </p:blipFill>
        <p:spPr>
          <a:xfrm>
            <a:off x="324000" y="6294600"/>
            <a:ext cx="2533680" cy="42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7" descr="Obrázok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8" descr="VUB_asset man.bmp"/>
          <p:cNvPicPr/>
          <p:nvPr/>
        </p:nvPicPr>
        <p:blipFill>
          <a:blip r:embed="rId3"/>
          <a:stretch/>
        </p:blipFill>
        <p:spPr>
          <a:xfrm>
            <a:off x="276120" y="500040"/>
            <a:ext cx="4726080" cy="785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ff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ff66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ff66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Aká je budúcnosť kolektívneho investovania na Slovensku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50560" y="4707000"/>
            <a:ext cx="75214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arian Matušovič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dseda predstavenstva, VÚB Asset 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Jasná Nízke Tatry, 5.</a:t>
            </a:r>
            <a:r>
              <a:rPr b="0" lang="sk-SK" sz="1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ovember, 201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Zástupný symbol čísla snímky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BBFF-2EE5-478E-977B-D1B5B3F46AF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ýsledky prieskum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1280" y="928800"/>
            <a:ext cx="8607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3./ Počet registrovaných správcovských spoločností v Európe sa v horizonte</a:t>
            </a:r>
            <a:br>
              <a:rPr sz="1600"/>
            </a:b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      5 rokov zo súčasného počtu približne 2500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2"/>
          <p:cNvGraphicFramePr/>
          <p:nvPr/>
        </p:nvGraphicFramePr>
        <p:xfrm>
          <a:off x="6500880" y="1714680"/>
          <a:ext cx="928800" cy="92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00880" y="1714680"/>
                    <a:ext cx="92880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3"/>
          <p:cNvGraphicFramePr/>
          <p:nvPr/>
        </p:nvGraphicFramePr>
        <p:xfrm>
          <a:off x="7072200" y="3643200"/>
          <a:ext cx="11430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72200" y="3643200"/>
                    <a:ext cx="11430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BlokTextu 8"/>
          <p:cNvSpPr/>
          <p:nvPr/>
        </p:nvSpPr>
        <p:spPr>
          <a:xfrm>
            <a:off x="71280" y="3344760"/>
            <a:ext cx="771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4./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Počet domácich správcovských spoločností na Slovensku sa v horizonte 5 rokov zo súčasného počtu 8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71680" y="1571760"/>
          <a:ext cx="8001000" cy="1643040"/>
        </p:xfrm>
        <a:graphic>
          <a:graphicData uri="http://schemas.openxmlformats.org/drawingml/2006/table">
            <a:tbl>
              <a:tblPr/>
              <a:tblGrid>
                <a:gridCol w="7072200"/>
                <a:gridCol w="928800"/>
              </a:tblGrid>
              <a:tr h="33804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výš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32220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stane približne rovnak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,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32220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klesne, ale zostane nad hranicou 2000 správcovských     spoločností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,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32220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klesne pod hranicu 2000 správcovských spoločnost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,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33840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yjadrujem 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solidFill>
                      <a:srgbClr val="00703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571680" y="4071960"/>
          <a:ext cx="8001000" cy="1714320"/>
        </p:xfrm>
        <a:graphic>
          <a:graphicData uri="http://schemas.openxmlformats.org/drawingml/2006/table">
            <a:tbl>
              <a:tblPr/>
              <a:tblGrid>
                <a:gridCol w="7072200"/>
                <a:gridCol w="928800"/>
              </a:tblGrid>
              <a:tr h="352440">
                <a:tc>
                  <a:txBody>
                    <a:bodyPr lIns="72000" rIns="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výš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336600">
                <a:tc>
                  <a:txBody>
                    <a:bodyPr lIns="72000" rIns="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stane rovnak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,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336600">
                <a:tc>
                  <a:txBody>
                    <a:bodyPr lIns="72000" rIns="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stane aspoň 5 správcovských spoločno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,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336240">
                <a:tc>
                  <a:txBody>
                    <a:bodyPr lIns="72000" rIns="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stane menej ako 4 správcovské spoločno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352440">
                <a:tc>
                  <a:txBody>
                    <a:bodyPr lIns="72000" rIns="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yjadrujem 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solidFill>
                      <a:srgbClr val="00703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Zástupný symbol čísla snímky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74B0-9F28-498E-ABB7-874B8DB8B6C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920" y="142920"/>
            <a:ext cx="8642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ýsledky prieskum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2"/>
          <p:cNvGraphicFramePr/>
          <p:nvPr/>
        </p:nvGraphicFramePr>
        <p:xfrm>
          <a:off x="7643880" y="3000240"/>
          <a:ext cx="6858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43880" y="300024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3"/>
          <p:cNvSpPr/>
          <p:nvPr/>
        </p:nvSpPr>
        <p:spPr>
          <a:xfrm>
            <a:off x="71280" y="785880"/>
            <a:ext cx="8607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5./ Ktoré z uvedených trendov v oblasti KI budú s najväčšou pravdepodobnosťou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podľa Vášho názoru v blízkej budúcnosti realizované na Slovensku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85840" y="1428840"/>
          <a:ext cx="8501040" cy="4572000"/>
        </p:xfrm>
        <a:graphic>
          <a:graphicData uri="http://schemas.openxmlformats.org/drawingml/2006/table">
            <a:tbl>
              <a:tblPr/>
              <a:tblGrid>
                <a:gridCol w="7572240"/>
                <a:gridCol w="928800"/>
              </a:tblGrid>
              <a:tr h="22680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ácia novej legislatívy snažiaca sa zvýšiť ochranu investorov a prísnejšej regulác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,8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1744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zácia programov na  zvýšenie finančnej gramotnosti obyvateľstva zabezpečovaná štát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,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1600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výšenie rizikovej averzie investoro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6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44460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výšený záujem o fondy, ktoré zabezpečia 100% ochranu vloženého kapitálu a predvídateľnú, hoci aj nižšiu výkonnos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,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42228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výšený záujem o fondy s „optimálnym rozložením investícií“, bez zabezpečenia 100% ochrany  vloženého kapitá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,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43488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upné znižovanie dominancie peňažných fondov v prospech fondov z vyšším rizikovým profilom (dlhopisové, zmiešané, akciové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,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41112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upné zvyšovanie investícií do fondov spravovaných zahraničnými správcovskými spoločnosťa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,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1600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šenie vstupných poplatko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1744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ižovanie správcovských poplatko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1744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vedenie správcovských poplatkov závislých od dosiahnutej  výkonnos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,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1600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írenie nových sporiacich schém a zvýšená podpora ich preda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,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45396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výšenie záujmu o investície do fondov a sporiace schémy z dôvodu nedôvery obyvateľstva voči schopnosti  štátu zabezpečiť primerané dôchodky, resp. potreby spori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1744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íženie záujmu investorov o fondy v prospech ETF, dlhopisov, akcií a iných C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1600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výšenie distribúcie fondov prostredníctvom interne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,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1744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upné znižovanie dominancie distribúcie fondov prostredníctvom pobočiek bá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2716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é: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solidFill>
                      <a:srgbClr val="00703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Zástupný symbol čísla snímky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9770-B53B-4FBA-9F0A-826F796D8FB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71280"/>
            <a:ext cx="8642160" cy="7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ýsledky prieskum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2920" y="713880"/>
            <a:ext cx="867888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6./ Akú výšku podielu dosiahnu podľa Vášho názoru  na Slovensku v horizonte 5 rokov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investície do fondov od inštitucionálnych investorov  voči retailovým investorom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odhad súčasného pomeru v SR je cca 10:90 v prospech retailových investorov,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pričom v Európe bol na konci roka 2008 pomer 34:66 v prospech inšt. klientov)?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BlokTextu 6"/>
          <p:cNvSpPr/>
          <p:nvPr/>
        </p:nvSpPr>
        <p:spPr>
          <a:xfrm>
            <a:off x="142920" y="3357720"/>
            <a:ext cx="8643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7./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Očakávate v horizonte 5 rokov na Slovensku zvýšenie objemu fondov spravovaných zahraničnými správcovskými spoločnosťami vo vlastníctve slovenských investorov (ku koncu roka 2009 bol tento pomer  17,2 % : 82,8 % v prospech domácich správcov)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71680" y="1785960"/>
          <a:ext cx="8072280" cy="1500120"/>
        </p:xfrm>
        <a:graphic>
          <a:graphicData uri="http://schemas.openxmlformats.org/drawingml/2006/table">
            <a:tbl>
              <a:tblPr/>
              <a:tblGrid>
                <a:gridCol w="7081560"/>
                <a:gridCol w="990720"/>
              </a:tblGrid>
              <a:tr h="30780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mer zostane približne 90:10 v prospech retailových investor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,8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9556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mer bude približne   75:25 v prospech retailových investorov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,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9340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mer bude približne   60:40 v prospech retailových investor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9556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mer sa vymení v prospech inštitucionálnych investor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30780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yjadrujem 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solidFill>
                      <a:srgbClr val="00703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571680" y="4500720"/>
          <a:ext cx="8072280" cy="1500120"/>
        </p:xfrm>
        <a:graphic>
          <a:graphicData uri="http://schemas.openxmlformats.org/drawingml/2006/table">
            <a:tbl>
              <a:tblPr/>
              <a:tblGrid>
                <a:gridCol w="7081560"/>
                <a:gridCol w="990720"/>
              </a:tblGrid>
              <a:tr h="30780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čakávam zmenu, t.j. pomer ostane približne 20: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,8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9520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čakávam pomer približne 30: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,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9376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čakávam pomer približne 40: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,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9520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čakávam, že zahraniční správcovia budú spravovať viac ako domá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30816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yjadrujem 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solidFill>
                      <a:srgbClr val="00703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Zástupný symbol čísla snímky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85D4-ADA9-472A-A0C6-D66E2F16149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ýsledky prieskum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2"/>
          <p:cNvGraphicFramePr/>
          <p:nvPr/>
        </p:nvGraphicFramePr>
        <p:xfrm>
          <a:off x="7643880" y="2214720"/>
          <a:ext cx="6858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43880" y="22147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3"/>
          <p:cNvGraphicFramePr/>
          <p:nvPr/>
        </p:nvGraphicFramePr>
        <p:xfrm>
          <a:off x="7859880" y="2430360"/>
          <a:ext cx="6858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59880" y="243036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4"/>
          <p:cNvGraphicFramePr/>
          <p:nvPr/>
        </p:nvGraphicFramePr>
        <p:xfrm>
          <a:off x="7715160" y="4357800"/>
          <a:ext cx="828720" cy="82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15160" y="4357800"/>
                    <a:ext cx="82872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BlokTextu 10"/>
          <p:cNvSpPr/>
          <p:nvPr/>
        </p:nvSpPr>
        <p:spPr>
          <a:xfrm>
            <a:off x="71280" y="3416400"/>
            <a:ext cx="864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00" indent="-2876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9./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Implementácia UCITS IV bude podľa Vášho názoru pre slovenské správcovské spoločnosti, ktoré sú súčasťou zahraničných finančných skupín znamenať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BlokTextu 11"/>
          <p:cNvSpPr/>
          <p:nvPr/>
        </p:nvSpPr>
        <p:spPr>
          <a:xfrm>
            <a:off x="142920" y="812880"/>
            <a:ext cx="857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8./ S akou mierou pravdepodobnosti očakávate, že medzinárodné finančné skupiny môžu vytvoriť na Slovensku kompetenčné centrum na podporu fondového biznisu v CEE, resp.  na Slovensku centralizovať aspoň časť súvisiacich činností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28760" y="1643040"/>
          <a:ext cx="8286480" cy="1641600"/>
        </p:xfrm>
        <a:graphic>
          <a:graphicData uri="http://schemas.openxmlformats.org/drawingml/2006/table">
            <a:tbl>
              <a:tblPr/>
              <a:tblGrid>
                <a:gridCol w="7269120"/>
                <a:gridCol w="1017360"/>
              </a:tblGrid>
              <a:tr h="30816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lím si, že Slovensko by mohlo mať ambíciu stať sa centrom fondového biznisu v C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9520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čakávam, že niekoľko finančných skupín kompetenčné centrum vytvor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9376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čakávam, že aspoň jedna finančná skupina kompetenčné centrum vytvor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,8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43632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važujem to za nemožné a skôr očakávam postupný zánik domácich správcovských spoločnost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30816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yjadrujem 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solidFill>
                      <a:srgbClr val="00703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428760" y="4003560"/>
          <a:ext cx="8286480" cy="1997280"/>
        </p:xfrm>
        <a:graphic>
          <a:graphicData uri="http://schemas.openxmlformats.org/drawingml/2006/table">
            <a:tbl>
              <a:tblPr/>
              <a:tblGrid>
                <a:gridCol w="7269120"/>
                <a:gridCol w="1017360"/>
              </a:tblGrid>
              <a:tr h="30816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kračovanie spolupráce zhruba v dnešnom rozsah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64908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znamné rozšírenie outsourcingu vybraných činností do zahraničných centrál najmä v oblastiach, ako vývoj produktov, portfólio manažment, risk manažment, koordinácia v oblasti podpory predaja a marketingu a podob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,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9556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ý obchodný model so zameraním na master - feeder štruktú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,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43632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ý obchodný model so zameraním na cezhraničné zlučovanie fondov s postupným ukončením činnosti slovenskej správcovskej spoločno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30816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yjadrujem s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solidFill>
                      <a:srgbClr val="00703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čísla snímky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B0F3-9616-4599-85F5-E4EDBB3FD62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bsa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1800" indent="-182520">
              <a:spcBef>
                <a:spcPts val="1001"/>
              </a:spcBef>
              <a:spcAft>
                <a:spcPts val="1800"/>
              </a:spcAft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Špecifiká odvetvia správy aktív na Slovens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12800" indent="-169920">
              <a:spcBef>
                <a:spcPts val="400"/>
              </a:spcBef>
              <a:spcAft>
                <a:spcPts val="1800"/>
              </a:spcAft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hľad trhovej kapitalizácie vybraných krajín C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12800" indent="-169920">
              <a:spcBef>
                <a:spcPts val="400"/>
              </a:spcBef>
              <a:spcAft>
                <a:spcPts val="1800"/>
              </a:spcAft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ategorizácia fond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12800" indent="-169920">
              <a:spcBef>
                <a:spcPts val="400"/>
              </a:spcBef>
              <a:spcAft>
                <a:spcPts val="1800"/>
              </a:spcAft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brané ukazovatele správcovských spoločnos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12800" indent="-169920">
              <a:spcBef>
                <a:spcPts val="400"/>
              </a:spcBef>
              <a:spcAft>
                <a:spcPts val="1800"/>
              </a:spcAft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odiel AUM fondov spravovaný domácimi a zahraničnými správc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spcBef>
                <a:spcPts val="1001"/>
              </a:spcBef>
              <a:spcAft>
                <a:spcPts val="1800"/>
              </a:spcAft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ýsledky priesku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Zástupný symbol čísla snímky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8D91-2040-443F-B67A-1EFBD3851EF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920" y="1411200"/>
            <a:ext cx="8642160" cy="35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1800" indent="-358560">
              <a:spcBef>
                <a:spcPts val="1125"/>
              </a:spcBef>
              <a:spcAft>
                <a:spcPts val="1800"/>
              </a:spcAft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erozvinutý a nelikvidný domáci kapitálový tr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58560">
              <a:spcBef>
                <a:spcPts val="1125"/>
              </a:spcBef>
              <a:spcAft>
                <a:spcPts val="1800"/>
              </a:spcAft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dominujúci retailový segment s distribúciou prostredníctvom veľkých bán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58560">
              <a:spcBef>
                <a:spcPts val="1125"/>
              </a:spcBef>
              <a:spcAft>
                <a:spcPts val="1800"/>
              </a:spcAft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konzervatívne produktové portfóli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58560">
              <a:spcBef>
                <a:spcPts val="1125"/>
              </a:spcBef>
              <a:spcAft>
                <a:spcPts val="1800"/>
              </a:spcAft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legislatívny rámec nepodporujúci ďalší rast tohto sekto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58560">
              <a:spcBef>
                <a:spcPts val="1125"/>
              </a:spcBef>
              <a:spcAft>
                <a:spcPts val="1800"/>
              </a:spcAft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stup Slovenska do Európskej menovej únie od 1.1. 200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Špecifiká odvetvia správy aktív na Slovensku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ehľad trhovej kapitalizácie vybraných krajín CEE            k 31.12. 2008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čísla snímky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AD59-5662-402A-99F3-F6F84043B24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57040" y="1643040"/>
          <a:ext cx="8529840" cy="2786040"/>
        </p:xfrm>
        <a:graphic>
          <a:graphicData uri="http://schemas.openxmlformats.org/drawingml/2006/table">
            <a:tbl>
              <a:tblPr/>
              <a:tblGrid>
                <a:gridCol w="2814840"/>
                <a:gridCol w="1071360"/>
                <a:gridCol w="857520"/>
                <a:gridCol w="1071360"/>
                <a:gridCol w="857160"/>
                <a:gridCol w="1000440"/>
                <a:gridCol w="857160"/>
              </a:tblGrid>
              <a:tr h="5572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7421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ovensk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7421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Česk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7421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ďarsk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7421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ľsk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7421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ovinsk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7421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reck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7421"/>
                    </a:solidFill>
                  </a:tcPr>
                </a:tc>
              </a:tr>
              <a:tr h="5572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hová kapitalizácia trhu dlhopisov (EUR mld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hová kapitalizácia trhu dlhopisov (% z HD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hová kapitalizácia trhu akcií (EUR mld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hová kapitalizácia trhu akcií     (% z HD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BlokTextu 8"/>
          <p:cNvSpPr/>
          <p:nvPr/>
        </p:nvSpPr>
        <p:spPr>
          <a:xfrm>
            <a:off x="214200" y="5572080"/>
            <a:ext cx="45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FAMA Fact Book, 7th edition, September 200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ategorizácia fondov k 30.9.20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ástupný symbol čísla snímky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5DFC-3B79-4D77-9E53-A12B5435AB4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BlokTextu 5"/>
          <p:cNvSpPr/>
          <p:nvPr/>
        </p:nvSpPr>
        <p:spPr>
          <a:xfrm>
            <a:off x="285840" y="5429160"/>
            <a:ext cx="828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 vlastné spracovanie z údajov dostupných v Efama Statistical Release N° 39, November 2009; Efama International Statistical Release, Januar 2010, SASS mesačný report 09/200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8" descr=""/>
          <p:cNvPicPr/>
          <p:nvPr/>
        </p:nvPicPr>
        <p:blipFill>
          <a:blip r:embed="rId1"/>
          <a:stretch/>
        </p:blipFill>
        <p:spPr>
          <a:xfrm>
            <a:off x="353880" y="853920"/>
            <a:ext cx="836928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70920"/>
            <a:ext cx="864216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ybrané ukazovatele správcovských spoločností v oblasti nákladov a výnoso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Zástupný symbol čísla snímky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C26E-3C6F-4C8B-A0CE-00D249FE9AB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85840" y="1763640"/>
          <a:ext cx="8501040" cy="3308400"/>
        </p:xfrm>
        <a:graphic>
          <a:graphicData uri="http://schemas.openxmlformats.org/drawingml/2006/table">
            <a:tbl>
              <a:tblPr/>
              <a:tblGrid>
                <a:gridCol w="2928960"/>
                <a:gridCol w="1214280"/>
                <a:gridCol w="1000080"/>
                <a:gridCol w="2365560"/>
                <a:gridCol w="992160"/>
              </a:tblGrid>
              <a:tr h="86544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ovensk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ápadná Európa         "menší správcovia"    (AUM cca 10 mld. EU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ápadná Európa celko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80680">
                <a:tc>
                  <a:txBody>
                    <a:bodyPr lIns="72000" rIns="8280" tIns="82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emerná výška AUM       (EUR mld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72000" rIns="8280" tIns="82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iel AUM pre retailových klientov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72000" rIns="8280" tIns="82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/I Ratio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72000" rIns="8280" tIns="82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emerný počet zamestnanco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BlokTextu 5"/>
          <p:cNvSpPr/>
          <p:nvPr/>
        </p:nvSpPr>
        <p:spPr>
          <a:xfrm>
            <a:off x="214200" y="5715000"/>
            <a:ext cx="835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sset Management Survey 2009, Mc Kinsey&amp;Company, September 200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odiel AUM fondov spravovaný domácimi a zahraničnými správcam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Zástupný symbol čísla snímky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DD73-30F5-4A60-8811-1E02D3A1D08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BlokTextu 6"/>
          <p:cNvSpPr/>
          <p:nvPr/>
        </p:nvSpPr>
        <p:spPr>
          <a:xfrm>
            <a:off x="361080" y="5621400"/>
            <a:ext cx="528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 vlastné spracovanie údajov dostupných zo štatistík SA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Chart 1" descr=""/>
          <p:cNvPicPr/>
          <p:nvPr/>
        </p:nvPicPr>
        <p:blipFill>
          <a:blip r:embed="rId1"/>
          <a:stretch/>
        </p:blipFill>
        <p:spPr>
          <a:xfrm>
            <a:off x="420840" y="1066680"/>
            <a:ext cx="808992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ýsledky prieskum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Zástupný symbol čísla snímky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5B90-7000-4CB1-AA03-64F6EB732BD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50920" y="1214280"/>
            <a:ext cx="8642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61800" indent="-182520">
              <a:lnSpc>
                <a:spcPct val="100000"/>
              </a:lnSpc>
              <a:spcBef>
                <a:spcPts val="10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alizácia prieskumu: august 201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00000"/>
              </a:lnSpc>
              <a:spcBef>
                <a:spcPts val="24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lavný cieľ: zistiť očakávané trendy v produktovom portfóliu, v rozsahu poskytovaných služieb, segmentácii klientov, ako aj pri úprave obchodných modelov slovenských správcovských spoločností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00000"/>
              </a:lnSpc>
              <a:spcBef>
                <a:spcPts val="24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Štatistická metóda získavania údajov: štandardizovaný dotazní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00000"/>
              </a:lnSpc>
              <a:spcBef>
                <a:spcPts val="24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spondenti: členovia predstavenstiev správcovských spoločností a dôchodkových správcovských spoločností, senior manažéri bánk (oddelenia treasury, depozitára, vývoja a distribúcie investičných produktov, privátneho bankovníctva),  odborníci z NBS a SAV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00000"/>
              </a:lnSpc>
              <a:spcBef>
                <a:spcPts val="24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očet dotazníkov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12800" indent="-16992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74 zaslaných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12800" indent="-16992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38  vyplnených s  najväčším  zastúpením   manažérov správcovských spoločností (39,5 %) a  manažérov bánk (34,2 %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Zástupný symbol čísla snímky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2478-6F92-42FF-A41B-107673A955F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ýsledky prieskum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7640" y="928440"/>
            <a:ext cx="860724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1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./  V 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orizonte 5 rokov hodnotíte  vyhliadky vývoja sektora KI v Európe v oblasti rastu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1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UM (UCITS aj non-UCITS fondy) ako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1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1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5"/>
          <p:cNvGraphicFramePr/>
          <p:nvPr/>
        </p:nvGraphicFramePr>
        <p:xfrm>
          <a:off x="6429240" y="4357800"/>
          <a:ext cx="986040" cy="98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240" y="4357800"/>
                    <a:ext cx="986040" cy="9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BlokTextu 7"/>
          <p:cNvSpPr/>
          <p:nvPr/>
        </p:nvSpPr>
        <p:spPr>
          <a:xfrm>
            <a:off x="71280" y="3313080"/>
            <a:ext cx="864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2./</a:t>
            </a:r>
            <a:r>
              <a:rPr b="1" lang="sk-SK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Očakávate, že v horizonte 5 rokov sa objem fondov spravovaný slovenskými a zahraničnými správcovskými spoločnosťami vo vlastníctve retailových a inštitucionálnych klientov na Slovensku zvýš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71680" y="1643040"/>
          <a:ext cx="8072280" cy="1500120"/>
        </p:xfrm>
        <a:graphic>
          <a:graphicData uri="http://schemas.openxmlformats.org/drawingml/2006/table">
            <a:tbl>
              <a:tblPr/>
              <a:tblGrid>
                <a:gridCol w="7081560"/>
                <a:gridCol w="990720"/>
              </a:tblGrid>
              <a:tr h="43452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borné  (rast AUM viac ako 80%, napr. v rokoch 2003-2007 dosiahol rast AUM 84,1%)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6424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ľmi dobré (rast AUM od 40% až 8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,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6280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bré (rast AUM od 10% do 4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,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6424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lé (rast AUM menej ako 10%, prípadne pokl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7432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yjadrujem s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noFill/>
                  </a:tcPr>
                </a:tc>
                <a:tc>
                  <a:txBody>
                    <a:bodyPr lIns="7920" rIns="108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solidFill>
                      <a:srgbClr val="00703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71680" y="4214880"/>
          <a:ext cx="8072280" cy="1571400"/>
        </p:xfrm>
        <a:graphic>
          <a:graphicData uri="http://schemas.openxmlformats.org/drawingml/2006/table">
            <a:tbl>
              <a:tblPr/>
              <a:tblGrid>
                <a:gridCol w="7081560"/>
                <a:gridCol w="990720"/>
              </a:tblGrid>
              <a:tr h="32364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ne o 8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30816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 40% až 80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,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30780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 10% až 40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,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30816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st bude maximálne 10%, prípadne objem fondov pokles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32364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yjadrujem 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solidFill>
                      <a:srgbClr val="00703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08:47:48Z</dcterms:created>
  <dc:creator>Romsauerova</dc:creator>
  <dc:description/>
  <dc:language>en-US</dc:language>
  <cp:lastModifiedBy> </cp:lastModifiedBy>
  <dcterms:modified xsi:type="dcterms:W3CDTF">2010-10-29T14:34:19Z</dcterms:modified>
  <cp:revision>89</cp:revision>
  <dc:subject/>
  <dc:title>Snímka 1</dc:title>
</cp:coreProperties>
</file>