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05A2-B1F6-4BF9-B671-ABD7DBD14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8705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560" y="5714280"/>
            <a:ext cx="8705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FAC5-9283-49EC-9AA2-8CACA4AB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560" y="5714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1680" y="5714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6AA1-7899-4379-9B67-EF5ACC94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3920" y="5300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7640" y="5300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560" y="5714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3920" y="5714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7640" y="5714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F564-B877-4F09-ABD2-9C910845B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4C66-B6A5-4797-9329-30066B49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560" y="5300280"/>
            <a:ext cx="8705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DD0D-0784-4836-8D2C-30B891DE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8705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A3AF-B948-4BEC-98DB-45CDEC54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67C7-707F-4B6C-88EB-D5D56C52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F957-1B69-4708-A5EE-07684E37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50560" y="4292640"/>
            <a:ext cx="8708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FEBA-EFCE-43A3-90D3-CA309B96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0560" y="5714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53B0-1EEC-4247-875C-80BC2EE3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560" y="5300280"/>
            <a:ext cx="8705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7BB1-B28B-4D22-A2AC-08B5F070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1680" y="5714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F5AC-783B-405B-B669-088856E4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0560" y="5714280"/>
            <a:ext cx="8705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DD8B-C355-4569-B181-70059657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8705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0560" y="5714280"/>
            <a:ext cx="8705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D574-1E0D-4B34-BC1E-48D7FD44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0560" y="5714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1680" y="5714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77AA-D95A-4883-8D2F-6D04A39E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3920" y="5300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37640" y="5300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50560" y="5714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3920" y="5714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37640" y="5714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B442-68E3-43BF-80BC-89AE2D98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8705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E9B8-5A43-41ED-87EF-10F6BA22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96C0-EF2A-47C1-8B1F-9A46D595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7669-8221-458C-9D92-4B810A8C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560" y="4292640"/>
            <a:ext cx="8708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8363-DB68-4FCE-84AE-5885FF0D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560" y="5714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FEA9-1BD8-46C8-B405-2B048C4E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1680" y="5714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13F6-76D4-4286-A5C0-4C1366E4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560" y="5714280"/>
            <a:ext cx="8705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5299-A576-4921-BCDA-50ECB488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0038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00360" y="6578640"/>
            <a:ext cx="14130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68360" y="6570720"/>
            <a:ext cx="568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4720" y="6578640"/>
            <a:ext cx="8636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94ED-E2B8-403D-8D84-F260F39E6BD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79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092720" y="6237360"/>
            <a:ext cx="18730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k-SK" sz="1200" spc="-1" strike="noStrike">
                <a:solidFill>
                  <a:srgbClr val="494a45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94a45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50920" y="6244920"/>
            <a:ext cx="61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94a45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94a45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4033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028000" y="6453360"/>
            <a:ext cx="9367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94a45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51EE-7153-4C98-8448-E5C3D7220A4D}" type="slidenum">
              <a:rPr b="1" lang="en-US" sz="1200" spc="-1" strike="noStrike">
                <a:solidFill>
                  <a:srgbClr val="494a4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94a45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881"/>
                </a:solidFill>
                <a:latin typeface="Tahoma"/>
              </a:rPr>
              <a:t>Rekodifikácia zákona o kolektívnom investovaní</a:t>
            </a:r>
            <a:endParaRPr b="0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50560" y="5300280"/>
            <a:ext cx="8705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4a45"/>
                </a:solidFill>
                <a:latin typeface="Tahoma"/>
              </a:rPr>
              <a:t>Ing. Tomáš Ambra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4a45"/>
                </a:solidFill>
                <a:latin typeface="Tahoma"/>
              </a:rPr>
              <a:t>Odbor regulácie a finančných analýz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4a45"/>
                </a:solidFill>
                <a:latin typeface="Tahoma"/>
              </a:rPr>
              <a:t>Národná banka Slovenska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„</a:t>
            </a: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Master – feeder“ štruktúr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ahoma"/>
              </a:rPr>
              <a:t>Asset pool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Master – feeder“ štruktúr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V rámci UCITS III zakázané (investičný limit max. 20%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UCITS IV ustanovuje výnimku nad 20% lim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umožňuje vnútroštátne aj cezhraničné „master-feeder“ štruktúr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ahoma"/>
              </a:rPr>
              <a:t>Feeder fond – „</a:t>
            </a:r>
            <a:r>
              <a:rPr b="1" i="1" lang="sk-SK" sz="1800" spc="-1" strike="noStrike">
                <a:solidFill>
                  <a:srgbClr val="000000"/>
                </a:solidFill>
                <a:latin typeface="Tahoma"/>
              </a:rPr>
              <a:t>Zberný (podriadený) fond“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Fond alebo podfond, ktorý investuje min. 85 % NAV do master fondu (alebo master podfondu);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zvyšných 15% - likvidný majetok, hedging menového rizik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Úvodná investícia musí byť schválená; KID a predajný prospekt zberného fondu musia obsahovať špecifické informáci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ahoma"/>
              </a:rPr>
              <a:t>Master fond – </a:t>
            </a:r>
            <a:r>
              <a:rPr b="1" i="1" lang="sk-SK" sz="1800" spc="-1" strike="noStrike">
                <a:solidFill>
                  <a:srgbClr val="000000"/>
                </a:solidFill>
                <a:latin typeface="Tahoma"/>
              </a:rPr>
              <a:t>„Hlavný fond“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Nesmie byť zároveň feeder fondom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Nesmie investovať do žiadneho feeder fondu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Musí mať aspoň 2 investorov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Ak neexistuje jeho priama distribúcia, nemusí byť notifikovaný pre verejnú ponuku na území domovských členských štátov feeder fondov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„</a:t>
            </a: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Master – feeder“ štruktúr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3274920" y="3141720"/>
            <a:ext cx="2664000" cy="0"/>
          </a:xfrm>
          <a:prstGeom prst="line">
            <a:avLst/>
          </a:prstGeom>
          <a:ln w="76320">
            <a:solidFill>
              <a:srgbClr val="0038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203280" y="2854440"/>
            <a:ext cx="2663640" cy="0"/>
          </a:xfrm>
          <a:prstGeom prst="line">
            <a:avLst/>
          </a:prstGeom>
          <a:ln w="76320">
            <a:solidFill>
              <a:srgbClr val="0038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1989000"/>
            <a:ext cx="1506600" cy="546120"/>
          </a:xfrm>
          <a:solidFill>
            <a:srgbClr val="003881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estí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85% - 100% NA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3357720"/>
            <a:ext cx="1058760" cy="474480"/>
          </a:xfrm>
          <a:solidFill>
            <a:srgbClr val="003881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dielové lis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2000" y="4149720"/>
            <a:ext cx="2808360" cy="0"/>
          </a:xfrm>
          <a:prstGeom prst="line">
            <a:avLst/>
          </a:prstGeom>
          <a:ln w="38160">
            <a:solidFill>
              <a:srgbClr val="003881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90920" y="4438800"/>
            <a:ext cx="2089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81"/>
                </a:solidFill>
                <a:latin typeface="Tahoma"/>
              </a:rPr>
              <a:t>Zmlu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81"/>
                </a:solidFill>
                <a:latin typeface="Tahoma"/>
              </a:rPr>
              <a:t>(interné pravidlá činnos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78560" y="5230800"/>
            <a:ext cx="1368720" cy="431640"/>
          </a:xfrm>
          <a:custGeom>
            <a:avLst/>
            <a:gdLst>
              <a:gd name="textAreaLeft" fmla="*/ 50760 w 1368720"/>
              <a:gd name="textAreaRight" fmla="*/ 1317960 w 136872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6845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4854" y="21600"/>
                </a:lnTo>
                <a:arcTo wR="3600" hR="3600" stAng="10800000" swAng="5400000"/>
                <a:lnTo>
                  <a:pt x="68454" y="3600"/>
                </a:lnTo>
                <a:arcTo wR="3600" hR="3600" stAng="5400000" swAng="5400000"/>
                <a:close/>
              </a:path>
            </a:pathLst>
          </a:custGeom>
          <a:solidFill>
            <a:srgbClr val="003881"/>
          </a:solidFill>
          <a:ln w="93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ozitá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78560" y="5734080"/>
            <a:ext cx="1368720" cy="433440"/>
          </a:xfrm>
          <a:custGeom>
            <a:avLst/>
            <a:gdLst>
              <a:gd name="textAreaLeft" fmla="*/ 51120 w 1368720"/>
              <a:gd name="textAreaRight" fmla="*/ 1317600 w 1368720"/>
              <a:gd name="textAreaTop" fmla="*/ 51120 h 433440"/>
              <a:gd name="textAreaBottom" fmla="*/ 382320 h 433440"/>
            </a:gdLst>
            <a:ahLst/>
            <a:rect l="textAreaLeft" t="textAreaTop" r="textAreaRight" b="textAreaBottom"/>
            <a:pathLst>
              <a:path w="6817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4570" y="21600"/>
                </a:lnTo>
                <a:arcTo wR="3600" hR="3600" stAng="10800000" swAng="5400000"/>
                <a:lnTo>
                  <a:pt x="68170" y="3600"/>
                </a:lnTo>
                <a:arcTo wR="3600" hR="3600" stAng="5400000" swAng="5400000"/>
                <a:close/>
              </a:path>
            </a:pathLst>
          </a:custGeom>
          <a:solidFill>
            <a:srgbClr val="003881"/>
          </a:solidFill>
          <a:ln w="93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dí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6560" y="5950080"/>
            <a:ext cx="5329440" cy="0"/>
          </a:xfrm>
          <a:prstGeom prst="line">
            <a:avLst/>
          </a:prstGeom>
          <a:ln w="38160">
            <a:solidFill>
              <a:srgbClr val="003881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43280" y="5516640"/>
            <a:ext cx="3746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81"/>
                </a:solidFill>
                <a:latin typeface="Arial"/>
              </a:rPr>
              <a:t>zmluvy o výmene informác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5230800"/>
            <a:ext cx="1368360" cy="431640"/>
          </a:xfrm>
          <a:custGeom>
            <a:avLst/>
            <a:gdLst>
              <a:gd name="textAreaLeft" fmla="*/ 50760 w 1368360"/>
              <a:gd name="textAreaRight" fmla="*/ 1317600 w 136836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6843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4836" y="21600"/>
                </a:lnTo>
                <a:arcTo wR="3600" hR="3600" stAng="10800000" swAng="5400000"/>
                <a:lnTo>
                  <a:pt x="68436" y="3600"/>
                </a:lnTo>
                <a:arcTo wR="3600" hR="3600" stAng="5400000" swAng="5400000"/>
                <a:close/>
              </a:path>
            </a:pathLst>
          </a:custGeom>
          <a:solidFill>
            <a:srgbClr val="003881"/>
          </a:solidFill>
          <a:ln w="93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ozitá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5734080"/>
            <a:ext cx="1368360" cy="433440"/>
          </a:xfrm>
          <a:custGeom>
            <a:avLst/>
            <a:gdLst>
              <a:gd name="textAreaLeft" fmla="*/ 51120 w 1368360"/>
              <a:gd name="textAreaRight" fmla="*/ 1317240 w 1368360"/>
              <a:gd name="textAreaTop" fmla="*/ 51120 h 433440"/>
              <a:gd name="textAreaBottom" fmla="*/ 382320 h 433440"/>
            </a:gdLst>
            <a:ahLst/>
            <a:rect l="textAreaLeft" t="textAreaTop" r="textAreaRight" b="textAreaBottom"/>
            <a:pathLst>
              <a:path w="6815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4552" y="21600"/>
                </a:lnTo>
                <a:arcTo wR="3600" hR="3600" stAng="10800000" swAng="5400000"/>
                <a:lnTo>
                  <a:pt x="68152" y="3600"/>
                </a:lnTo>
                <a:arcTo wR="3600" hR="3600" stAng="5400000" swAng="5400000"/>
                <a:close/>
              </a:path>
            </a:pathLst>
          </a:custGeom>
          <a:solidFill>
            <a:srgbClr val="003881"/>
          </a:solidFill>
          <a:ln w="93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dí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06560" y="5446800"/>
            <a:ext cx="5329440" cy="0"/>
          </a:xfrm>
          <a:prstGeom prst="line">
            <a:avLst/>
          </a:prstGeom>
          <a:ln w="38160">
            <a:solidFill>
              <a:srgbClr val="003881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56360" y="2638440"/>
            <a:ext cx="1152360" cy="647640"/>
          </a:xfrm>
          <a:prstGeom prst="ellipse">
            <a:avLst/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Zberný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638440"/>
            <a:ext cx="1152720" cy="647640"/>
          </a:xfrm>
          <a:prstGeom prst="ellipse">
            <a:avLst/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lavný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3280" y="3862440"/>
            <a:ext cx="1332000" cy="718920"/>
          </a:xfrm>
          <a:prstGeom prst="roundRect">
            <a:avLst>
              <a:gd name="adj" fmla="val 16667"/>
            </a:avLst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právcovsk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poločno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0560" y="3862440"/>
            <a:ext cx="1332000" cy="718920"/>
          </a:xfrm>
          <a:prstGeom prst="roundRect">
            <a:avLst>
              <a:gd name="adj" fmla="val 16667"/>
            </a:avLst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právcovsk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poločno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7" idx="4"/>
            <a:endCxn id="149" idx="0"/>
          </p:cNvCxnSpPr>
          <p:nvPr/>
        </p:nvCxnSpPr>
        <p:spPr>
          <a:xfrm>
            <a:off x="2340000" y="3285720"/>
            <a:ext cx="18000" cy="577080"/>
          </a:xfrm>
          <a:prstGeom prst="straightConnector1">
            <a:avLst/>
          </a:prstGeom>
          <a:ln w="38160">
            <a:solidFill>
              <a:srgbClr val="003881"/>
            </a:solidFill>
            <a:miter/>
          </a:ln>
        </p:spPr>
      </p:cxnSp>
      <p:cxnSp>
        <p:nvCxnSpPr>
          <p:cNvPr id="151" name=""/>
          <p:cNvCxnSpPr>
            <a:stCxn id="146" idx="4"/>
            <a:endCxn id="148" idx="0"/>
          </p:cNvCxnSpPr>
          <p:nvPr/>
        </p:nvCxnSpPr>
        <p:spPr>
          <a:xfrm>
            <a:off x="6732720" y="3285720"/>
            <a:ext cx="18000" cy="577080"/>
          </a:xfrm>
          <a:prstGeom prst="straightConnector1">
            <a:avLst/>
          </a:prstGeom>
          <a:ln w="38160">
            <a:solidFill>
              <a:srgbClr val="003881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68360" y="981000"/>
            <a:ext cx="8207280" cy="285480"/>
          </a:xfrm>
          <a:prstGeom prst="rect">
            <a:avLst/>
          </a:prstGeom>
          <a:solidFill>
            <a:srgbClr val="003881"/>
          </a:solidFill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Úvodná investícia zberného fondu do hlavného fondu podlieha povoľovaciemu konan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413000"/>
            <a:ext cx="8207280" cy="285480"/>
          </a:xfrm>
          <a:prstGeom prst="rect">
            <a:avLst/>
          </a:prstGeom>
          <a:solidFill>
            <a:srgbClr val="003881"/>
          </a:solidFill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edchádzajúci súhlas je potrebný n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1773360"/>
            <a:ext cx="8207280" cy="4535280"/>
          </a:xfrm>
          <a:prstGeom prst="rect">
            <a:avLst/>
          </a:prstGeom>
          <a:noFill/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1844640"/>
            <a:ext cx="38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emenu štandardného podielového fondu na zberný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1844640"/>
            <a:ext cx="38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menu hlavného fondu pre príslušný zberný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3933720"/>
            <a:ext cx="381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emenu zberného fondu na štandardný podielový fond, ktorý nie je zberným fondom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16360" y="3933720"/>
            <a:ext cx="381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, aby pri zlúčení hlavného fondu zberný fond zostal zberným fondom toho istého hlavného fondu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3213000"/>
            <a:ext cx="1152720" cy="647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81"/>
                </a:solidFill>
                <a:latin typeface="Tahoma"/>
              </a:rPr>
              <a:t>Štandard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81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3881"/>
                </a:solidFill>
                <a:latin typeface="Tahoma"/>
              </a:rPr>
              <a:t>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2276640"/>
            <a:ext cx="1152360" cy="647640"/>
          </a:xfrm>
          <a:prstGeom prst="ellipse">
            <a:avLst/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lavný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56000" y="3213000"/>
            <a:ext cx="1152360" cy="647640"/>
          </a:xfrm>
          <a:prstGeom prst="ellipse">
            <a:avLst/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Zberný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60" idx="4"/>
            <a:endCxn id="161" idx="0"/>
          </p:cNvCxnSpPr>
          <p:nvPr/>
        </p:nvCxnSpPr>
        <p:spPr>
          <a:xfrm>
            <a:off x="3131640" y="2924280"/>
            <a:ext cx="1080" cy="289440"/>
          </a:xfrm>
          <a:prstGeom prst="straightConnector1">
            <a:avLst/>
          </a:prstGeom>
          <a:ln w="38160">
            <a:solidFill>
              <a:srgbClr val="003881"/>
            </a:solidFill>
            <a:miter/>
          </a:ln>
        </p:spPr>
      </p:cxnSp>
      <p:cxnSp>
        <p:nvCxnSpPr>
          <p:cNvPr id="163" name=""/>
          <p:cNvCxnSpPr>
            <a:stCxn id="159" idx="6"/>
            <a:endCxn id="161" idx="2"/>
          </p:cNvCxnSpPr>
          <p:nvPr/>
        </p:nvCxnSpPr>
        <p:spPr>
          <a:xfrm>
            <a:off x="1979280" y="3536640"/>
            <a:ext cx="577080" cy="10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5076720" y="2276640"/>
            <a:ext cx="1152720" cy="647640"/>
          </a:xfrm>
          <a:prstGeom prst="ellipse">
            <a:avLst/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lavný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76720" y="3213000"/>
            <a:ext cx="1152720" cy="647640"/>
          </a:xfrm>
          <a:prstGeom prst="ellipse">
            <a:avLst/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Zberný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"/>
          <p:cNvCxnSpPr>
            <a:stCxn id="164" idx="4"/>
            <a:endCxn id="165" idx="0"/>
          </p:cNvCxnSpPr>
          <p:nvPr/>
        </p:nvCxnSpPr>
        <p:spPr>
          <a:xfrm>
            <a:off x="5652720" y="2924280"/>
            <a:ext cx="1080" cy="289440"/>
          </a:xfrm>
          <a:prstGeom prst="straightConnector1">
            <a:avLst/>
          </a:prstGeom>
          <a:ln w="9360">
            <a:solidFill>
              <a:srgbClr val="003881"/>
            </a:solidFill>
            <a:prstDash val="dash"/>
            <a:miter/>
          </a:ln>
        </p:spPr>
      </p:cxnSp>
      <p:sp>
        <p:nvSpPr>
          <p:cNvPr id="167" name=""/>
          <p:cNvSpPr/>
          <p:nvPr/>
        </p:nvSpPr>
        <p:spPr>
          <a:xfrm>
            <a:off x="6732720" y="2276640"/>
            <a:ext cx="1152360" cy="647640"/>
          </a:xfrm>
          <a:prstGeom prst="ellipse">
            <a:avLst/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Nov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lavný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5" idx="7"/>
            <a:endCxn id="167" idx="3"/>
          </p:cNvCxnSpPr>
          <p:nvPr/>
        </p:nvCxnSpPr>
        <p:spPr>
          <a:xfrm flipV="1">
            <a:off x="6060600" y="2828520"/>
            <a:ext cx="840600" cy="480240"/>
          </a:xfrm>
          <a:prstGeom prst="straightConnector1">
            <a:avLst/>
          </a:prstGeom>
          <a:ln w="19080">
            <a:solidFill>
              <a:srgbClr val="ff0000"/>
            </a:solidFill>
            <a:prstDash val="dash"/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2627280" y="5516640"/>
            <a:ext cx="1152720" cy="647640"/>
          </a:xfrm>
          <a:prstGeom prst="ellipse">
            <a:avLst/>
          </a:prstGeom>
          <a:solidFill>
            <a:srgbClr val="003881"/>
          </a:solidFill>
          <a:ln w="93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Štandard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6920" y="4581360"/>
            <a:ext cx="1152720" cy="648000"/>
          </a:xfrm>
          <a:prstGeom prst="ellipse">
            <a:avLst/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lavný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26920" y="5518080"/>
            <a:ext cx="1152720" cy="647640"/>
          </a:xfrm>
          <a:prstGeom prst="ellipse">
            <a:avLst/>
          </a:prstGeom>
          <a:noFill/>
          <a:ln w="9360">
            <a:solidFill>
              <a:srgbClr val="00388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81"/>
                </a:solidFill>
                <a:latin typeface="Tahoma"/>
              </a:rPr>
              <a:t>Zberný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70" idx="4"/>
            <a:endCxn id="171" idx="0"/>
          </p:cNvCxnSpPr>
          <p:nvPr/>
        </p:nvCxnSpPr>
        <p:spPr>
          <a:xfrm>
            <a:off x="1402920" y="5229360"/>
            <a:ext cx="1080" cy="289440"/>
          </a:xfrm>
          <a:prstGeom prst="straightConnector1">
            <a:avLst/>
          </a:prstGeom>
          <a:ln w="9360">
            <a:solidFill>
              <a:srgbClr val="003881"/>
            </a:solidFill>
            <a:prstDash val="dash"/>
            <a:miter/>
          </a:ln>
        </p:spPr>
      </p:cxnSp>
      <p:cxnSp>
        <p:nvCxnSpPr>
          <p:cNvPr id="173" name=""/>
          <p:cNvCxnSpPr>
            <a:stCxn id="171" idx="6"/>
            <a:endCxn id="169" idx="2"/>
          </p:cNvCxnSpPr>
          <p:nvPr/>
        </p:nvCxnSpPr>
        <p:spPr>
          <a:xfrm flipV="1">
            <a:off x="1979280" y="5839560"/>
            <a:ext cx="648360" cy="252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sp>
        <p:nvSpPr>
          <p:cNvPr id="174" name=""/>
          <p:cNvSpPr/>
          <p:nvPr/>
        </p:nvSpPr>
        <p:spPr>
          <a:xfrm>
            <a:off x="5076720" y="4653000"/>
            <a:ext cx="1152720" cy="647640"/>
          </a:xfrm>
          <a:prstGeom prst="ellipse">
            <a:avLst/>
          </a:prstGeom>
          <a:noFill/>
          <a:ln w="9360">
            <a:solidFill>
              <a:srgbClr val="00388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81"/>
                </a:solidFill>
                <a:latin typeface="Tahoma"/>
              </a:rPr>
              <a:t>Zanikajúc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81"/>
                </a:solidFill>
                <a:latin typeface="Tahoma"/>
              </a:rPr>
              <a:t>hlavný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76720" y="5589720"/>
            <a:ext cx="1152720" cy="647640"/>
          </a:xfrm>
          <a:prstGeom prst="ellipse">
            <a:avLst/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Zberný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74" idx="4"/>
            <a:endCxn id="175" idx="0"/>
          </p:cNvCxnSpPr>
          <p:nvPr/>
        </p:nvCxnSpPr>
        <p:spPr>
          <a:xfrm>
            <a:off x="5652720" y="5300280"/>
            <a:ext cx="1080" cy="289440"/>
          </a:xfrm>
          <a:prstGeom prst="straightConnector1">
            <a:avLst/>
          </a:prstGeom>
          <a:ln w="9360">
            <a:solidFill>
              <a:srgbClr val="003881"/>
            </a:solidFill>
            <a:prstDash val="dash"/>
            <a:miter/>
          </a:ln>
        </p:spPr>
      </p:cxnSp>
      <p:sp>
        <p:nvSpPr>
          <p:cNvPr id="177" name=""/>
          <p:cNvSpPr/>
          <p:nvPr/>
        </p:nvSpPr>
        <p:spPr>
          <a:xfrm>
            <a:off x="6732720" y="4653000"/>
            <a:ext cx="1152360" cy="647640"/>
          </a:xfrm>
          <a:prstGeom prst="ellipse">
            <a:avLst/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ijímajúc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lavný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4" idx="6"/>
            <a:endCxn id="177" idx="2"/>
          </p:cNvCxnSpPr>
          <p:nvPr/>
        </p:nvCxnSpPr>
        <p:spPr>
          <a:xfrm>
            <a:off x="6229440" y="4976280"/>
            <a:ext cx="504000" cy="1080"/>
          </a:xfrm>
          <a:prstGeom prst="straightConnector1">
            <a:avLst/>
          </a:prstGeom>
          <a:ln w="38160">
            <a:solidFill>
              <a:srgbClr val="003881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5" idx="7"/>
            <a:endCxn id="177" idx="3"/>
          </p:cNvCxnSpPr>
          <p:nvPr/>
        </p:nvCxnSpPr>
        <p:spPr>
          <a:xfrm flipV="1">
            <a:off x="6060600" y="5204880"/>
            <a:ext cx="840600" cy="480240"/>
          </a:xfrm>
          <a:prstGeom prst="straightConnector1">
            <a:avLst/>
          </a:prstGeom>
          <a:ln w="19080">
            <a:solidFill>
              <a:srgbClr val="ff0000"/>
            </a:solidFill>
            <a:prstDash val="dash"/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4572000" y="1773360"/>
            <a:ext cx="0" cy="4535280"/>
          </a:xfrm>
          <a:prstGeom prst="line">
            <a:avLst/>
          </a:prstGeom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3933720"/>
            <a:ext cx="8207280" cy="0"/>
          </a:xfrm>
          <a:prstGeom prst="line">
            <a:avLst/>
          </a:prstGeom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Non-UCITS fond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i="1" lang="sk-SK" sz="2400" spc="-1" strike="noStrike">
                <a:solidFill>
                  <a:srgbClr val="000000"/>
                </a:solidFill>
                <a:latin typeface="Tahoma"/>
              </a:rPr>
              <a:t>Špeciálne podielové fondy“ – 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fondy, ktoré nepodliehajú smernici UCITS –Nepodliehajú teda ani žiadnemu z cezhraničných mechanizmov smernice UCITS I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Hlavné odlišnosti od štandardných podielových fondo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ípustné aktíva a investičné lim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ovolená forma uzavretého podielového fon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 súčasnosti je podiel non-UCITS fondov na slovenskom trhu zanedbateľný (4,4 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Jedným z cieľov rekodifikácie je podpora rozvoja tohto segmen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 prípade fondov určených retailovému segmentu by úroveň ochrany podielnikov mala byť porovnateľná ako pri UCITS fondo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81"/>
                </a:solidFill>
                <a:latin typeface="Tahoma"/>
              </a:rPr>
              <a:t>Prečo na Slovensku neexistujú uzavreté podielové fondy?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zavreté podielové fon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ytvorené na dobu určit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dielnici nemajú právo na redemác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vinnosť zaknihovania podielových listov u.p.f. v Centrálnom depozitári cenných papierov (CD C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vinnosť prijatia podielových listov u.p.f. na obchodovanie na regulovanom trh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 súčasnosti na slovenskom trhu neexistuje žiadny uzavretý podielový fo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ávrhy na riešen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zšírenie o možnosť prijatia na obchodovanie v rámci mnohostranných obchodných systémov (MTF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zšírenie samostatnej evidencie podielových listov (vedenej správcom a depozitárom) aj na podielové listy u.p.f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Retailové vs. profesionálne fond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2060640"/>
            <a:ext cx="4032360" cy="398880"/>
          </a:xfrm>
          <a:prstGeom prst="rect">
            <a:avLst/>
          </a:prstGeom>
          <a:solidFill>
            <a:srgbClr val="003881"/>
          </a:solidFill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tailové fon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43280" y="2060640"/>
            <a:ext cx="4032360" cy="398880"/>
          </a:xfrm>
          <a:prstGeom prst="rect">
            <a:avLst/>
          </a:prstGeom>
          <a:solidFill>
            <a:srgbClr val="003881"/>
          </a:solidFill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fesionálne fon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2492280"/>
            <a:ext cx="4032360" cy="4304520"/>
          </a:xfrm>
          <a:prstGeom prst="rect">
            <a:avLst/>
          </a:prstGeom>
          <a:noFill/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ované prostredníctvom verejnej ponu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duktová regulácia ustanovená zákonom (napr. pravidlá investovania a investičné lim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sia byť povolené pred vytvore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ná miera zverejňovania informácií a dokumentá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ný reporting dohľa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43280" y="2492280"/>
            <a:ext cx="4032360" cy="4208760"/>
          </a:xfrm>
          <a:prstGeom prst="rect">
            <a:avLst/>
          </a:prstGeom>
          <a:noFill/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ované prostredníctvom privátnej ponuky obmedzenému okruhu investor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medzená prevoditeľnosť podielových list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časť pravidiel ustanovená na úrovni štatútu (napr. prípustné aktíva a investičné limity, spôsob a frekvencia oceňovania alebo spôsob sprístupňovania informácií a sprá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volenie môže byť udelené ex-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medzená dokumentácia a reporting dohľa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39640" y="2421000"/>
            <a:ext cx="8209080" cy="3887640"/>
          </a:xfrm>
          <a:prstGeom prst="rect">
            <a:avLst/>
          </a:prstGeom>
          <a:noFill/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4360" y="5445000"/>
            <a:ext cx="426708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197000"/>
            <a:ext cx="8207640" cy="532440"/>
          </a:xfrm>
          <a:prstGeom prst="rect">
            <a:avLst/>
          </a:prstGeom>
          <a:solidFill>
            <a:srgbClr val="003881"/>
          </a:solidFill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on-UCITS fo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9640" y="1700280"/>
            <a:ext cx="8207640" cy="705960"/>
          </a:xfrm>
          <a:prstGeom prst="rect">
            <a:avLst/>
          </a:prstGeom>
          <a:noFill/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vorené podielové fon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zavreté podielové fon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55640" y="2565360"/>
            <a:ext cx="4824360" cy="3672000"/>
            <a:chOff x="755640" y="2565360"/>
            <a:chExt cx="4824360" cy="3672000"/>
          </a:xfrm>
        </p:grpSpPr>
        <p:sp>
          <p:nvSpPr>
            <p:cNvPr id="196" name=""/>
            <p:cNvSpPr/>
            <p:nvPr/>
          </p:nvSpPr>
          <p:spPr>
            <a:xfrm>
              <a:off x="893520" y="3357720"/>
              <a:ext cx="4547880" cy="720720"/>
            </a:xfrm>
            <a:prstGeom prst="roundRect">
              <a:avLst>
                <a:gd name="adj" fmla="val 16667"/>
              </a:avLst>
            </a:prstGeom>
            <a:solidFill>
              <a:srgbClr val="0038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Verejný špeciálny podielový fond nehnuteľnost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93520" y="4292640"/>
              <a:ext cx="4547880" cy="720720"/>
            </a:xfrm>
            <a:prstGeom prst="roundRect">
              <a:avLst>
                <a:gd name="adj" fmla="val 16667"/>
              </a:avLst>
            </a:prstGeom>
            <a:solidFill>
              <a:srgbClr val="0038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Verejný špeciálny podielový fon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cenných papiero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93520" y="5229360"/>
              <a:ext cx="4547880" cy="720720"/>
            </a:xfrm>
            <a:prstGeom prst="roundRect">
              <a:avLst>
                <a:gd name="adj" fmla="val 16667"/>
              </a:avLst>
            </a:prstGeom>
            <a:solidFill>
              <a:srgbClr val="0038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Verejný špeciálny podielový fon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alternatívnych investíci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5640" y="2565360"/>
              <a:ext cx="4824360" cy="3672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388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Verejné špeciálne podielové fond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6084720" y="2565360"/>
            <a:ext cx="2519640" cy="3672000"/>
          </a:xfrm>
          <a:custGeom>
            <a:avLst/>
            <a:gdLst>
              <a:gd name="textAreaLeft" fmla="*/ 122760 w 2519640"/>
              <a:gd name="textAreaRight" fmla="*/ 2396880 w 2519640"/>
              <a:gd name="textAreaTop" fmla="*/ 122760 h 3672000"/>
              <a:gd name="textAreaBottom" fmla="*/ 3549240 h 3672000"/>
            </a:gdLst>
            <a:ahLst/>
            <a:rect l="textAreaLeft" t="textAreaTop" r="textAreaRight" b="textAreaBottom"/>
            <a:pathLst>
              <a:path w="21600" h="31477">
                <a:moveTo>
                  <a:pt x="3600" y="0"/>
                </a:moveTo>
                <a:arcTo wR="3600" hR="3600" stAng="16200000" swAng="-5400000"/>
                <a:lnTo>
                  <a:pt x="0" y="27877"/>
                </a:lnTo>
                <a:arcTo wR="3600" hR="3600" stAng="10800000" swAng="-5400000"/>
                <a:lnTo>
                  <a:pt x="18000" y="31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88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Špeciálne podielové fondy profesionálnych investor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81"/>
                </a:solidFill>
                <a:latin typeface="Tahoma"/>
              </a:rPr>
              <a:t>Verejný špeciálny podielový fond nehnuteľností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kračovanie v doterajšej regulá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ame investície do nehnuteľ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priame investície do nehnuteľ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itné spoločnosti (SPV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enné papiere viazané na trh nehnuteľností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. 10% – Likvidná zložka majetk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lepšenie existujúcej právnej úpravy a zahrnutie doterajších skúseností s fungovaním špeciálnych podielových fondov nehnuteľ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apr. úpravy pri financovaní projektov s nehnuteľnosťam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81"/>
                </a:solidFill>
                <a:latin typeface="Tahoma"/>
              </a:rPr>
              <a:t>Verejný špeciálny podielový fond cenných papierov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Základná alternatíva k štandardným podielovým fond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ípustné aktí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Investície prípustné pre fondy UCI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+ cenné papiere a nástroje peňažného trhu prijaté na obchodovanie na MT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+ „covered bonds“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Dlhopisy vydané alebo garantované členskými štátmi EÚ a ich centrálnymi bankam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Limity obmedzenia rizika voľnejšie v porovnaní s úpravou UCITS fondo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Napr. 25% na CP vydaných jedným emitento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81"/>
                </a:solidFill>
                <a:latin typeface="Tahoma"/>
              </a:rPr>
              <a:t>Verejný špeciálny podielový fond alternatívnych investícií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Rozšírenie investovania do tzv. alternatívnych aktí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Iné (nelistované) CP a majetkové podiely v obchodných spoločnostiach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Komodity a komoditné deriváty a prevoditeľné cenné papiere s vnorenými komoditnými derivátm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Drahé kovy a certifikáty, ktoré ich zastupujú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áklad pre vytvorenie private equity a venture capital fond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81"/>
                </a:solidFill>
                <a:latin typeface="Tahoma"/>
              </a:rPr>
              <a:t>Prečo potrebujeme nový zákon o kolektívnom investovaní?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ernica 2009/65/ES – UCITS I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dstránenie zostávajúcich bariér vnútorného trhu EÚ – Nové cezhraničné inštitú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zhraničná sprá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zhraničné zlučovanie fond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ster-feeder“ štruktú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orma cezhraničného predaja fond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treba poskytnúť slovenským správcom konkurencieschopné legislatívne prostred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ernizácia právnej úpravy kolektívneho investovania na Slovensku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81"/>
                </a:solidFill>
                <a:latin typeface="Tahoma"/>
              </a:rPr>
              <a:t>Špeciálne podielové fondy profesionálnych investorov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ípustné len pre obmedzenú skupinu profesionálnych investor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76240" indent="-419040">
              <a:lnSpc>
                <a:spcPct val="80000"/>
              </a:lnSpc>
              <a:spcBef>
                <a:spcPts val="451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nančné inštitúcie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76240" indent="-419040">
              <a:lnSpc>
                <a:spcPct val="80000"/>
              </a:lnSpc>
              <a:spcBef>
                <a:spcPts val="451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eľké obchodné spoločnosti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76240" indent="-419040">
              <a:lnSpc>
                <a:spcPct val="80000"/>
              </a:lnSpc>
              <a:spcBef>
                <a:spcPts val="451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Štátne orgány a orgány samosprávy, ARDAL a obdobné zahraničné inštitúcie, NBS a iné centrálne banky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76240" indent="-419040">
              <a:lnSpc>
                <a:spcPct val="80000"/>
              </a:lnSpc>
              <a:spcBef>
                <a:spcPts val="451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yzické osoby s dostatočným finančným zabezpečením a skúsenosťami na finančnom trh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voditeľnosť podielových listov je obmedzen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žnosť distribúcie len prostredníctvom privátnej ponu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76240" indent="-419040">
              <a:lnSpc>
                <a:spcPct val="80000"/>
              </a:lnSpc>
              <a:spcBef>
                <a:spcPts val="451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nuka  adresovaná vopred určenému okruhu investorov bez využitia prostriedkov zverejnen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äčšinu pravidiel spravovania fondu ustanoví štatú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 prípade existujúcich správcovských spoločností možno udeliť povolenie ex-post po vytvorení fon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medzené zverejňovanie a dokumentácia menšieho rozsah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81"/>
                </a:solidFill>
                <a:latin typeface="Tahoma"/>
              </a:rPr>
              <a:t>Zmeny v distribúcii podielových listov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Kľúčové informácie pre investor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Dôraz na komunikáciu s podielnikmi v osobitných prípado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Kľúčové informácie pre investorov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Dokument kľúčových informácií pre investora (K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krátky predzmluvný dokumen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nahrádza zjednodušený predajný prospekt (prechodné obdobie do 30. júna 201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musí byť poskytnutý investorovi pred vstupom do zmluvného vzťah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ri priamej distribúcii – správcovskou spoločnosťou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ri nepriamej distribúcii – distribútorom (bankou, o.c.p., finančným agentom)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cieľom je umožniť investorom prijať informované investičné rozhodnut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Kľúčové informácie pre investorov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Základné atribút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Stručnos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2-stranový doku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Jednoduchos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Musí byť zrozumiteľný bez odkazov na iné dokumen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Zrozumiteľnosť pre bežného invest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Je potrebné používať netechnický jazyk, bez žargónu a odborných výraz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Porovnateľnos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Zhodná forma pre všetky UCITS fondy v E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Príst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ovinnosť zverejnenia na webovej stránke správcovskej spoločnosti a v listinnej podobe v sídle správcovskej spoločnosti  a depozitára a na každom predajnom mies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Základné prvky KID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kačné údaje správcu a fon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rátky opis investičných cieľov a investičnej politi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ulá výkonnosť (scenáre výkonnost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áklady a poplatky súvisiace s investício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zikovo-výnosový profil, vrátane varovania pred rizikami súvisiacimi s investício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datočné praktické informác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Jednotná forma KID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468440" y="2060640"/>
            <a:ext cx="6229440" cy="4321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Komunikácia s podielnikmi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sobitné prípad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Zlučovanie fondov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Zmeny týkajúce sa „master-feeder“ štruktú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mena štandardného podielového fondu na zberný fo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mena hlavného fond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lúčenie hlavného fond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 týchto prípadoch má správca povinnosť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sobitne informovať podielnikov,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skytnúť zákonom vymedzené informácie (napr. KID hlavného fondu) a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umožniť im počas 30 dní redemáciu bez uplatnenia výstupných poplatkov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ormácie by mali byť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sobne adresované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odielnik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ípustná j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ísomná forma alebo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ma trvanlivého média (napr. email), ak je to pre klienta vhodné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munikáciu s podielnikmi môže správca zveriť distribútor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50920" y="1052640"/>
            <a:ext cx="2736720" cy="1081080"/>
          </a:xfrm>
          <a:prstGeom prst="roundRect">
            <a:avLst>
              <a:gd name="adj" fmla="val 16667"/>
            </a:avLst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UC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štandardné podielové fondy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1052640"/>
            <a:ext cx="5689440" cy="1081080"/>
          </a:xfrm>
          <a:prstGeom prst="roundRect">
            <a:avLst>
              <a:gd name="adj" fmla="val 16667"/>
            </a:avLst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on-UC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špeciálne podielové fondy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0920" y="2205000"/>
            <a:ext cx="2735280" cy="432000"/>
          </a:xfrm>
          <a:prstGeom prst="rect">
            <a:avLst/>
          </a:prstGeom>
          <a:noFill/>
          <a:ln w="9360">
            <a:solidFill>
              <a:srgbClr val="00388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81"/>
                </a:solidFill>
                <a:latin typeface="Tahoma"/>
              </a:rPr>
              <a:t>Výhrad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81"/>
                </a:solidFill>
                <a:latin typeface="Tahoma"/>
              </a:rPr>
              <a:t>otvorené podielové fon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03640" y="2205000"/>
            <a:ext cx="5689440" cy="432000"/>
          </a:xfrm>
          <a:prstGeom prst="rect">
            <a:avLst/>
          </a:prstGeom>
          <a:noFill/>
          <a:ln w="9360">
            <a:solidFill>
              <a:srgbClr val="00388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81"/>
                </a:solidFill>
                <a:latin typeface="Tahoma"/>
              </a:rPr>
              <a:t>Otvorené podielové fon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81"/>
                </a:solidFill>
                <a:latin typeface="Tahoma"/>
              </a:rPr>
              <a:t>a uzavreté podielové fon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03640" y="2708280"/>
            <a:ext cx="2592360" cy="576360"/>
          </a:xfrm>
          <a:prstGeom prst="roundRect">
            <a:avLst>
              <a:gd name="adj" fmla="val 16667"/>
            </a:avLst>
          </a:prstGeom>
          <a:solidFill>
            <a:srgbClr val="003881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Verejné špeciálne podielové fon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35280" y="4149720"/>
            <a:ext cx="2160720" cy="647640"/>
          </a:xfrm>
          <a:prstGeom prst="roundRect">
            <a:avLst>
              <a:gd name="adj" fmla="val 16667"/>
            </a:avLst>
          </a:prstGeom>
          <a:solidFill>
            <a:srgbClr val="003881">
              <a:alpha val="30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„</a:t>
            </a: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Verejn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špeciálny podielový f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cenných papierov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35280" y="4797360"/>
            <a:ext cx="2160720" cy="647640"/>
          </a:xfrm>
          <a:prstGeom prst="roundRect">
            <a:avLst>
              <a:gd name="adj" fmla="val 16667"/>
            </a:avLst>
          </a:prstGeom>
          <a:solidFill>
            <a:srgbClr val="003881">
              <a:alpha val="30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„</a:t>
            </a: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Verejn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špeciálny podielový f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alternatívnych investícií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35280" y="3500280"/>
            <a:ext cx="2160720" cy="648000"/>
          </a:xfrm>
          <a:prstGeom prst="roundRect">
            <a:avLst>
              <a:gd name="adj" fmla="val 16667"/>
            </a:avLst>
          </a:prstGeom>
          <a:solidFill>
            <a:srgbClr val="003881">
              <a:alpha val="30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881"/>
                </a:solidFill>
                <a:latin typeface="Tahoma"/>
              </a:rPr>
              <a:t>„</a:t>
            </a: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Verejn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špeciálny podielový f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nehnuteľností</a:t>
            </a:r>
            <a:r>
              <a:rPr b="1" lang="en-US" sz="1200" spc="-1" strike="noStrike">
                <a:solidFill>
                  <a:srgbClr val="003881"/>
                </a:solidFill>
                <a:latin typeface="Tahoma"/>
              </a:rPr>
              <a:t>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940360" y="2708280"/>
            <a:ext cx="2952720" cy="576360"/>
          </a:xfrm>
          <a:prstGeom prst="roundRect">
            <a:avLst>
              <a:gd name="adj" fmla="val 16667"/>
            </a:avLst>
          </a:prstGeom>
          <a:solidFill>
            <a:srgbClr val="003881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Špeciálny podielový f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rofesionálnych investorov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0920" y="5516640"/>
            <a:ext cx="5545080" cy="217440"/>
          </a:xfrm>
          <a:prstGeom prst="rect">
            <a:avLst/>
          </a:prstGeom>
          <a:noFill/>
          <a:ln w="9360">
            <a:solidFill>
              <a:srgbClr val="00388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81"/>
                </a:solidFill>
                <a:latin typeface="Tahoma"/>
              </a:rPr>
              <a:t>Retailové fon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940360" y="5516640"/>
            <a:ext cx="2952720" cy="216000"/>
          </a:xfrm>
          <a:prstGeom prst="rect">
            <a:avLst/>
          </a:prstGeom>
          <a:noFill/>
          <a:ln w="9360">
            <a:solidFill>
              <a:srgbClr val="00388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81"/>
                </a:solidFill>
                <a:latin typeface="Tahoma"/>
              </a:rPr>
              <a:t>Profesionálne fon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3500280"/>
            <a:ext cx="2448000" cy="289080"/>
          </a:xfrm>
          <a:prstGeom prst="roundRect">
            <a:avLst>
              <a:gd name="adj" fmla="val 16667"/>
            </a:avLst>
          </a:prstGeom>
          <a:solidFill>
            <a:srgbClr val="003881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Fondy peňažného tr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6920" y="3860640"/>
            <a:ext cx="2160720" cy="289080"/>
          </a:xfrm>
          <a:prstGeom prst="roundRect">
            <a:avLst>
              <a:gd name="adj" fmla="val 16667"/>
            </a:avLst>
          </a:prstGeom>
          <a:solidFill>
            <a:srgbClr val="003881">
              <a:alpha val="30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Krátkodob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26920" y="4149720"/>
            <a:ext cx="2160720" cy="289080"/>
          </a:xfrm>
          <a:prstGeom prst="roundRect">
            <a:avLst>
              <a:gd name="adj" fmla="val 16667"/>
            </a:avLst>
          </a:prstGeom>
          <a:solidFill>
            <a:srgbClr val="003881">
              <a:alpha val="30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Dlhodobejš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0920" y="2708280"/>
            <a:ext cx="2736720" cy="720720"/>
          </a:xfrm>
          <a:prstGeom prst="roundRect">
            <a:avLst>
              <a:gd name="adj" fmla="val 16667"/>
            </a:avLst>
          </a:prstGeom>
          <a:solidFill>
            <a:srgbClr val="003881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Bežná produktová šká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(peňažné, akciové, dlhopisové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zmiešané, zaistené fon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9640" y="4508640"/>
            <a:ext cx="2448000" cy="288720"/>
          </a:xfrm>
          <a:prstGeom prst="roundRect">
            <a:avLst>
              <a:gd name="adj" fmla="val 16667"/>
            </a:avLst>
          </a:prstGeom>
          <a:solidFill>
            <a:srgbClr val="003881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Master-Feeder“ štruktú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26920" y="4869000"/>
            <a:ext cx="2160720" cy="288720"/>
          </a:xfrm>
          <a:prstGeom prst="roundRect">
            <a:avLst>
              <a:gd name="adj" fmla="val 16667"/>
            </a:avLst>
          </a:prstGeom>
          <a:solidFill>
            <a:srgbClr val="003881">
              <a:alpha val="30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„</a:t>
            </a: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Hlavný fond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6920" y="5157720"/>
            <a:ext cx="2160720" cy="289080"/>
          </a:xfrm>
          <a:prstGeom prst="roundRect">
            <a:avLst>
              <a:gd name="adj" fmla="val 16667"/>
            </a:avLst>
          </a:prstGeom>
          <a:solidFill>
            <a:srgbClr val="003881">
              <a:alpha val="30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„</a:t>
            </a: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Zberný (podriadený) fond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94920" y="3429000"/>
            <a:ext cx="144360" cy="1224000"/>
            <a:chOff x="394920" y="3429000"/>
            <a:chExt cx="144360" cy="1224000"/>
          </a:xfrm>
        </p:grpSpPr>
        <p:sp>
          <p:nvSpPr>
            <p:cNvPr id="240" name=""/>
            <p:cNvSpPr/>
            <p:nvPr/>
          </p:nvSpPr>
          <p:spPr>
            <a:xfrm>
              <a:off x="395280" y="3429000"/>
              <a:ext cx="0" cy="12240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394920" y="465300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394920" y="364500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84360" y="3789360"/>
            <a:ext cx="142560" cy="503280"/>
            <a:chOff x="684360" y="3789360"/>
            <a:chExt cx="142560" cy="503280"/>
          </a:xfrm>
        </p:grpSpPr>
        <p:sp>
          <p:nvSpPr>
            <p:cNvPr id="244" name=""/>
            <p:cNvSpPr/>
            <p:nvPr/>
          </p:nvSpPr>
          <p:spPr>
            <a:xfrm>
              <a:off x="684360" y="3789360"/>
              <a:ext cx="0" cy="503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4360" y="4292640"/>
              <a:ext cx="1425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4360" y="4005360"/>
              <a:ext cx="1425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84360" y="4797360"/>
            <a:ext cx="142560" cy="503280"/>
            <a:chOff x="684360" y="4797360"/>
            <a:chExt cx="142560" cy="503280"/>
          </a:xfrm>
        </p:grpSpPr>
        <p:sp>
          <p:nvSpPr>
            <p:cNvPr id="248" name=""/>
            <p:cNvSpPr/>
            <p:nvPr/>
          </p:nvSpPr>
          <p:spPr>
            <a:xfrm>
              <a:off x="684360" y="4797360"/>
              <a:ext cx="0" cy="503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4360" y="5300640"/>
              <a:ext cx="1425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4360" y="5013360"/>
              <a:ext cx="1425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419640" y="3284640"/>
            <a:ext cx="215640" cy="1873080"/>
            <a:chOff x="3419640" y="3284640"/>
            <a:chExt cx="215640" cy="1873080"/>
          </a:xfrm>
        </p:grpSpPr>
        <p:sp>
          <p:nvSpPr>
            <p:cNvPr id="252" name=""/>
            <p:cNvSpPr/>
            <p:nvPr/>
          </p:nvSpPr>
          <p:spPr>
            <a:xfrm>
              <a:off x="3419640" y="3284640"/>
              <a:ext cx="0" cy="18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19640" y="5157720"/>
              <a:ext cx="215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19640" y="4437000"/>
              <a:ext cx="215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19640" y="3789360"/>
              <a:ext cx="215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250920" y="5734080"/>
            <a:ext cx="5545080" cy="576360"/>
          </a:xfrm>
          <a:prstGeom prst="rect">
            <a:avLst/>
          </a:prstGeom>
          <a:noFill/>
          <a:ln w="9360">
            <a:solidFill>
              <a:srgbClr val="00388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81"/>
                </a:solidFill>
                <a:latin typeface="Tahoma"/>
              </a:rPr>
              <a:t>Spôsob distribúcie: najmä verejná ponu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81"/>
                </a:solidFill>
                <a:latin typeface="Tahoma"/>
              </a:rPr>
              <a:t>Dokumentácia: štatút, prospekt, KID, ročná a polročná sprá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940360" y="5734080"/>
            <a:ext cx="2951280" cy="576360"/>
          </a:xfrm>
          <a:prstGeom prst="rect">
            <a:avLst/>
          </a:prstGeom>
          <a:noFill/>
          <a:ln w="9360">
            <a:solidFill>
              <a:srgbClr val="00388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81"/>
                </a:solidFill>
                <a:latin typeface="Tahoma"/>
              </a:rPr>
              <a:t>Spôsob distribúcie: privátna ponu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81"/>
                </a:solidFill>
                <a:latin typeface="Tahoma"/>
              </a:rPr>
              <a:t>Dokumentácia: min. štatút, prospek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549360"/>
            <a:ext cx="842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ávrh rekodifikácie zákona o kolektívnom investovaní, stav k 5. novembru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50560" y="5300280"/>
            <a:ext cx="8705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4a45"/>
                </a:solidFill>
                <a:latin typeface="Tahoma"/>
              </a:rPr>
              <a:t>Ing. Tomáš Ambra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4a45"/>
                </a:solidFill>
                <a:latin typeface="Tahoma"/>
              </a:rPr>
              <a:t>Odbor regulácie a finančných analýz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4a45"/>
                </a:solidFill>
                <a:latin typeface="Tahoma"/>
              </a:rPr>
              <a:t>Národná banka Slovenska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250560" y="422100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881"/>
                </a:solidFill>
                <a:latin typeface="Tahoma"/>
              </a:rPr>
              <a:t>Ďakujem za pozornosť</a:t>
            </a:r>
            <a:endParaRPr b="0" lang="en-US" sz="3200" spc="-1" strike="noStrike">
              <a:solidFill>
                <a:srgbClr val="003881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81"/>
                </a:solidFill>
                <a:latin typeface="Tahoma"/>
              </a:rPr>
              <a:t>Harmonogram prípravy nového zákona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8360" y="2060640"/>
          <a:ext cx="8229600" cy="3744720"/>
        </p:xfrm>
        <a:graphic>
          <a:graphicData uri="http://schemas.openxmlformats.org/drawingml/2006/table">
            <a:tbl>
              <a:tblPr/>
              <a:tblGrid>
                <a:gridCol w="3024000"/>
                <a:gridCol w="52056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 November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verejnenie smernice UCITS IV v Ú. v. E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ebruár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onzultačný materiál MF SR k transpozícii smern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rec – Júl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íprava pracovnej verzie návrhu nového Z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 August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dloženie prvej pracovnej verzie odbornej verej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ptember – Október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pomienkovanie pracovnej verzie a konzultác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vember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ačiatok medzirezortného pripomienkového kon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cember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dloženie návrhu zákona vláde S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anuár – Marec 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rokúvanie návrhu zákona v Národnej rade S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Júl 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dpokladaná účinnosť nového záko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81"/>
                </a:solidFill>
                <a:latin typeface="Tahoma"/>
              </a:rPr>
              <a:t>Čo prináša nový zákon o kolektívnom investovaní?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Nové produkty pre slovenský tr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Zmeny v rámci distribúcie podielových list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Nové produkty pre slovenský trh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2133720"/>
            <a:ext cx="8207280" cy="368280"/>
          </a:xfrm>
          <a:prstGeom prst="rect">
            <a:avLst/>
          </a:prstGeom>
          <a:solidFill>
            <a:srgbClr val="003881"/>
          </a:solidFill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vé štruktúry fond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2565360"/>
            <a:ext cx="8207280" cy="705960"/>
          </a:xfrm>
          <a:prstGeom prst="rect">
            <a:avLst/>
          </a:prstGeom>
          <a:noFill/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Strešné podielové fondy (fondy s podfondam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Tranže“ podielových lis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3357720"/>
            <a:ext cx="4032360" cy="398880"/>
          </a:xfrm>
          <a:prstGeom prst="rect">
            <a:avLst/>
          </a:prstGeom>
          <a:solidFill>
            <a:srgbClr val="003881"/>
          </a:solidFill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vé UCITS produ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3280" y="3357720"/>
            <a:ext cx="4032360" cy="398880"/>
          </a:xfrm>
          <a:prstGeom prst="rect">
            <a:avLst/>
          </a:prstGeom>
          <a:solidFill>
            <a:srgbClr val="003881"/>
          </a:solidFill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n-UCITS produ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3789360"/>
            <a:ext cx="4032360" cy="2788200"/>
          </a:xfrm>
          <a:prstGeom prst="rect">
            <a:avLst/>
          </a:prstGeom>
          <a:noFill/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ndy peňažného tr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ster – feeder“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3280" y="3789360"/>
            <a:ext cx="4032360" cy="2527560"/>
          </a:xfrm>
          <a:prstGeom prst="rect">
            <a:avLst/>
          </a:prstGeom>
          <a:noFill/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bnovenie uzavretých podielových fond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tailové fondy – „verejné špeciálne podielové fondy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ejný š.p.f. cenných papier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ejný š.p.f. alternatívnych investíci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ejný š.p.f. nehnuteľnos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Špeciálne podielové fondy profesionálnych investor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Strešné podielové fond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59480" y="206028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ac podfondov v rámci jedného podielového fon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ôžu sa odlišovať napríklad investičnou stratégio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dnotlivé podfondy sú medzi sebou účtovne oddelen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úspora nákladov pri administrácii fondu, nap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ozitárska úscho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kumentácia fon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úspora nákladov a času pri spustení nového produktu (prostredníctvom zmeny štatút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39640" y="1989000"/>
            <a:ext cx="3888000" cy="4319640"/>
            <a:chOff x="539640" y="1989000"/>
            <a:chExt cx="3888000" cy="4319640"/>
          </a:xfrm>
        </p:grpSpPr>
        <p:sp>
          <p:nvSpPr>
            <p:cNvPr id="103" name=""/>
            <p:cNvSpPr/>
            <p:nvPr/>
          </p:nvSpPr>
          <p:spPr>
            <a:xfrm>
              <a:off x="539640" y="1989000"/>
              <a:ext cx="3888000" cy="4319640"/>
            </a:xfrm>
            <a:prstGeom prst="rect">
              <a:avLst/>
            </a:prstGeom>
            <a:noFill/>
            <a:ln w="38160">
              <a:solidFill>
                <a:srgbClr val="0038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9640" y="1989000"/>
              <a:ext cx="3888000" cy="576360"/>
            </a:xfrm>
            <a:prstGeom prst="rect">
              <a:avLst/>
            </a:prstGeom>
            <a:solidFill>
              <a:srgbClr val="0038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Strešný podielový fond XY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4360" y="2852640"/>
              <a:ext cx="2303280" cy="720720"/>
            </a:xfrm>
            <a:prstGeom prst="roundRect">
              <a:avLst>
                <a:gd name="adj" fmla="val 16667"/>
              </a:avLst>
            </a:prstGeom>
            <a:solidFill>
              <a:srgbClr val="0038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Podfond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(americký akciový fond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4360" y="3716280"/>
              <a:ext cx="2303280" cy="720720"/>
            </a:xfrm>
            <a:prstGeom prst="roundRect">
              <a:avLst>
                <a:gd name="adj" fmla="val 16667"/>
              </a:avLst>
            </a:prstGeom>
            <a:solidFill>
              <a:srgbClr val="0038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Podfond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(európsky dlhopisový fond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4360" y="5445000"/>
              <a:ext cx="2303280" cy="7207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4360" y="4581360"/>
              <a:ext cx="2303280" cy="720720"/>
            </a:xfrm>
            <a:prstGeom prst="roundRect">
              <a:avLst>
                <a:gd name="adj" fmla="val 16667"/>
              </a:avLst>
            </a:prstGeom>
            <a:solidFill>
              <a:srgbClr val="0038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Podfond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(zmiešaný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akciovo-dlhopisový fond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4360" y="5805360"/>
              <a:ext cx="18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881"/>
                  </a:solidFill>
                  <a:latin typeface="Tahoma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4360" y="5661000"/>
              <a:ext cx="18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881"/>
                  </a:solidFill>
                  <a:latin typeface="Tahoma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360" y="5516640"/>
              <a:ext cx="18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881"/>
                  </a:solidFill>
                  <a:latin typeface="Tahoma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„</a:t>
            </a: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Tranže“ podielových listov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59480" y="206028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odielové listy každého fondu alebo podfondu sa môžu rozdeliť do rôznych „tranží“ (druhov) odlišných podľ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Okruhu investor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Denominačnej  me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Výšky vstupných a výstupných poplatk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Výšky odplaty za správ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Spôsobu rozdelenia výnos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výhoda – prispôsobenie produktu rôznym segmentom dopyt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1989000"/>
            <a:ext cx="3888000" cy="4319640"/>
          </a:xfrm>
          <a:prstGeom prst="rect">
            <a:avLst/>
          </a:prstGeom>
          <a:noFill/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1989000"/>
            <a:ext cx="3888000" cy="576360"/>
          </a:xfrm>
          <a:prstGeom prst="rect">
            <a:avLst/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rešný podielový fond XY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2852640"/>
            <a:ext cx="2303280" cy="720720"/>
          </a:xfrm>
          <a:prstGeom prst="roundRect">
            <a:avLst>
              <a:gd name="adj" fmla="val 16667"/>
            </a:avLst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odfon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americký akciový fo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4149720"/>
            <a:ext cx="2303280" cy="720720"/>
          </a:xfrm>
          <a:prstGeom prst="roundRect">
            <a:avLst>
              <a:gd name="adj" fmla="val 16667"/>
            </a:avLst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odfond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európsky dlhopisový fo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5445000"/>
            <a:ext cx="230328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5373720"/>
            <a:ext cx="2303280" cy="720720"/>
          </a:xfrm>
          <a:prstGeom prst="roundRect">
            <a:avLst>
              <a:gd name="adj" fmla="val 16667"/>
            </a:avLst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odfond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zmiešan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kciovo-dlhopisový fo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2708280"/>
            <a:ext cx="1008000" cy="433440"/>
          </a:xfrm>
          <a:prstGeom prst="roundRect">
            <a:avLst>
              <a:gd name="adj" fmla="val 16667"/>
            </a:avLst>
          </a:prstGeom>
          <a:solidFill>
            <a:srgbClr val="00388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3881"/>
                </a:solidFill>
                <a:latin typeface="Tahoma"/>
              </a:rPr>
              <a:t>Tranža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3881"/>
                </a:solidFill>
                <a:latin typeface="Tahoma"/>
              </a:rPr>
              <a:t>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3213000"/>
            <a:ext cx="1008000" cy="432000"/>
          </a:xfrm>
          <a:prstGeom prst="roundRect">
            <a:avLst>
              <a:gd name="adj" fmla="val 16667"/>
            </a:avLst>
          </a:prstGeom>
          <a:solidFill>
            <a:srgbClr val="00388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3881"/>
                </a:solidFill>
                <a:latin typeface="Tahoma"/>
              </a:rPr>
              <a:t>Tranža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3881"/>
                </a:solidFill>
                <a:latin typeface="Tahoma"/>
              </a:rPr>
              <a:t>CZ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4005360"/>
            <a:ext cx="1008000" cy="433440"/>
          </a:xfrm>
          <a:prstGeom prst="roundRect">
            <a:avLst>
              <a:gd name="adj" fmla="val 16667"/>
            </a:avLst>
          </a:prstGeom>
          <a:solidFill>
            <a:srgbClr val="00388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3881"/>
                </a:solidFill>
                <a:latin typeface="Tahoma"/>
              </a:rPr>
              <a:t>Tranža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3881"/>
                </a:solidFill>
                <a:latin typeface="Tahoma"/>
              </a:rPr>
              <a:t>rast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4510080"/>
            <a:ext cx="1008000" cy="431640"/>
          </a:xfrm>
          <a:prstGeom prst="roundRect">
            <a:avLst>
              <a:gd name="adj" fmla="val 16667"/>
            </a:avLst>
          </a:prstGeom>
          <a:solidFill>
            <a:srgbClr val="00388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3881"/>
                </a:solidFill>
                <a:latin typeface="Tahoma"/>
              </a:rPr>
              <a:t>Tranža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3881"/>
                </a:solidFill>
                <a:latin typeface="Tahoma"/>
              </a:rPr>
              <a:t>výnos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5229360"/>
            <a:ext cx="1008000" cy="433080"/>
          </a:xfrm>
          <a:prstGeom prst="roundRect">
            <a:avLst>
              <a:gd name="adj" fmla="val 16667"/>
            </a:avLst>
          </a:prstGeom>
          <a:solidFill>
            <a:srgbClr val="00388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3881"/>
                </a:solidFill>
                <a:latin typeface="Tahoma"/>
              </a:rPr>
              <a:t>Tranža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3881"/>
                </a:solidFill>
                <a:latin typeface="Tahoma"/>
              </a:rPr>
              <a:t>r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5734080"/>
            <a:ext cx="1008000" cy="431640"/>
          </a:xfrm>
          <a:prstGeom prst="roundRect">
            <a:avLst>
              <a:gd name="adj" fmla="val 16667"/>
            </a:avLst>
          </a:prstGeom>
          <a:solidFill>
            <a:srgbClr val="00388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3881"/>
                </a:solidFill>
                <a:latin typeface="Tahoma"/>
              </a:rPr>
              <a:t>Tranža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3881"/>
                </a:solidFill>
                <a:latin typeface="Tahoma"/>
              </a:rPr>
              <a:t>inštitucionál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UCITS fond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ernica IV nemá podstatný vplyv na produktovú reguláciu UCITS fondo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avidlá investovania a limity obmedzenia a rozloženia rizika zostávajú zachované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voditeľné cenné papiere (akcie, dlhopisy, atď.), nástroje peňažného trhu, CP iných subjektov kolektívneho investovania, vklady, finančné deriváty,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ípustná je len forma otvoreného podielového fon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vý zákon v oblasti UCITS fondo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lovenský UCITS fond – „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Štandardný podielový fon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“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snejšie budú vymedzené fondy peňažného trhu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Zavedenie „master-feeder“ štruktú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Fondy peňažného trhu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line CESR (Výbor európskych regulátorov cenných papierov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ícia fondov peňažného trhu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krátkodobý fond peňažného trhu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fond peňažného trhu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nd, ktorý nebude spĺňať definíciu, sa nebude môcť označovať alebo predávať ako fond peňažného trhu (prípadne peňažný fon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účasný stav portfólií a potreba lehoty na prispôsobeni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likácia prostredníctvom zákona a vykonávacieho predpis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11:29:03Z</dcterms:created>
  <dc:creator>User</dc:creator>
  <dc:description/>
  <dc:language>en-US</dc:language>
  <cp:lastModifiedBy>User</cp:lastModifiedBy>
  <dcterms:modified xsi:type="dcterms:W3CDTF">2010-10-28T07:16:16Z</dcterms:modified>
  <cp:revision>13</cp:revision>
  <dc:subject/>
  <dc:title>Slide 1</dc:title>
</cp:coreProperties>
</file>