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15.wmf" ContentType="image/x-wmf"/>
  <Override PartName="/ppt/media/image7.png" ContentType="image/png"/>
  <Override PartName="/ppt/media/image34.jpeg" ContentType="image/jpeg"/>
  <Override PartName="/ppt/media/image12.png" ContentType="image/png"/>
  <Override PartName="/ppt/media/image16.wmf" ContentType="image/x-wmf"/>
  <Override PartName="/ppt/media/image8.png" ContentType="image/png"/>
  <Override PartName="/ppt/media/image11.jpeg" ContentType="image/jpeg"/>
  <Override PartName="/ppt/media/image5.png" ContentType="image/png"/>
  <Override PartName="/ppt/media/image13.wmf" ContentType="image/x-wmf"/>
  <Override PartName="/ppt/media/image30.wmf" ContentType="image/x-wmf"/>
  <Override PartName="/ppt/media/image33.jpeg" ContentType="image/jpeg"/>
  <Override PartName="/ppt/media/image10.png" ContentType="image/png"/>
  <Override PartName="/ppt/media/image28.wmf" ContentType="image/x-wmf"/>
  <Override PartName="/ppt/media/image9.png" ContentType="image/png"/>
  <Override PartName="/ppt/media/image31.jpeg" ContentType="image/jpeg"/>
  <Override PartName="/ppt/media/image2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4.png" ContentType="image/png"/>
  <Override PartName="/ppt/media/image18.wmf" ContentType="image/x-wmf"/>
  <Override PartName="/ppt/media/image32.jpeg" ContentType="image/jpeg"/>
  <Override PartName="/ppt/media/image20.wmf" ContentType="image/x-wmf"/>
  <Override PartName="/ppt/media/image19.jpeg" ContentType="image/jpeg"/>
  <Override PartName="/ppt/media/image29.wmf" ContentType="image/x-wmf"/>
  <Override PartName="/ppt/media/image1.png" ContentType="image/png"/>
  <Override PartName="/ppt/media/image2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772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016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528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772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016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452520"/>
            <a:ext cx="8229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772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016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528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772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016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452520"/>
            <a:ext cx="8229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7772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6016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528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7772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6016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52520"/>
            <a:ext cx="8229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2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31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82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360" y="6303960"/>
            <a:ext cx="23112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Názov prezentácie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519F-5066-4D97-97B4-F245EC21C7BD}" type="datetime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Times New Roman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F769166-2CCB-4226-B02A-74F43BDA8325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6"/>
          <p:cNvSpPr/>
          <p:nvPr/>
        </p:nvSpPr>
        <p:spPr>
          <a:xfrm>
            <a:off x="552600" y="1222200"/>
            <a:ext cx="7989840" cy="0"/>
          </a:xfrm>
          <a:prstGeom prst="line">
            <a:avLst/>
          </a:prstGeom>
          <a:ln w="50760">
            <a:solidFill>
              <a:srgbClr val="0836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2"/>
          <p:cNvSpPr/>
          <p:nvPr/>
        </p:nvSpPr>
        <p:spPr>
          <a:xfrm>
            <a:off x="4824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" descr="Erste_Asset_rgb"/>
          <p:cNvPicPr/>
          <p:nvPr/>
        </p:nvPicPr>
        <p:blipFill>
          <a:blip r:embed="rId2"/>
          <a:stretch/>
        </p:blipFill>
        <p:spPr>
          <a:xfrm>
            <a:off x="5003640" y="6237360"/>
            <a:ext cx="1440000" cy="301680"/>
          </a:xfrm>
          <a:prstGeom prst="rect">
            <a:avLst/>
          </a:prstGeom>
          <a:ln w="0">
            <a:noFill/>
          </a:ln>
        </p:spPr>
      </p:pic>
      <p:sp>
        <p:nvSpPr>
          <p:cNvPr id="6" name="Text Box 22"/>
          <p:cNvSpPr/>
          <p:nvPr/>
        </p:nvSpPr>
        <p:spPr>
          <a:xfrm>
            <a:off x="6948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9" descr="AM SLSP cmyk kopie"/>
          <p:cNvPicPr/>
          <p:nvPr/>
        </p:nvPicPr>
        <p:blipFill>
          <a:blip r:embed="rId3"/>
          <a:stretch/>
        </p:blipFill>
        <p:spPr>
          <a:xfrm>
            <a:off x="6659640" y="6221520"/>
            <a:ext cx="2347920" cy="30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Erste_Asset_rgb"/>
          <p:cNvPicPr/>
          <p:nvPr/>
        </p:nvPicPr>
        <p:blipFill>
          <a:blip r:embed="rId2"/>
          <a:stretch/>
        </p:blipFill>
        <p:spPr>
          <a:xfrm>
            <a:off x="468360" y="6093000"/>
            <a:ext cx="2698560" cy="564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AM SLSP cmyk kopie"/>
          <p:cNvPicPr/>
          <p:nvPr/>
        </p:nvPicPr>
        <p:blipFill>
          <a:blip r:embed="rId3"/>
          <a:stretch/>
        </p:blipFill>
        <p:spPr>
          <a:xfrm>
            <a:off x="5435640" y="6237360"/>
            <a:ext cx="3282840" cy="423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2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31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82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6"/>
          <p:cNvSpPr/>
          <p:nvPr/>
        </p:nvSpPr>
        <p:spPr>
          <a:xfrm>
            <a:off x="552600" y="1222200"/>
            <a:ext cx="7989840" cy="0"/>
          </a:xfrm>
          <a:prstGeom prst="line">
            <a:avLst/>
          </a:prstGeom>
          <a:ln w="50760">
            <a:solidFill>
              <a:srgbClr val="0836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824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7" descr="Erste_Asset_rgb"/>
          <p:cNvPicPr/>
          <p:nvPr/>
        </p:nvPicPr>
        <p:blipFill>
          <a:blip r:embed="rId2"/>
          <a:stretch/>
        </p:blipFill>
        <p:spPr>
          <a:xfrm>
            <a:off x="5003640" y="6237360"/>
            <a:ext cx="1440000" cy="301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2"/>
          <p:cNvSpPr/>
          <p:nvPr/>
        </p:nvSpPr>
        <p:spPr>
          <a:xfrm>
            <a:off x="6948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9" descr="AM SLSP cmyk kopie"/>
          <p:cNvPicPr/>
          <p:nvPr/>
        </p:nvPicPr>
        <p:blipFill>
          <a:blip r:embed="rId3"/>
          <a:stretch/>
        </p:blipFill>
        <p:spPr>
          <a:xfrm>
            <a:off x="6659640" y="6221520"/>
            <a:ext cx="234792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2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31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82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46800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Times New Roman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112D-D049-47C5-A986-6600AC5233FC}" type="datetime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Times New Roman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CD77E58-A599-493B-BE02-5B7A14572CE6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3320" y="1125360"/>
            <a:ext cx="8140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3680" y="3429000"/>
            <a:ext cx="82072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6. November 2010 – Nízke Tatry, Jas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eter He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enior portfolio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sset Management Slovenskej sporiteľn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ráv. spol.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8463-ED5F-440B-AD3A-70CC4CD2B907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5751C676-C2E4-4C51-B0F3-433053E59BC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. Makroekonomická situácia – stručný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244520" y="1989000"/>
            <a:ext cx="6207120" cy="3743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539640" y="1341360"/>
            <a:ext cx="79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9280" indent="-179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ízke miery inflácie vo svete momentálne podporujú hlavné centrálne banky sveta (ECB, FED a BoJ) v pokračovaní silne expanzívnej menovej politik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99"/>
              </a:spcBef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ĺžnik 8"/>
          <p:cNvSpPr/>
          <p:nvPr/>
        </p:nvSpPr>
        <p:spPr>
          <a:xfrm>
            <a:off x="1194840" y="566100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1973-0904-4650-865B-8D9604255926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E3CA917C-E540-4AD5-B740-6F2A29AE0FB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5184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merické a nemecké výnosy štátnych dlhopisov na historických minimách, strhujúca rally počas roku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dex finančných podmienok v USA sa stále zlepšuje – dosiahnutie neutrálnej úrovne (už nepredstavuje negatívny efek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olatilita a strmosť kriviek sa postupne normalizujú, iba kreditné prirážky ostávajú výrazne vyššie (viac ako 1 ST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ízke inflačné očakávania investorov, nízke využitie výrobných fakto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blémy dlhového financovania v krajinách eurozóny – hlavné ekonomiky vs. okraj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výšenie atraktivity vybraných EM trhov – vyšší hosp. rast - rastúca kreditná kva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\\shq404\MPPAMSLSP\OBRAZKY\j0399221.jpg"/>
          <p:cNvPicPr/>
          <p:nvPr/>
        </p:nvPicPr>
        <p:blipFill>
          <a:blip r:embed="rId1"/>
          <a:stretch/>
        </p:blipFill>
        <p:spPr>
          <a:xfrm>
            <a:off x="5435640" y="1884240"/>
            <a:ext cx="370512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D4DC-DA45-4561-A59D-B42E7AD6A812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2796B260-232C-4510-92DA-E4AD97C11A5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1912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malenie ekonomiky, nízka jadrová inflácia, kľúčové sadzby na minimách a riziková averzia investorov vytvárali podporu pre hlavné dlhopisové trhy v USA a Nemeck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výnosy dosiahli historické minim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1733400" y="2205000"/>
            <a:ext cx="5934240" cy="3791160"/>
          </a:xfrm>
          <a:prstGeom prst="rect">
            <a:avLst/>
          </a:prstGeom>
          <a:ln w="0">
            <a:noFill/>
          </a:ln>
        </p:spPr>
      </p:pic>
      <p:sp>
        <p:nvSpPr>
          <p:cNvPr id="187" name="Obdĺžnik 8"/>
          <p:cNvSpPr/>
          <p:nvPr/>
        </p:nvSpPr>
        <p:spPr>
          <a:xfrm>
            <a:off x="1686960" y="591984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BlokTextu 6"/>
          <p:cNvSpPr/>
          <p:nvPr/>
        </p:nvSpPr>
        <p:spPr>
          <a:xfrm>
            <a:off x="2310480" y="2133720"/>
            <a:ext cx="34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ývoj 10Y výnosu USA a GER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6E8A-3D66-4A63-A1EF-AA786F68B34F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FF6799C1-BAF1-433C-B596-939407A1A9E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30240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adzby FEDu na minime a pravdepodobne budú dlhší čas níz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spekt ďalšieho kola kvantitatívneho uvoľňovania – pozitívne pre dlhopi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ízko-inflačné prostredie z pohľadu F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Ekonomický vývoj zaostáva za potenciálom – output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egatívom US štátnych dlhopisov je veľmi nízky nominálny výn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3551400" y="1413000"/>
            <a:ext cx="5052960" cy="3240000"/>
          </a:xfrm>
          <a:prstGeom prst="rect">
            <a:avLst/>
          </a:prstGeom>
          <a:ln w="0">
            <a:noFill/>
          </a:ln>
        </p:spPr>
      </p:pic>
      <p:sp>
        <p:nvSpPr>
          <p:cNvPr id="193" name="Obdĺžnik 8"/>
          <p:cNvSpPr/>
          <p:nvPr/>
        </p:nvSpPr>
        <p:spPr>
          <a:xfrm>
            <a:off x="3499920" y="458136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D79C-88D5-4E18-8226-4E43C435C34F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7F7313CA-C228-45CF-AC83-7631264BDE9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3564000" y="1413000"/>
            <a:ext cx="5040360" cy="3240000"/>
          </a:xfrm>
          <a:prstGeom prst="rect">
            <a:avLst/>
          </a:prstGeom>
          <a:ln w="0">
            <a:noFill/>
          </a:ln>
        </p:spPr>
      </p:pic>
      <p:sp>
        <p:nvSpPr>
          <p:cNvPr id="197" name="Obdĺžnik 8"/>
          <p:cNvSpPr/>
          <p:nvPr/>
        </p:nvSpPr>
        <p:spPr>
          <a:xfrm>
            <a:off x="3499920" y="458136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468360" y="1341360"/>
            <a:ext cx="31669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adzby ECB ostávajú veľmi níz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omalenie ekonomického vývoja vo viacerých krajinách eurozó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tek ku kvalite (Nemecko vs. okrajové ekonomiky PII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ízka inflácia vytvára podporu dlhopis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egatívom pre dlhopisy EÚ je pomerne vysoká aktivita štátnych emitentov na primárnom trhu – nadmerná ponuka dlhopis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96B9-C3CD-42B4-9989-E9CD7F8D72F2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83451DFE-4D38-4E2B-8687-FA591CC44A2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6018120" cy="41054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ĺžnik 8"/>
          <p:cNvSpPr/>
          <p:nvPr/>
        </p:nvSpPr>
        <p:spPr>
          <a:xfrm>
            <a:off x="1699920" y="591984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BlokTextu 7"/>
          <p:cNvSpPr/>
          <p:nvPr/>
        </p:nvSpPr>
        <p:spPr>
          <a:xfrm>
            <a:off x="1807920" y="1793880"/>
            <a:ext cx="274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Vývoj ceny 5Y CDS (v b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19120" y="119700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tek ku kvalite, jadrové krajiny vs. okrajové krajiny (PIIGS) Eurozó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pora zo strany mechanizmu EFSF, vysoký stav likvidity na tr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ál 9"/>
          <p:cNvSpPr/>
          <p:nvPr/>
        </p:nvSpPr>
        <p:spPr>
          <a:xfrm>
            <a:off x="6732720" y="2781360"/>
            <a:ext cx="718920" cy="17272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D7C9-B9DB-45D0-9513-D75FA98561EF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9F889224-B944-42C4-BB10-4A1BF756C1D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3635280" y="1413000"/>
            <a:ext cx="5040360" cy="3311280"/>
          </a:xfrm>
          <a:prstGeom prst="rect">
            <a:avLst/>
          </a:prstGeom>
          <a:ln w="0">
            <a:noFill/>
          </a:ln>
        </p:spPr>
      </p:pic>
      <p:sp>
        <p:nvSpPr>
          <p:cNvPr id="210" name="Obdĺžnik 8"/>
          <p:cNvSpPr/>
          <p:nvPr/>
        </p:nvSpPr>
        <p:spPr>
          <a:xfrm>
            <a:off x="3571560" y="465300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468360" y="1413000"/>
            <a:ext cx="31669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máce výnosy štátnych dlhopisov zaznamenali pokles od začiatku roka a kopírovali tak dianie na benchmarkovom nemeckom tr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plyv zvýšenej nervozity investorov (problémy Grécka a krajín PIIGS) sa zatiaľ preniesol na SK dlhopisy len v obmedzenej mi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ďalej domáce dlhopisy patria v rámci regiónu k tým najvyhľadávanejším a dopyt hlavne od zahraničných hráčov drží výnosy dlhších splatností nižš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8922-D962-4872-82B3-D2C0441BE474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E8737940-7DCC-40D5-8BF0-76B4BD6B653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3635280" y="1413000"/>
            <a:ext cx="4983120" cy="3311280"/>
          </a:xfrm>
          <a:prstGeom prst="rect">
            <a:avLst/>
          </a:prstGeom>
          <a:ln w="0">
            <a:noFill/>
          </a:ln>
        </p:spPr>
      </p:pic>
      <p:sp>
        <p:nvSpPr>
          <p:cNvPr id="215" name="Obdĺžnik 8"/>
          <p:cNvSpPr/>
          <p:nvPr/>
        </p:nvSpPr>
        <p:spPr>
          <a:xfrm>
            <a:off x="3560400" y="465300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468360" y="1413000"/>
            <a:ext cx="3095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ýnosy slovenských štátnych dlhopisov sa  obchodujú s veľmi zaujímavou kreditnou prirážkou voči nemecký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79866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ôvodom je jednak nižšia likvidita domáceho trhu (likviditná prémia) ako aj nižšia ochota investorov podstupovať riziko (aktuálny rating Slovenska A+ vs. Nemecka AA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79866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rátkodobé oslabenie záujmu investorov o dodatočný výnos a obavy o vývoj fiškálneho deficitu európskych krajín môžu znamenať volatilný vývoj kreditnej priráž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7986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2D83-4206-4C31-8BBD-1338795E5FAB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E4B74B77-F1EC-42F5-A004-1B3FA68DAA6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5910120" cy="40338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519120" y="1197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 pohľadu cien kontraktov CDS patrí Slovensko k relatívne bezpečnejším emitentom v rámci regiónu ale aj v porovnaní s okrajovými krajinami EM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bdĺžnik 8"/>
          <p:cNvSpPr/>
          <p:nvPr/>
        </p:nvSpPr>
        <p:spPr>
          <a:xfrm>
            <a:off x="1626840" y="595008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BlokTextu 8"/>
          <p:cNvSpPr/>
          <p:nvPr/>
        </p:nvSpPr>
        <p:spPr>
          <a:xfrm>
            <a:off x="1736280" y="1866960"/>
            <a:ext cx="274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Vývoj ceny 5Y CDS (v b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E4E6-CC19-4A64-B19A-FF2D5C383133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A54F0D4A-5C18-4AE8-8900-2F2301487E1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3564000" y="1409760"/>
            <a:ext cx="5108400" cy="33145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468360" y="1413000"/>
            <a:ext cx="30956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rajiny CEE regiónu napredujú v oblasti zotavovania ich ekonomí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ľúčové ukazovatele zadĺženosti naznačujú ďalšiu potrebu fiškálnej konsolidácie = riziká pre ďalší vývoj dlhopis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bytky stavu likvidity a následné kapitálové toky pomáhajú lokálnym menám región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Centrálne banky v regióne ostávajú vo fáze expanzívnej menovej politi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7986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bdĺžnik 8"/>
          <p:cNvSpPr/>
          <p:nvPr/>
        </p:nvSpPr>
        <p:spPr>
          <a:xfrm>
            <a:off x="3499920" y="465300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D1E8-F3D5-4DC8-A75D-A2EAE57765C2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009FEB7B-3424-48C2-8EEA-DE65BFC6778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Obsah prezentác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1. Prehľad hlavných tém dlhopisových trhov v roku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 Makroekonomická situácia – stručný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ast HDP a ekonomické zotavov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ládny dlh krají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flačný vývoj a Menová politika C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 a Nemec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 a CEE reg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rporátny segment a 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4. Záver a zhodnot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3D0E-5420-4680-AA07-264371F2DB2F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7024F9A7-A0F2-4A6C-8864-0D780FAD43C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1521000" y="2060640"/>
            <a:ext cx="6146640" cy="3889440"/>
          </a:xfrm>
          <a:prstGeom prst="rect">
            <a:avLst/>
          </a:prstGeom>
          <a:ln w="0">
            <a:noFill/>
          </a:ln>
        </p:spPr>
      </p:pic>
      <p:sp>
        <p:nvSpPr>
          <p:cNvPr id="231" name="Obdĺžnik 8"/>
          <p:cNvSpPr/>
          <p:nvPr/>
        </p:nvSpPr>
        <p:spPr>
          <a:xfrm>
            <a:off x="1483920" y="591984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51912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spekt posilňovania mien regiónu robí aktíva atraktívnejšími (CZK a PL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onvergenčný príbeh čiastočne stratil na sile, politické riziká (HUF a 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BlokTextu 8"/>
          <p:cNvSpPr/>
          <p:nvPr/>
        </p:nvSpPr>
        <p:spPr>
          <a:xfrm>
            <a:off x="2430360" y="1989000"/>
            <a:ext cx="44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Vývoj vybraných mien regiónu CEE (normaliz.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4F6C-3E0F-441B-8DF1-198DF221F8DB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2FF818D5-B5A4-4552-BD97-9D164CA81B9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5715000" cy="3456000"/>
          </a:xfrm>
          <a:prstGeom prst="rect">
            <a:avLst/>
          </a:prstGeom>
          <a:ln w="0">
            <a:noFill/>
          </a:ln>
        </p:spPr>
      </p:pic>
      <p:sp>
        <p:nvSpPr>
          <p:cNvPr id="237" name="Obdĺžnik 8"/>
          <p:cNvSpPr/>
          <p:nvPr/>
        </p:nvSpPr>
        <p:spPr>
          <a:xfrm>
            <a:off x="1626840" y="580536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51912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reditné prirážky korporátnych emitentov významne poklesli od začiatku roka, avšak z dlhodobého pohľadu stále dosahujú vysoké úrov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ýznamný rozdiel v prirážkach najmä medzi investičným stupňom ratingového hodnotenia a pásmom High-yield – investičné obmedze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41A5-9061-41BA-B9B2-96233261AD8C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20CFA4DF-9204-4A8B-84E9-2C6E0B4916C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1797120" y="2421000"/>
            <a:ext cx="5511600" cy="35402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519120" y="119700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79866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spodársky rast EM krajín sa nachádza na vyššej úrovni ako rast vyspelých krají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79866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 toho dôvodu úverová schopnosť týchto emitentov sa zvyšuj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79866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pokladáme teda, že atraktivita kreditných prirážok EM krajín by mala pokračovať. Najmä pokiaľ ide o dlhopisové investície denominované v hlavných men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7986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bdĺžnik 8"/>
          <p:cNvSpPr/>
          <p:nvPr/>
        </p:nvSpPr>
        <p:spPr>
          <a:xfrm>
            <a:off x="1760040" y="595008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F2AF-ECCC-4742-90CC-319A02690834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699F8C0F-1525-4B33-89AB-7064F90A330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. Záver a zhodnoten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30970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Bude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lhopisový inv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ôcť opäť tešiť 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aujímavý výn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ufória aleb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triezven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\\shq404\MPPAMSLSP\OBRAZKY\j0431739.jpg"/>
          <p:cNvPicPr/>
          <p:nvPr/>
        </p:nvPicPr>
        <p:blipFill>
          <a:blip r:embed="rId1"/>
          <a:stretch/>
        </p:blipFill>
        <p:spPr>
          <a:xfrm>
            <a:off x="3419640" y="1413000"/>
            <a:ext cx="453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F074-574E-4AC7-9E30-ADD30F7151E2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DA25A341-4346-42F5-85B8-51ACDD5A7D2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. Záver a zhodnoten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9000"/>
          </a:bodyPr>
          <a:p>
            <a:pPr marL="3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átkodobý výhľad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\\shq404\MPPAMSLSP\OBRAZKY\j0390109.jpg"/>
          <p:cNvPicPr/>
          <p:nvPr/>
        </p:nvPicPr>
        <p:blipFill>
          <a:blip r:embed="rId1"/>
          <a:stretch/>
        </p:blipFill>
        <p:spPr>
          <a:xfrm>
            <a:off x="395280" y="2082960"/>
            <a:ext cx="1181160" cy="841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\\shq404\MPPAMSLSP\OBRAZKY\j0390108.jpg"/>
          <p:cNvPicPr/>
          <p:nvPr/>
        </p:nvPicPr>
        <p:blipFill>
          <a:blip r:embed="rId2"/>
          <a:stretch/>
        </p:blipFill>
        <p:spPr>
          <a:xfrm>
            <a:off x="395280" y="3492360"/>
            <a:ext cx="1224000" cy="873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\\shq404\MPPAMSLSP\OBRAZKY\j0390110.jpg"/>
          <p:cNvPicPr/>
          <p:nvPr/>
        </p:nvPicPr>
        <p:blipFill>
          <a:blip r:embed="rId3"/>
          <a:stretch/>
        </p:blipFill>
        <p:spPr>
          <a:xfrm>
            <a:off x="395280" y="4838760"/>
            <a:ext cx="1252440" cy="893880"/>
          </a:xfrm>
          <a:prstGeom prst="rect">
            <a:avLst/>
          </a:prstGeom>
          <a:ln w="0">
            <a:noFill/>
          </a:ln>
        </p:spPr>
      </p:pic>
      <p:sp>
        <p:nvSpPr>
          <p:cNvPr id="254" name="BlokTextu 8"/>
          <p:cNvSpPr/>
          <p:nvPr/>
        </p:nvSpPr>
        <p:spPr>
          <a:xfrm>
            <a:off x="2277000" y="1916280"/>
            <a:ext cx="4548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00"/>
                </a:solidFill>
                <a:uFillTx/>
                <a:latin typeface="Arial"/>
              </a:rPr>
              <a:t>Nadváženi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High-Yield segment korporátnych dlhopisov v EU aj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vestment-grade korporátne dlhopisy v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Emerging markets štátne dlhopisy v hlavných mená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Emerging markets korporátne dlhopi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BlokTextu 9"/>
          <p:cNvSpPr/>
          <p:nvPr/>
        </p:nvSpPr>
        <p:spPr>
          <a:xfrm>
            <a:off x="2296440" y="3357720"/>
            <a:ext cx="167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00"/>
                </a:solidFill>
                <a:uFillTx/>
                <a:latin typeface="Arial"/>
              </a:rPr>
              <a:t>Neutráln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EU štátne dlhopi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K štátne dlhopi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BlokTextu 10"/>
          <p:cNvSpPr/>
          <p:nvPr/>
        </p:nvSpPr>
        <p:spPr>
          <a:xfrm>
            <a:off x="2274120" y="4508640"/>
            <a:ext cx="3954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00"/>
                </a:solidFill>
                <a:uFillTx/>
                <a:latin typeface="Arial"/>
              </a:rPr>
              <a:t>Podváženi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US štátne dlhopi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US hypotekárne dlhopi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vestment-grade korporátne dlhopisy v 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CEE štátne dlhopi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Emerging markets dlhopisy v lokálnych mená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579F-2913-4BDE-80E9-4ED50ADBD8F9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B2F6C2FA-B3E4-400A-9C3A-6C246CA2C83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ĎAKUJEM ZA POZORN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DD52-A5CE-4962-93A8-42E73430DBB5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898BB01E-6C39-4A53-B4BE-9B0F6AA7115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1. Prehľad hlavných tém dlhopisových trhov v roku 20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dĺžnik 5" descr=""/>
          <p:cNvPicPr/>
          <p:nvPr/>
        </p:nvPicPr>
        <p:blipFill>
          <a:blip r:embed="rId1"/>
          <a:stretch/>
        </p:blipFill>
        <p:spPr>
          <a:xfrm>
            <a:off x="-42840" y="1298520"/>
            <a:ext cx="6638760" cy="1322280"/>
          </a:xfrm>
          <a:prstGeom prst="rect">
            <a:avLst/>
          </a:prstGeom>
          <a:ln w="0">
            <a:noFill/>
          </a:ln>
        </p:spPr>
      </p:pic>
      <p:pic>
        <p:nvPicPr>
          <p:cNvPr id="136" name="Obdĺžnik 6" descr=""/>
          <p:cNvPicPr/>
          <p:nvPr/>
        </p:nvPicPr>
        <p:blipFill>
          <a:blip r:embed="rId2"/>
          <a:stretch/>
        </p:blipFill>
        <p:spPr>
          <a:xfrm>
            <a:off x="5059440" y="3017880"/>
            <a:ext cx="2133360" cy="706320"/>
          </a:xfrm>
          <a:prstGeom prst="rect">
            <a:avLst/>
          </a:prstGeom>
          <a:ln w="0">
            <a:noFill/>
          </a:ln>
        </p:spPr>
      </p:pic>
      <p:pic>
        <p:nvPicPr>
          <p:cNvPr id="137" name="Obdĺžnik 7" descr=""/>
          <p:cNvPicPr/>
          <p:nvPr/>
        </p:nvPicPr>
        <p:blipFill>
          <a:blip r:embed="rId3"/>
          <a:stretch/>
        </p:blipFill>
        <p:spPr>
          <a:xfrm>
            <a:off x="6827760" y="2835360"/>
            <a:ext cx="2432160" cy="2260440"/>
          </a:xfrm>
          <a:prstGeom prst="rect">
            <a:avLst/>
          </a:prstGeom>
          <a:ln w="0">
            <a:noFill/>
          </a:ln>
        </p:spPr>
      </p:pic>
      <p:pic>
        <p:nvPicPr>
          <p:cNvPr id="138" name="Obdĺžnik 8" descr=""/>
          <p:cNvPicPr/>
          <p:nvPr/>
        </p:nvPicPr>
        <p:blipFill>
          <a:blip r:embed="rId4"/>
          <a:stretch/>
        </p:blipFill>
        <p:spPr>
          <a:xfrm>
            <a:off x="6297480" y="1835280"/>
            <a:ext cx="2938680" cy="1536480"/>
          </a:xfrm>
          <a:prstGeom prst="rect">
            <a:avLst/>
          </a:prstGeom>
          <a:ln w="0">
            <a:noFill/>
          </a:ln>
        </p:spPr>
      </p:pic>
      <p:pic>
        <p:nvPicPr>
          <p:cNvPr id="139" name="Obdĺžnik 9" descr=""/>
          <p:cNvPicPr/>
          <p:nvPr/>
        </p:nvPicPr>
        <p:blipFill>
          <a:blip r:embed="rId5"/>
          <a:stretch/>
        </p:blipFill>
        <p:spPr>
          <a:xfrm>
            <a:off x="5052960" y="3754440"/>
            <a:ext cx="2292480" cy="1494000"/>
          </a:xfrm>
          <a:prstGeom prst="rect">
            <a:avLst/>
          </a:prstGeom>
          <a:ln w="0">
            <a:noFill/>
          </a:ln>
        </p:spPr>
      </p:pic>
      <p:pic>
        <p:nvPicPr>
          <p:cNvPr id="140" name="Obdĺžnik 10" descr=""/>
          <p:cNvPicPr/>
          <p:nvPr/>
        </p:nvPicPr>
        <p:blipFill>
          <a:blip r:embed="rId6"/>
          <a:stretch/>
        </p:blipFill>
        <p:spPr>
          <a:xfrm>
            <a:off x="6576840" y="4694400"/>
            <a:ext cx="2775240" cy="1103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\\shq404\MPPAMSLSP\OBRAZKY\CG5F3.jpg"/>
          <p:cNvPicPr/>
          <p:nvPr/>
        </p:nvPicPr>
        <p:blipFill>
          <a:blip r:embed="rId7"/>
          <a:stretch/>
        </p:blipFill>
        <p:spPr>
          <a:xfrm>
            <a:off x="395280" y="2924280"/>
            <a:ext cx="4537080" cy="2592360"/>
          </a:xfrm>
          <a:prstGeom prst="rect">
            <a:avLst/>
          </a:prstGeom>
          <a:ln w="0">
            <a:noFill/>
          </a:ln>
        </p:spPr>
      </p:pic>
      <p:pic>
        <p:nvPicPr>
          <p:cNvPr id="142" name="Obdĺžnik 12" descr=""/>
          <p:cNvPicPr/>
          <p:nvPr/>
        </p:nvPicPr>
        <p:blipFill>
          <a:blip r:embed="rId8"/>
          <a:stretch/>
        </p:blipFill>
        <p:spPr>
          <a:xfrm>
            <a:off x="4827600" y="4316400"/>
            <a:ext cx="2268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F4A6-C72D-4738-9507-1A0F8595D0CD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5E947013-232E-4E22-A525-C5B67E90A4B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1. Prehľad hlavných tém dlhopisových trhov v roku 20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4240" indent="-1742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omalenie dynamiky rastu globálnej ekonom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stredie nízkej inflácie a nízkeho využívania výrobných faktor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elatívne vysoký stav likvidity v ekonomikách a na trh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astúce vládne dlhy vo vyspelých krajinách (problémy krajín PII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ilne expanzívne menové politiky centrálnych bánk vo svete – rekordne nízke úrokové sadz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avádzanie reštriktívnych opatrení v oblasti fiškálnej politi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trmý sklon výnosových kriviek a rekordne nízke dlhodobé výnosy na hlavných dlhopisových trh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namné zvýšenie aktivity a objemov korporátnych emitentov na primárnom tr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X-ové intervencie a potreba menovej depreciácie na hlavných trh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32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F4A5-220D-4689-8225-1F3B7C8B14FB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678235BA-8D9C-4ACA-9399-3C5EBB20D93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. Makroekonomická situácia – stručný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7040" indent="-1670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2010 kladný rast po výraznej reces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040" indent="-1670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bavy z recesie sa pomaly znižujú, ale ďalší vývoj bude dlhodobé zotavovanie sa ekonomí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040" indent="-1670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vojrýchlostný rast svetových ekonomík – DM vs. 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512040" cy="3479760"/>
          </a:xfrm>
          <a:prstGeom prst="rect">
            <a:avLst/>
          </a:prstGeom>
          <a:ln w="0">
            <a:noFill/>
          </a:ln>
        </p:spPr>
      </p:pic>
      <p:sp>
        <p:nvSpPr>
          <p:cNvPr id="150" name="Obdĺžnik 7"/>
          <p:cNvSpPr/>
          <p:nvPr/>
        </p:nvSpPr>
        <p:spPr>
          <a:xfrm>
            <a:off x="1198440" y="5919840"/>
            <a:ext cx="193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OECD Economic outlo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BlokTextu 8"/>
          <p:cNvSpPr/>
          <p:nvPr/>
        </p:nvSpPr>
        <p:spPr>
          <a:xfrm>
            <a:off x="1983240" y="2689200"/>
            <a:ext cx="13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Rast HDP v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9AAA-22EF-40A1-9BB7-FCA0D332D379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BC3D6694-845A-42CC-B270-E935BF2E100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. Makroekonomická situácia – stručný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14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ko ďaleko môže rastúce zadlženia krajín zájsť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ládny dlh (%H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ĺžnik 4"/>
          <p:cNvSpPr/>
          <p:nvPr/>
        </p:nvSpPr>
        <p:spPr>
          <a:xfrm>
            <a:off x="1198080" y="555948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CIA's World Factbook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C:\USERS\413675\Documents\800px-Public_debt_percent_gdp_world_map.png"/>
          <p:cNvPicPr/>
          <p:nvPr/>
        </p:nvPicPr>
        <p:blipFill>
          <a:blip r:embed="rId1"/>
          <a:stretch/>
        </p:blipFill>
        <p:spPr>
          <a:xfrm>
            <a:off x="1258920" y="2349360"/>
            <a:ext cx="7047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3F4A-0925-478C-8695-53AA9639113E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30AC812D-6CA4-4052-A2A4-0B41505B37A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. Makroekonomická situácia – stručný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604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49040" indent="-1490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soká úroveň rozpočtových schodkov spôsobuje rastúce zadlžovanie ekonomí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9040" indent="-1490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horšenie kreditnej kvality vládnych dlhov – hrozba pre dlhopisových investor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9040" indent="-1490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čakávaná redukcia a reštriktívne opatrenia budú mať dopad na ekonomický r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515280" cy="3816360"/>
          </a:xfrm>
          <a:prstGeom prst="rect">
            <a:avLst/>
          </a:prstGeom>
          <a:ln w="0">
            <a:noFill/>
          </a:ln>
        </p:spPr>
      </p:pic>
      <p:sp>
        <p:nvSpPr>
          <p:cNvPr id="161" name="Obdĺžnik 5"/>
          <p:cNvSpPr/>
          <p:nvPr/>
        </p:nvSpPr>
        <p:spPr>
          <a:xfrm>
            <a:off x="1343160" y="5919840"/>
            <a:ext cx="193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OECD Economic outlo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BlokTextu 7"/>
          <p:cNvSpPr/>
          <p:nvPr/>
        </p:nvSpPr>
        <p:spPr>
          <a:xfrm>
            <a:off x="2159640" y="2298600"/>
            <a:ext cx="20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ládny dlh v %H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81CC-9D16-4641-8C08-8061F86F71CE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CD5790B3-829D-4851-B6DC-0D7938A5DD3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. Makroekonomická situácia – stručný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6040" indent="-1760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ízke inflačné prostredie na vyspelých trhoch, opačná situácia je na EM trho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edostatočné využitie výrobných faktorov 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„output gap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bezpečuje pokračovanie nízko-inflačného vývoja na vyspelých trho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28000" cy="3744720"/>
          </a:xfrm>
          <a:prstGeom prst="rect">
            <a:avLst/>
          </a:prstGeom>
          <a:ln w="0">
            <a:noFill/>
          </a:ln>
        </p:spPr>
      </p:pic>
      <p:sp>
        <p:nvSpPr>
          <p:cNvPr id="167" name="Obdĺžnik 5"/>
          <p:cNvSpPr/>
          <p:nvPr/>
        </p:nvSpPr>
        <p:spPr>
          <a:xfrm>
            <a:off x="1343160" y="5846760"/>
            <a:ext cx="193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OECD Economic outlo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BlokTextu 7"/>
          <p:cNvSpPr/>
          <p:nvPr/>
        </p:nvSpPr>
        <p:spPr>
          <a:xfrm>
            <a:off x="2054520" y="2205000"/>
            <a:ext cx="308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Inflácia meraná CPI indexom (v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E7C6-00B4-416D-9DBA-A357B5282181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18F9A211-D43B-438E-A3DA-2DEAFB246DB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. Makroekonomická situácia – stručný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987640" y="1989000"/>
            <a:ext cx="55450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9280" indent="-179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ces ukončovania silne expanzívnej menovej politiky bude veľmi opatrný a zatiaľ nie je na trhu úplne jasná predstava o presnom načasovaní a rozsa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ast peňažnej zásoby v Eurozóne je len miern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ízka miera inflácie, veľmi krehká ekonomická situácia a problémy dlhového financovania mnohých krajín menovej únie ako aj ukotvené inflačné očakávania podporujú ECB v opatrnom prístupe k menovej politik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adzby FEDu zostanú pravdepodobne nízke po dlhší čas, pokračujúci prospekt kvantitatívneho uvoľňovania, inflácia príliš nízka podľa tvorcov menovej politiky v U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jbližší možný pohyb referenčných úrokových sadzieb zo strany hlavných centrálnych bánk (FED, ECB) je nahor, otázkou ostáva iba rozsah a načasovan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99"/>
              </a:spcBef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\\shq404\MPPAMSLSP\OBRAZKY\j0400853.jpg"/>
          <p:cNvPicPr/>
          <p:nvPr/>
        </p:nvPicPr>
        <p:blipFill>
          <a:blip r:embed="rId1"/>
          <a:stretch/>
        </p:blipFill>
        <p:spPr>
          <a:xfrm>
            <a:off x="539640" y="2036880"/>
            <a:ext cx="2081160" cy="3120840"/>
          </a:xfrm>
          <a:prstGeom prst="rect">
            <a:avLst/>
          </a:prstGeom>
          <a:ln w="0">
            <a:noFill/>
          </a:ln>
        </p:spPr>
      </p:pic>
      <p:sp>
        <p:nvSpPr>
          <p:cNvPr id="173" name="BlokTextu 9"/>
          <p:cNvSpPr/>
          <p:nvPr/>
        </p:nvSpPr>
        <p:spPr>
          <a:xfrm>
            <a:off x="395640" y="134136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Centrálne banky, úrokové sadzby a menová politi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4:30:59Z</dcterms:created>
  <dc:creator>J133JJC</dc:creator>
  <dc:description/>
  <dc:language>en-US</dc:language>
  <cp:lastModifiedBy>413675</cp:lastModifiedBy>
  <cp:lastPrinted>2009-09-01T07:59:28Z</cp:lastPrinted>
  <dcterms:modified xsi:type="dcterms:W3CDTF">2010-10-26T15:09:17Z</dcterms:modified>
  <cp:revision>80</cp:revision>
  <dc:subject/>
  <dc:title>Titel der Präsentation</dc:title>
</cp:coreProperties>
</file>