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3D7-AF9A-46ED-92DD-ACB2780B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CE0-8993-41D4-B5E6-E3BF729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C95-C748-4775-82DB-C4B97EBC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24E-7D69-46AF-9ED4-1EAD2506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231-D9DA-41EE-A909-0C46EA2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8BF-8C55-4268-8CB8-4BBE205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29E-9CBB-41DA-BD38-6D374081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717-4065-4376-8399-CDCCB75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7CA-07AF-4BAF-BC45-23BCE41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491-839C-4338-836A-2DB92FF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7B9-9D04-47BF-8365-C7831CD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C5B-2834-4210-A0E4-EC7DC46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BA2-FA2E-4F42-97A9-ED27D1D6EE7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83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buClr>
                <a:srgbClr val="ffffff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algn="ctr">
              <a:spcBef>
                <a:spcPts val="400"/>
              </a:spcBef>
              <a:buClr>
                <a:srgbClr val="0732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3" marL="1371600" indent="1440" algn="ctr">
              <a:spcBef>
                <a:spcPts val="400"/>
              </a:spcBef>
              <a:buClr>
                <a:srgbClr val="07326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7326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84280"/>
            <a:ext cx="85838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Sme svedkami zásadnej zmeny štruktúry investícií do PF?</a:t>
            </a:r>
            <a:br>
              <a:rPr sz="4200"/>
            </a:br>
            <a:r>
              <a:rPr b="0" i="1" lang="sk-SK" sz="3000" spc="-1" strike="noStrike">
                <a:solidFill>
                  <a:srgbClr val="ffffff"/>
                </a:solidFill>
                <a:latin typeface="Arial"/>
              </a:rPr>
              <a:t>Nové produktové možnosti v praxi K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Martin Ďurianči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Tatra Asse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E86-92E3-419A-B291-F2CA4E03F5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5100480" cy="427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640" y="1773000"/>
            <a:ext cx="338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Celkový čistý predaj pri fondoch s predajom nad 1mil</a:t>
            </a:r>
            <a:r>
              <a:rPr b="1" lang="sk-SK" sz="2200" spc="-1" strike="noStrike">
                <a:solidFill>
                  <a:srgbClr val="073260"/>
                </a:solidFill>
                <a:latin typeface="Arial"/>
                <a:ea typeface="Arial"/>
              </a:rPr>
              <a:t>€ za rok :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lternatívne Investície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Zmieša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907mil</a:t>
            </a:r>
            <a:r>
              <a:rPr b="0" lang="sk-SK" sz="3000" spc="-1" strike="noStrike">
                <a:solidFill>
                  <a:srgbClr val="073260"/>
                </a:solidFill>
                <a:latin typeface="Arial"/>
                <a:ea typeface="Arial"/>
              </a:rPr>
              <a:t>€ (94%)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kci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lhopis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073260"/>
                </a:solidFill>
                <a:latin typeface="Arial"/>
              </a:rPr>
              <a:t>62mil</a:t>
            </a:r>
            <a:r>
              <a:rPr b="0" lang="sk-SK" sz="3100" spc="-1" strike="noStrike">
                <a:solidFill>
                  <a:srgbClr val="073260"/>
                </a:solidFill>
                <a:latin typeface="Arial"/>
                <a:ea typeface="Arial"/>
              </a:rPr>
              <a:t>€ (6%)</a:t>
            </a:r>
            <a:endParaRPr b="0" lang="en-US" sz="31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A6A-0DEB-4F82-BC1A-2DA4E7FB3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Európsky trh funguje na extrémnom počte fondov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922480"/>
            <a:ext cx="6553440" cy="28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E86-E0C4-4459-B709-091FCB975A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28648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Na Slovensku je zaregistrovaných 420 fondov, do koľkých sa reálne investuje?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2879640"/>
            <a:ext cx="5605200" cy="364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63640" y="6524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532-60EC-4168-B255-159D769DE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04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Klienti potrebujú niekoľko dobrých riešení, nie stovky neodlíšiteľných fondov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álne riešenia vs </a:t>
            </a:r>
            <a:r>
              <a:rPr b="0" lang="en-US" sz="2800" spc="-1" strike="noStrike">
                <a:solidFill>
                  <a:srgbClr val="07326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ématicky zamera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ančný majetok retailového klienta je nízky, klienti si potrebujú tvoriť finančný majetok a najmä sporiť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983-BBCF-465F-864C-D1348E53AA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200" y="227772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ondy zamerané na alternatívne aktíva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Real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Komod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Aktívne riadené fondy/Absolute Return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Zaiste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53C-7869-48D2-9EA3-43DF173CBC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7724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7400"/>
            </a:br>
            <a:endParaRPr b="1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Martin Ďurianči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Tatra Asset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Čistý príliv nových investícii do fond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048360" cy="390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3FF-3F3D-4733-83D4-A2AA0B5CA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v SR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72360" cy="451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6308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AD7-7881-47B4-B361-74D70AA75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</a:t>
            </a:r>
            <a:r>
              <a:rPr b="1" lang="sk-SK" sz="2600" spc="-1" strike="noStrike">
                <a:solidFill>
                  <a:srgbClr val="073260"/>
                </a:solidFill>
                <a:latin typeface="Arial"/>
              </a:rPr>
              <a:t>(UCITS, Európa)</a:t>
            </a:r>
            <a:endParaRPr b="1" lang="en-US" sz="26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91440" cy="40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616572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EFAMA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51D-0E52-4CC9-8E53-E797D022A8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4CC-A7AA-4C16-9868-6622E3E1C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5352" t="42078" r="42927" b="17392"/>
          <a:stretch/>
        </p:blipFill>
        <p:spPr>
          <a:xfrm>
            <a:off x="1908000" y="1989000"/>
            <a:ext cx="5328000" cy="382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The American Association of Individual Investor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FE2-D733-489B-B0CE-10FC6579C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83640" cy="45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AD7-94F7-4CB2-90C5-169F5F724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57760" cy="401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35280" y="5877000"/>
            <a:ext cx="1800000" cy="12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9A5-6CB3-48F5-961F-BCD89097E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6021360"/>
            <a:ext cx="2592360" cy="1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87D-A26E-4A0B-B5A2-C1C6D8FEF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50:05Z</dcterms:created>
  <dc:creator>tb19060</dc:creator>
  <dc:description/>
  <dc:language>en-US</dc:language>
  <cp:lastModifiedBy>atomcalova</cp:lastModifiedBy>
  <cp:lastPrinted>2012-11-08T19:01:55Z</cp:lastPrinted>
  <dcterms:modified xsi:type="dcterms:W3CDTF">2012-11-10T08:19:52Z</dcterms:modified>
  <cp:revision>146</cp:revision>
  <dc:subject/>
  <dc:title>TAM-SmartFund inovatívny prístup správy fondu</dc:title>
</cp:coreProperties>
</file>