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F1B-8361-46F3-8114-0029CBF1AF98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471A-38BC-4A1D-9412-581DBB9A537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BDC4-7CB1-4D96-8996-49283E8D5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3A77-0251-41D2-8C7D-A055B3581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2D4D-845D-4346-A58F-9DDF1D18D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51D3-1796-436B-96F4-8989D5526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8347-0602-43CA-A182-3B1E04309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9AE2-174D-47E3-AA66-0EB091369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3BED-3E1E-4673-85A6-351CE8B59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DBAC-24D9-4047-8744-A2009A61F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CA82-3456-407C-B7FF-5E7F48773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7E2E-2E54-4A35-BA25-6C6E6A2A5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7B18-294D-4FEF-BFEF-18B7A2897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9860-67E9-4854-8D4D-A5E75DCB8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98D-DE2D-49D9-A9B0-8C51A4520ED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eny v kolektívnom investovaní na Slovensku</a:t>
            </a:r>
            <a:br>
              <a:rPr sz="2800"/>
            </a:b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é trendy a výzvy v najbližších roko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rnava, 10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 2010  vrs.  skutočnosť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BAA-0136-4F90-B8AC-285E25694E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2943-69F1-4010-BBEB-F3BDA2B0E6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324000" y="333360"/>
            <a:ext cx="842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toré z uvedených trendov v oblasti KI budú s najväčšou pravdepodobnosťou 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125360"/>
          <a:ext cx="8501040" cy="457848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37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3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Čo nás čaká za ďalšie dva rok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81F5-CAAC-4F2F-9614-476D87860E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mmatusovic</cp:lastModifiedBy>
  <dcterms:modified xsi:type="dcterms:W3CDTF">2012-11-02T16:22:38Z</dcterms:modified>
  <cp:revision>99</cp:revision>
  <dc:subject/>
  <dc:title>Snímka 1</dc:title>
</cp:coreProperties>
</file>