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315E-C221-4F00-9CE2-092491B64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2175-7F10-440A-9EAA-C2DEAD49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3509-59D9-4AAF-9A4F-F90234D5C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2314-432A-4329-AC28-8FFC7AE64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073D-6D4E-43AE-A687-4CF2AE1C0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9F8CC-0933-495F-B8D6-90B86489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CA39-8E6A-464D-A358-3FD7F29E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428D-53C9-4E9C-BD88-C8CE6EB2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BB7C-02D1-4851-A7EF-D26A38B0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29600" cy="39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8241-F564-444A-9919-E5FCF73E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8072-3EB0-4505-946B-69A446D1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BA51-A143-4B9B-A283-6A408C59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1188-82C0-4202-9450-32CDECA3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0D30-BE19-4EED-94E0-B97589FE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7C27-581F-42D2-8352-18965F30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5C2A-BF5A-4FD8-8FEB-FA9CC336C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5080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3324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36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5080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3324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A862-C074-4673-B6B5-8B6B8E93D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43D2-1D5B-4D76-94D2-E4260B45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9E65-2D68-4FB8-8FBB-293E21F1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BB8D-3AFA-49DE-8FB2-7089FD86D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29600" cy="39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251D-B296-40EB-B7D1-CC106F76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7F4E-D390-41C3-80D1-8D521BCC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0487-D618-4632-B89C-B8672B2B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C2C8-8EDB-48F2-A3CC-408036E5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500880"/>
            <a:ext cx="9144000" cy="357120"/>
          </a:xfrm>
          <a:prstGeom prst="rect">
            <a:avLst/>
          </a:prstGeom>
          <a:solidFill>
            <a:srgbClr val="0038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00360" y="6578640"/>
            <a:ext cx="14130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68360" y="6570720"/>
            <a:ext cx="568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84720" y="6578640"/>
            <a:ext cx="8636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0C8E-32C4-4957-898B-AF92A3D44A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NBS_podstranka_modra"/>
          <p:cNvPicPr/>
          <p:nvPr/>
        </p:nvPicPr>
        <p:blipFill>
          <a:blip r:embed="rId2"/>
          <a:stretch/>
        </p:blipFill>
        <p:spPr>
          <a:xfrm>
            <a:off x="0" y="0"/>
            <a:ext cx="9140760" cy="79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NBS_uvod_modra"/>
          <p:cNvPicPr/>
          <p:nvPr/>
        </p:nvPicPr>
        <p:blipFill>
          <a:blip r:embed="rId2"/>
          <a:stretch/>
        </p:blipFill>
        <p:spPr>
          <a:xfrm>
            <a:off x="0" y="0"/>
            <a:ext cx="9140760" cy="4033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092720" y="6237360"/>
            <a:ext cx="18730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50920" y="6244920"/>
            <a:ext cx="61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028000" y="6453360"/>
            <a:ext cx="9367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494a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67A0-B998-4457-A244-0022B1D70D2C}" type="slidenum">
              <a:rPr b="1" lang="en-US" sz="2400" spc="-1" strike="noStrike">
                <a:solidFill>
                  <a:srgbClr val="494a4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2565360"/>
            <a:ext cx="8708760" cy="2594160"/>
          </a:xfrm>
          <a:prstGeom prst="rect">
            <a:avLst/>
          </a:prstGeom>
          <a:noFill/>
          <a:ln w="0">
            <a:noFill/>
          </a:ln>
        </p:spPr>
        <p:txBody>
          <a:bodyPr r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dddddd"/>
                </a:solidFill>
                <a:latin typeface="Tahoma"/>
              </a:rPr>
              <a:t>Implementácia smernice AIFMD</a:t>
            </a:r>
            <a:br>
              <a:rPr sz="4800"/>
            </a:br>
            <a:br>
              <a:rPr sz="4800"/>
            </a:br>
            <a:r>
              <a:rPr b="1" lang="sk-SK" sz="2800" spc="-1" strike="noStrike">
                <a:solidFill>
                  <a:srgbClr val="003881"/>
                </a:solidFill>
                <a:latin typeface="Tahoma"/>
              </a:rPr>
              <a:t>SLOVENSKO vs. EÚ</a:t>
            </a:r>
            <a:endParaRPr b="1" lang="en-US" sz="28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23640" y="5589360"/>
            <a:ext cx="8705880" cy="1152360"/>
          </a:xfrm>
          <a:prstGeom prst="rect">
            <a:avLst/>
          </a:prstGeom>
          <a:noFill/>
          <a:ln w="0">
            <a:noFill/>
          </a:ln>
        </p:spPr>
        <p:txBody>
          <a:bodyPr rIns="0" tIns="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494a45"/>
                </a:solidFill>
                <a:latin typeface="Tahoma"/>
                <a:ea typeface="Tahoma"/>
              </a:rPr>
              <a:t>Konferencia Kolektívne Investovanie, 9.novembra 20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494a45"/>
                </a:solidFill>
                <a:latin typeface="Tahoma"/>
                <a:ea typeface="Tahoma"/>
              </a:rPr>
              <a:t>Ing. Tomáš Ambr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494a45"/>
                </a:solidFill>
                <a:latin typeface="Tahoma"/>
                <a:ea typeface="Tahoma"/>
              </a:rPr>
              <a:t>odbor reguláci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494a45"/>
                </a:solidFill>
                <a:latin typeface="Tahoma"/>
                <a:ea typeface="Tahoma"/>
              </a:rPr>
              <a:t>Národná banka Slovensk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Rozsah regulácie smernice AIFMD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Tahoma"/>
              </a:rPr>
              <a:t>Celkom asi 1O biliónov EU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684360" y="2349360"/>
            <a:ext cx="7848360" cy="477720"/>
          </a:xfrm>
          <a:prstGeom prst="rect">
            <a:avLst/>
          </a:prstGeom>
          <a:solidFill>
            <a:srgbClr val="003881"/>
          </a:solidFill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Alternatívne investičné fon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684360" y="2828880"/>
            <a:ext cx="7848360" cy="2837160"/>
          </a:xfrm>
          <a:prstGeom prst="rect">
            <a:avLst/>
          </a:prstGeom>
          <a:noFill/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Hedge fon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rivate equity fon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Realitné fon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+ Všetky národné neharmonizované investičné fondy (non-UCITS fond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+ Akékoľvek iné neharmonizované schémy, ktoré fungujú na princípe kolektívneho investovan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Dôsledky smernice AIFMD v EÚ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Zavedenie regulácie v sektoroch finačného trhu, ktoré boli tradične neregulovan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Tlak na re-domiciliáciu fondov do E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Tlak na konkurenčné prostredie v rámci EÚ a kvalitu regulácie a podnikateľského prostr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Odstránenie výhod národnej neharmonizovanej (non-UCITS) regulácie fond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Dopady na slovenské subjekt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Správcovské spoločno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Depozitár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Subjekty vykonávajúce verejnú ponuku majetkových hodnô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677880" y="3284640"/>
            <a:ext cx="7848720" cy="477720"/>
          </a:xfrm>
          <a:prstGeom prst="rect">
            <a:avLst/>
          </a:prstGeom>
          <a:solidFill>
            <a:srgbClr val="003881"/>
          </a:solidFill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ýsled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666720" y="3786120"/>
            <a:ext cx="7848720" cy="2712600"/>
          </a:xfrm>
          <a:prstGeom prst="rect">
            <a:avLst/>
          </a:prstGeom>
          <a:noFill/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Tahoma"/>
              </a:rPr>
              <a:t>Regulovaný sektor (správcovské spoločnosti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ahoma"/>
              </a:rPr>
              <a:t>zvýšené náklad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ahoma"/>
              </a:rPr>
              <a:t>veľmi malé benefity zo zvýšenej miery a kvality regulác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Tahoma"/>
              </a:rPr>
              <a:t>Verejná ponuka majetkových hodnô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ahoma"/>
              </a:rPr>
              <a:t>zvýšenie ochrany investorov odstránením inštitútu verejnej ponuky majetkových hodnô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Tahoma"/>
              </a:rPr>
              <a:t>Neregulovaný sektor (private equity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ahoma"/>
              </a:rPr>
              <a:t>regulácia = možnosť pre rozvoj inštitucionálneho (podnikateľského) kolektívneho investovania a kapitálového trhu všeobec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Je možné AIFMD vnímať ako šancu?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Luxemburg a ďalšie štáty západnej Euró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Česká reforma regulácie kolektívneho investovan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Czech Republic for Financ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Návrh Zákona o Investičních Společnostech a Investičních Fondech (ZISIF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Administrácia fondo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Nové právne formy fondov (spoločnosti typu SICAV a komanditné spoločnosti s investičnými cennými papierm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Fondy rizikového kapitál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Súčasný stav implementácie na Slovensku a hlavné oblasti záujmu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Neexistuje širšia verejná diskus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Jediným partnerom je SASS, ktorá prirodzene sleduje záujmy existujúcich regulovaných spoločností, ktoré sa sústredia na retai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Neexistuje ambícia podobná Č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Abdikovalo Slovensko na vytvorenie fungujúceho kapitálového trhu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Neexistuje širšia vízia reformy a rozvoja kapitálového trhu na Slovensk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Sme odkázaní na bankami financovanú ekonomiku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Pár poznámok na záver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lovensko v EÚ – pozitíva a negatí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Budúcnosť kolektívneho investovania na Slovensk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otreba partnerstva štátu, trhu, akademickej obce a občanov – spotrebiteľov pri tvorbe politiky finančného trh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50560" y="4869000"/>
            <a:ext cx="8705880" cy="1224000"/>
          </a:xfrm>
          <a:prstGeom prst="rect">
            <a:avLst/>
          </a:prstGeom>
          <a:noFill/>
          <a:ln w="0">
            <a:noFill/>
          </a:ln>
        </p:spPr>
        <p:txBody>
          <a:bodyPr rIns="0" tIns="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494a45"/>
                </a:solidFill>
                <a:latin typeface="Tahoma"/>
                <a:ea typeface="Tahoma"/>
              </a:rPr>
              <a:t>Ing. Tomáš Amb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494a45"/>
                </a:solidFill>
                <a:latin typeface="Tahoma"/>
                <a:ea typeface="Tahoma"/>
              </a:rPr>
              <a:t>odbor regulác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494a45"/>
                </a:solidFill>
                <a:latin typeface="Tahoma"/>
                <a:ea typeface="Tahoma"/>
              </a:rPr>
              <a:t>Národná banka Slovens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250560" y="422100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r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3881"/>
                </a:solidFill>
                <a:latin typeface="Tahoma"/>
              </a:rPr>
              <a:t>Ďakujem za pozornosť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2T11:29:03Z</dcterms:created>
  <dc:creator>User</dc:creator>
  <dc:description/>
  <dc:language>en-US</dc:language>
  <cp:lastModifiedBy>Tomáš Ambra</cp:lastModifiedBy>
  <dcterms:modified xsi:type="dcterms:W3CDTF">2012-11-05T09:43:11Z</dcterms:modified>
  <cp:revision>60</cp:revision>
  <dc:subject/>
  <dc:title>Slide 1</dc:title>
</cp:coreProperties>
</file>