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CAF-65D3-44E0-BD87-26208E8E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6E4-0683-41E7-8CE2-D74C3B1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FBC-F427-469C-BB99-B0A86869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E6D-1321-4FF4-8D8B-5C83DEE5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7C9-C01D-480A-8B86-5E7B4E10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A1C-64B9-4762-B6C0-9BD4F3D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91D-A7C7-41E2-8828-B6D16764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330-EBB8-43F6-BE9E-55F5AF3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84D-4BEB-412F-9B2D-4C34DEE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EF4-E264-4BF4-A7BD-E5DE992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159-3713-4751-A3E2-A2A30DE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F4-4C71-416C-BFF5-41264A8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BA19-A4BD-4D91-9C6F-7B0B47227E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4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4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2"/>
          <p:cNvSpPr/>
          <p:nvPr/>
        </p:nvSpPr>
        <p:spPr>
          <a:xfrm>
            <a:off x="1011240" y="2492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mplementácia direktívy o správcoch alternatívnych investičných fon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79480" y="4437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aditeľ odboru kapitálového trhu a poisťovníc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723120" y="54500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9. novem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5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5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Odkiaľ prichádza AIFM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lokTextu 10"/>
          <p:cNvSpPr/>
          <p:nvPr/>
        </p:nvSpPr>
        <p:spPr>
          <a:xfrm>
            <a:off x="500040" y="1857240"/>
            <a:ext cx="807264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smussen repor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znesenie EP, IX 2008,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Komisia by mala preskúmať všetky platné právne predpisy Spoločenstva týkajúce sa finančných trhov s cieľom určiť prípadné medzery v oblasti regulácie hedge fondov a private equity a na základe tohto prieskumu predložiť Európskemu parlamentu v prípade potreby legislatívny návrh či návrhy týkajúce sa pozmenenia a doplnenia platných smerníc s cieľom lepšie regulovať  hedge fondy, private equity a ďalších relevantných účastníkov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 Larosiere report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kupina EU pre finančný dohľad, XI.2008 – II.2009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..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e transparency in all financial markets - and notably for systemically important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dge funds - by imposing, in all EU Member States and internationally, registratio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information requirements on hedge fund managers, concerning their strategies,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thods and leverage, including their worldwide activities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Rada,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rec 2009  ....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U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rýchlene by sa malo pokročiť aj v práci na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nadchadzajucich návrhoch Komisie o hedgeovych fondoch“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Komisia,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apríl 2009, Návrh smernice o správcoch alternatívnych investičných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8. jún 201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publikácia v O.J., Smernica EP a Rady č. 2011/61/E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6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6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6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reguluje AIFM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BlokTextu 10"/>
          <p:cNvSpPr/>
          <p:nvPr/>
        </p:nvSpPr>
        <p:spPr>
          <a:xfrm>
            <a:off x="571680" y="185724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gulácia správcov AIF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„UCITizácia“ režimu správcov,  osobitné povolenie, organizácia, kapitálové požiadavky a transparentnosť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IF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 fond iný ako UCITS fond, ktorý získava kapitál od viacerých investorov s cieľom investovať ho v súlade so stanovenou investičnou politikou v prospech týchto investorov,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čl. 4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ie regulácia fondov, s výnimkou regulácie pákového ef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depozitárov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ý koncept depozitárskej úchovy, delegovanie funkcií (subcustody), režim zodpov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ezhraničná správa a distribúcia AIF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doba EU pasu ako pri UC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tretích krajín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EU pas aj pre správcovské spoločnosti z 3. krajín, koncept referenčného Č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hľad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cezhraničná kooperácia, úlohy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7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7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7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Implementácia AIFM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BlokTextu 10"/>
          <p:cNvSpPr/>
          <p:nvPr/>
        </p:nvSpPr>
        <p:spPr>
          <a:xfrm>
            <a:off x="571680" y="1857240"/>
            <a:ext cx="8072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 level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~ 100 rôznych splnomocňovacích ustanovení, vykonávacie a delegované predpisy EK, technická pomoc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Návrh nariadenia EK- priamo aplikovate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počty limit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rganizácia a riadenia správc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epozitá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ákový efek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formačné pov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K level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ozsiahla novela zákona č. 203/2011 Z. z. o kolektívnom investovaní, vyvolaná novela zákona o 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transpozičný termín:  22.júl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0240" indent="-12002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8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8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8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BlokTextu 10"/>
          <p:cNvSpPr/>
          <p:nvPr/>
        </p:nvSpPr>
        <p:spPr>
          <a:xfrm>
            <a:off x="571680" y="1844640"/>
            <a:ext cx="8072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VECA a EUSEF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riadenia o európskych fondoch rizikového kapitálu a o európskych fondoch sociálneho podnikania, návrh EK, december 2011, súčasť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Akčného plánu EK na zlepšenie prístup SME k financov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gulácia  správcov fondov pod limitom 500 mil Eur, povinná registrácia podĺa AIFMD platná pre celú EÚ, distribúcia len profesionálnym investo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sociálneho podnikania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, malé podniky (do 50 mil. obratu), sociálny a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 rizikového kapitálu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 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2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„AIFMdizácia“ režimu depozitár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3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I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sekuritizácia, požičiavanie CP, repo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5 – stanovisko a odporúčanie EK a ESMA k uplatňovaniu EU pasov pre správu a uvádzanie na trh AIF,  delegované akty 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vízia MiFID, dane z finančných transakc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Ďalší vývo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9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94" name="Rectangle 9"/>
              <p:cNvSpPr/>
              <p:nvPr/>
            </p:nvSpPr>
            <p:spPr>
              <a:xfrm>
                <a:off x="1428840" y="1671840"/>
                <a:ext cx="6696000" cy="1257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9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7"/>
          <p:cNvSpPr/>
          <p:nvPr/>
        </p:nvSpPr>
        <p:spPr>
          <a:xfrm>
            <a:off x="1068480" y="20937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58960" y="3857760"/>
            <a:ext cx="52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bor kapitálového trhu a poisťovníc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inisterstvo financií SR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efanovičova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817 82 Bratis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Tel.:      +421 2 59582524         Fax: +421 2 5958354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E-mail:  jan.folt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fsr.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9:39:31Z</dcterms:created>
  <dc:creator>Stanislava Ligová</dc:creator>
  <dc:description/>
  <dc:language>en-US</dc:language>
  <cp:lastModifiedBy>jfoltan</cp:lastModifiedBy>
  <dcterms:modified xsi:type="dcterms:W3CDTF">2012-10-30T14:02:32Z</dcterms:modified>
  <cp:revision>190</cp:revision>
  <dc:subject/>
  <dc:title>Snímka 1</dc:title>
</cp:coreProperties>
</file>