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C90D-A003-429E-AA51-80B7AD6C786F}" type="slidenum"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C550-9569-4CEB-8C3D-5BBDCA71CAD2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5BE5-5098-430B-8986-26AE4E0751A4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206-BF05-4E93-87A7-C151E7F28E85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DDC-3831-406E-81E1-79C25A70FAB8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FBE-D984-4517-981E-4A7CF4BD1E41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574F-9818-4BE3-8F2F-CA12FC792E2F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C1C-23DF-4A4B-A74A-B368AF99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00E-B493-43A7-BA77-8D5D2A3F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015-726F-4D4A-8D07-52295EC4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3EC-9854-4CB9-AAD6-550543E9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D70E-D194-4A69-BE6F-DEDE673A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63B-6858-4E10-B83A-719F9205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DCBA-5F19-46D2-89EE-8331247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5D8-084F-424B-B24B-0ABB1C2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8C3B-B2F2-4272-9C21-2CF93BD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ECE0-F678-4849-B770-AD0D6032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7DEF-5839-44E5-B425-F93F2A2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825-948C-4A0F-99C2-01549FF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A492-7816-46D6-AB7E-15622AF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3397-5306-415E-8E9D-36A7426F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2A78-4310-4347-BA1B-649111A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A407-0F96-43C2-8EBA-C5CAF645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A34-F130-459E-B48E-76135F70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9D8-EF36-44C5-9A9E-132DC7B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946-5695-44A4-AD50-653F739D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1AB-972D-4642-905B-95742490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F76-1947-416C-A3C2-073291F6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5F0-7D24-4D05-81B8-64E9E53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C4C-DF74-4062-8EEC-EC5EFEB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BEE-E089-450A-BE6B-1CA81DB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D00-F73D-40DA-854C-5428FD51B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A96-7F0B-4FC7-8D7A-20F4D88E0F09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dddddd"/>
                </a:solidFill>
                <a:latin typeface="Tahoma"/>
              </a:rPr>
              <a:t>Zmeny v kolektívnom investovaní na Slovensku</a:t>
            </a:r>
            <a:br>
              <a:rPr sz="48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Hlavné trendy a výzvy v budúcich najbližších rokoch</a:t>
            </a:r>
            <a:br>
              <a:rPr sz="4800"/>
            </a:b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Kolektívne investovanie, 9. novembr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Kam smerujú úspory obyvateľstva?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950760" y="5954760"/>
            <a:ext cx="6913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k 2Q /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N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71640" y="1811160"/>
            <a:ext cx="720072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Kolektívne investovanie 2004 - 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971640" y="587700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SA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Vklady v bankách 2004 - 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971640" y="587700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N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Miera náhrady štátnych dôchodk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380520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1476360" y="3298680"/>
            <a:ext cx="633744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3440" y="2849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6600"/>
                </a:solidFill>
                <a:latin typeface="Arial"/>
              </a:rPr>
              <a:t>Miera náhrady</a:t>
            </a:r>
            <a:r>
              <a:rPr b="1" lang="fr-BE" sz="1400" spc="-1" strike="noStrike">
                <a:solidFill>
                  <a:srgbClr val="ff6600"/>
                </a:solidFill>
                <a:latin typeface="Arial"/>
              </a:rPr>
              <a:t> 6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85320" y="5649480"/>
            <a:ext cx="718668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ercentuálna miera náhrad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%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sledného príjm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 štátnych penzijných sché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droj: Európska Komisia a OEC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Výzvy pre kolektívne investovani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poriace produk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Úloha kolektívneho investovania v dôchodkovom sporen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IFMD (rozvoj špeciálnych fond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tailové špeciálne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nštitucionálne (podnikateľské)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á gramotnosť inves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NBS</cp:lastModifiedBy>
  <cp:lastPrinted>2012-11-08T13:40:12Z</cp:lastPrinted>
  <dcterms:modified xsi:type="dcterms:W3CDTF">2012-11-08T13:47:39Z</dcterms:modified>
  <cp:revision>59</cp:revision>
  <dc:subject/>
  <dc:title>Slide 1</dc:title>
</cp:coreProperties>
</file>